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F25-8A6F-4089-88B4-4CB20D7B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0C7-4292-46A9-9B13-47EB05E2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DCB-E9F6-44AE-BB6C-2C2486B0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405-29F5-4573-82B9-CEB0EC4C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043A-323F-4AE2-903C-A778F9D8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AF36-D7F7-4F03-936F-780F99D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C178-084E-46B3-932F-EADFC07A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5A91-06C1-47AC-8AF5-493865EB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CC11-28F7-4277-A5BB-354B21A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66A-BA91-463A-84AC-CF7A74F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587-05CC-4425-AADC-757DABF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B40-1C35-4356-86D0-1D597B68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BA84-DF4C-4DD3-BFA9-682C716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1014-9A99-4B25-9FEA-26BBABD5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C533-8F8C-4079-B479-8ED4AF2C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5023-A0BA-4818-8B34-42CAA898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5158-9264-417E-A0E6-D695E8CD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05AF-5778-4168-82C2-28C3A58C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60BB-8962-4D88-9C98-F057435C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9221-E4D2-41AF-9C66-8E4ACBCF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DF97F-AFD7-4BA0-83CB-659524F4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D16A-C660-455D-89A0-ADAC3F55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07D-F4E1-4087-9B7C-3A05AD9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5EAD-0258-4D9E-A75B-20DCE959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F638-E33E-4492-8CF6-EBF87EE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F285-6A6D-4294-A3AC-5EED404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8849-9219-4CC1-A6C5-E0B4F3D2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60B3-CC05-4F88-B9BE-D1A8A65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7FD0-0650-4F8B-B39C-98976157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FC64-D66B-4A02-B640-E27F51AB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E256-33DF-4B3E-8D1C-14E1773E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0AE5-5B89-47AA-BCDA-A2008D5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B4F5-4713-4033-92E1-80F4468E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0F6-7EAB-439D-9004-B654C1A3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B660-3396-497D-B594-98B6E0F3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9B114-A6F5-4C7D-B967-4BB860E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66721-BCD6-43D7-920A-9FECF69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8040-4B90-4947-8323-24E9989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D3E79-8F8A-4624-9F65-245B8F39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FFD86-FDF6-4ABD-AD49-47BF72A3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CA43-8DF7-4053-8504-A6EB7FCC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8043-E3D0-448F-8255-5C0F2473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8D38-2F89-4C60-8AD1-8D9777BA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A50-A614-4B45-AB44-ECDBCBF0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3A9-7B49-4F6E-8108-57993119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AE7-9AF0-432A-9075-3B299CC1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37D-EDA1-4612-A131-DC25DC89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164-0E30-498A-AD2D-A8756D81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E26B-2D7D-4B94-8E76-4AF179B8FB9D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F043-6939-4D8C-AF7F-EA234B86DEAA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E532-B6E2-4D39-A87C-AD3FA99AD20C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369E-ACB6-4E2F-A6D3-73DE1FE91B9A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075B-7E67-49C1-94AA-0D15CE783A38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3CB5-E135-43E4-B399-D5B3B2D36A57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A1B-B6AA-4C48-AD36-6B3F26E92294}" type="datetime">
              <a:rPr b="0" lang="it-IT" sz="1200" spc="-1" strike="noStrike">
                <a:solidFill>
                  <a:srgbClr val="465e9c"/>
                </a:solidFill>
                <a:latin typeface="Rage Italic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37BD-6CC1-4085-8360-121585F7B232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file:///ATTO%20COSTITUTIVO.docx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200240" y="596880"/>
            <a:ext cx="1079280" cy="950760"/>
          </a:xfrm>
          <a:prstGeom prst="rect">
            <a:avLst/>
          </a:prstGeom>
          <a:ln w="0">
            <a:noFill/>
          </a:ln>
        </p:spPr>
      </p:pic>
      <p:pic>
        <p:nvPicPr>
          <p:cNvPr id="225" name="Rettangolo 1" descr=""/>
          <p:cNvPicPr/>
          <p:nvPr/>
        </p:nvPicPr>
        <p:blipFill>
          <a:blip r:embed="rId2"/>
          <a:stretch/>
        </p:blipFill>
        <p:spPr>
          <a:xfrm>
            <a:off x="2176560" y="463680"/>
            <a:ext cx="6387840" cy="1358640"/>
          </a:xfrm>
          <a:prstGeom prst="rect">
            <a:avLst/>
          </a:prstGeom>
          <a:ln w="0">
            <a:noFill/>
          </a:ln>
        </p:spPr>
      </p:pic>
      <p:sp>
        <p:nvSpPr>
          <p:cNvPr id="226" name="CasellaDiTesto 3"/>
          <p:cNvSpPr/>
          <p:nvPr/>
        </p:nvSpPr>
        <p:spPr>
          <a:xfrm>
            <a:off x="1116000" y="1989000"/>
            <a:ext cx="6670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Franklin Gothic Book"/>
              </a:rPr>
              <a:t>CARATTERISTICHE DEL CTS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Franklin Gothic Book"/>
              </a:rPr>
              <a:t>COMITATO TECNICO SCIENTIFIC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CasellaDiTesto 6"/>
          <p:cNvSpPr/>
          <p:nvPr/>
        </p:nvSpPr>
        <p:spPr>
          <a:xfrm>
            <a:off x="2890080" y="3701880"/>
            <a:ext cx="34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a cura di Marzia CAMPIONI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CasellaDiTesto 11"/>
          <p:cNvSpPr/>
          <p:nvPr/>
        </p:nvSpPr>
        <p:spPr>
          <a:xfrm>
            <a:off x="684360" y="44308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Franklin Gothic Book"/>
              </a:rPr>
              <a:t>anno scolastico 2010-2011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460-AE10-4DB3-BF88-067B8C98ECB5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32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33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CasellaDiTesto 2"/>
          <p:cNvSpPr/>
          <p:nvPr/>
        </p:nvSpPr>
        <p:spPr>
          <a:xfrm>
            <a:off x="1176480" y="1503360"/>
            <a:ext cx="66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Franklin Gothic Book"/>
              </a:rPr>
              <a:t>L’ITIS «S. CANNIZZARO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» di RHO (MILANO) è  costituito da d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DIRIZZI consolidati e che via dal primo biennio si stanno adattando al Nuovo  Ordinamento, un INDIRIZZO del nuovo ordinamento che è iniziato lo scorso ann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5" name="Connettore 2 8"/>
          <p:cNvCxnSpPr/>
          <p:nvPr/>
        </p:nvCxnSpPr>
        <p:spPr>
          <a:xfrm flipH="1">
            <a:off x="3071160" y="2644920"/>
            <a:ext cx="500760" cy="3988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36" name="CasellaDiTesto 13"/>
          <p:cNvSpPr/>
          <p:nvPr/>
        </p:nvSpPr>
        <p:spPr>
          <a:xfrm>
            <a:off x="1500480" y="304308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DIRIZZO CHIMIC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(DEUTERIO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CasellaDiTesto 16"/>
          <p:cNvSpPr/>
          <p:nvPr/>
        </p:nvSpPr>
        <p:spPr>
          <a:xfrm>
            <a:off x="969120" y="4051440"/>
            <a:ext cx="2567160" cy="6426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Franklin Gothic Book"/>
              </a:rPr>
              <a:t>CHIMICA MATERIALI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Franklin Gothic Book"/>
              </a:rPr>
              <a:t>E BIOTECNOLOGI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38" name="Connettore 2 19"/>
          <p:cNvCxnSpPr>
            <a:stCxn id="236" idx="2"/>
          </p:cNvCxnSpPr>
          <p:nvPr/>
        </p:nvCxnSpPr>
        <p:spPr>
          <a:xfrm flipH="1">
            <a:off x="2220480" y="3689280"/>
            <a:ext cx="478800" cy="36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39" name="Connettore 2 22"/>
          <p:cNvCxnSpPr/>
          <p:nvPr/>
        </p:nvCxnSpPr>
        <p:spPr>
          <a:xfrm flipH="1">
            <a:off x="1643760" y="4703760"/>
            <a:ext cx="545400" cy="3974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40" name="CasellaDiTesto 5"/>
          <p:cNvSpPr/>
          <p:nvPr/>
        </p:nvSpPr>
        <p:spPr>
          <a:xfrm>
            <a:off x="963720" y="5159520"/>
            <a:ext cx="14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Chimica e material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CasellaDiTesto 14"/>
          <p:cNvSpPr/>
          <p:nvPr/>
        </p:nvSpPr>
        <p:spPr>
          <a:xfrm>
            <a:off x="2228760" y="515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Biotecnologie ambiental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2" name="Connettore 2 7"/>
          <p:cNvCxnSpPr>
            <a:stCxn id="237" idx="2"/>
          </p:cNvCxnSpPr>
          <p:nvPr/>
        </p:nvCxnSpPr>
        <p:spPr>
          <a:xfrm>
            <a:off x="2252160" y="4697280"/>
            <a:ext cx="607320" cy="380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43" name="CasellaDiTesto 13"/>
          <p:cNvSpPr/>
          <p:nvPr/>
        </p:nvSpPr>
        <p:spPr>
          <a:xfrm>
            <a:off x="3568320" y="306396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DIRIZZO INFORMATIC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(ABACUS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Rettangolo 9"/>
          <p:cNvSpPr/>
          <p:nvPr/>
        </p:nvSpPr>
        <p:spPr>
          <a:xfrm>
            <a:off x="1343160" y="2843280"/>
            <a:ext cx="6613560" cy="1025280"/>
          </a:xfrm>
          <a:prstGeom prst="rect">
            <a:avLst/>
          </a:prstGeom>
          <a:noFill/>
          <a:ln w="15840">
            <a:solidFill>
              <a:srgbClr val="8a2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5" name="Connettore 2 12"/>
          <p:cNvCxnSpPr/>
          <p:nvPr/>
        </p:nvCxnSpPr>
        <p:spPr>
          <a:xfrm>
            <a:off x="4544640" y="2644920"/>
            <a:ext cx="315000" cy="419760"/>
          </a:xfrm>
          <a:prstGeom prst="straightConnector1">
            <a:avLst/>
          </a:prstGeom>
          <a:ln w="25560">
            <a:solidFill>
              <a:srgbClr val="aa2b1e"/>
            </a:solidFill>
            <a:miter/>
            <a:tailEnd len="med" type="arrow" w="med"/>
          </a:ln>
        </p:spPr>
      </p:cxnSp>
      <p:cxnSp>
        <p:nvCxnSpPr>
          <p:cNvPr id="246" name="Connettore 2 15"/>
          <p:cNvCxnSpPr/>
          <p:nvPr/>
        </p:nvCxnSpPr>
        <p:spPr>
          <a:xfrm>
            <a:off x="4701960" y="3614760"/>
            <a:ext cx="1080" cy="511920"/>
          </a:xfrm>
          <a:prstGeom prst="straightConnector1">
            <a:avLst/>
          </a:prstGeom>
          <a:ln w="25560">
            <a:solidFill>
              <a:srgbClr val="aa2b1e"/>
            </a:solidFill>
            <a:miter/>
            <a:tailEnd len="med" type="arrow" w="med"/>
          </a:ln>
        </p:spPr>
      </p:cxnSp>
      <p:sp>
        <p:nvSpPr>
          <p:cNvPr id="247" name="CasellaDiTesto 16"/>
          <p:cNvSpPr/>
          <p:nvPr/>
        </p:nvSpPr>
        <p:spPr>
          <a:xfrm>
            <a:off x="3675240" y="4059360"/>
            <a:ext cx="2369880" cy="91692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f5201"/>
                </a:solidFill>
                <a:latin typeface="Franklin Gothic Book"/>
              </a:rPr>
              <a:t>INFORMATICA  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f5201"/>
                </a:solidFill>
                <a:latin typeface="Franklin Gothic Book"/>
              </a:rPr>
              <a:t>TELECOMUNICAZION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48" name="Connettore 2 18"/>
          <p:cNvCxnSpPr>
            <a:stCxn id="247" idx="2"/>
          </p:cNvCxnSpPr>
          <p:nvPr/>
        </p:nvCxnSpPr>
        <p:spPr>
          <a:xfrm>
            <a:off x="4858920" y="4705200"/>
            <a:ext cx="1080" cy="597600"/>
          </a:xfrm>
          <a:prstGeom prst="straightConnector1">
            <a:avLst/>
          </a:prstGeom>
          <a:ln w="25560">
            <a:solidFill>
              <a:srgbClr val="aa2b1e"/>
            </a:solidFill>
            <a:miter/>
            <a:tailEnd len="med" type="arrow" w="med"/>
          </a:ln>
        </p:spPr>
      </p:cxnSp>
      <p:sp>
        <p:nvSpPr>
          <p:cNvPr id="249" name="CasellaDiTesto 27"/>
          <p:cNvSpPr/>
          <p:nvPr/>
        </p:nvSpPr>
        <p:spPr>
          <a:xfrm>
            <a:off x="4098960" y="5321160"/>
            <a:ext cx="15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formatic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CasellaDiTesto 16"/>
          <p:cNvSpPr/>
          <p:nvPr/>
        </p:nvSpPr>
        <p:spPr>
          <a:xfrm>
            <a:off x="6012000" y="4581360"/>
            <a:ext cx="2369880" cy="64260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Franklin Gothic Book"/>
              </a:rPr>
              <a:t>GRAFICA 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Franklin Gothic Book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Segnaposto numero diapositiva 20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6E15-F5FE-4AEE-9246-DF3549586A3C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2" name="Connettore 2 25"/>
          <p:cNvCxnSpPr/>
          <p:nvPr/>
        </p:nvCxnSpPr>
        <p:spPr>
          <a:xfrm>
            <a:off x="6659640" y="3933360"/>
            <a:ext cx="434160" cy="575640"/>
          </a:xfrm>
          <a:prstGeom prst="straightConnector1">
            <a:avLst/>
          </a:prstGeom>
          <a:ln w="25560">
            <a:solidFill>
              <a:srgbClr val="ff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54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55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0D88-68D1-4626-9B03-7B70FD3D02A7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015920" y="162864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l C.T.S  si è costituito nell’anno scolastico </a:t>
            </a:r>
            <a:r>
              <a:rPr b="1" lang="it-IT" sz="1800" spc="-1" strike="noStrike">
                <a:solidFill>
                  <a:srgbClr val="002060"/>
                </a:solidFill>
                <a:latin typeface="Franklin Gothic Book"/>
              </a:rPr>
              <a:t>2009 -2010 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per volere dell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Dirigenza Scolastica a seguito della partecipazione dell’Istituto alla SPERIMENTAZIONE REGIONALE SUI NUOVI ORDINAMENTI ed è composto da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cxnSp>
        <p:nvCxnSpPr>
          <p:cNvPr id="258" name="Connettore 2 6"/>
          <p:cNvCxnSpPr/>
          <p:nvPr/>
        </p:nvCxnSpPr>
        <p:spPr>
          <a:xfrm flipH="1">
            <a:off x="2268360" y="2828520"/>
            <a:ext cx="1440360" cy="81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Connettore 2 11"/>
          <p:cNvCxnSpPr/>
          <p:nvPr/>
        </p:nvCxnSpPr>
        <p:spPr>
          <a:xfrm>
            <a:off x="3708360" y="2828880"/>
            <a:ext cx="28800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Connettore 2 16"/>
          <p:cNvCxnSpPr/>
          <p:nvPr/>
        </p:nvCxnSpPr>
        <p:spPr>
          <a:xfrm>
            <a:off x="3708360" y="2828880"/>
            <a:ext cx="2016720" cy="107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Connettore 2 6144"/>
          <p:cNvCxnSpPr/>
          <p:nvPr/>
        </p:nvCxnSpPr>
        <p:spPr>
          <a:xfrm>
            <a:off x="3708000" y="2828880"/>
            <a:ext cx="2880360" cy="74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CasellaDiTesto 6149"/>
          <p:cNvSpPr/>
          <p:nvPr/>
        </p:nvSpPr>
        <p:spPr>
          <a:xfrm>
            <a:off x="1896840" y="37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D.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CasellaDiTesto 41"/>
          <p:cNvSpPr/>
          <p:nvPr/>
        </p:nvSpPr>
        <p:spPr>
          <a:xfrm>
            <a:off x="2994840" y="382752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ZIEN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ROLD elettronic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RKEM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CasellaDiTesto 42"/>
          <p:cNvSpPr/>
          <p:nvPr/>
        </p:nvSpPr>
        <p:spPr>
          <a:xfrm>
            <a:off x="6513840" y="36036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RSP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CasellaDiTesto 44"/>
          <p:cNvSpPr/>
          <p:nvPr/>
        </p:nvSpPr>
        <p:spPr>
          <a:xfrm>
            <a:off x="5153760" y="405756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DOCENT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1 per indirizzz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67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68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BB51-ED06-44D3-BF51-EADD05E5DEEB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CasellaDiTesto 4"/>
          <p:cNvSpPr/>
          <p:nvPr/>
        </p:nvSpPr>
        <p:spPr>
          <a:xfrm>
            <a:off x="2200320" y="1846440"/>
            <a:ext cx="46627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d83e2c"/>
                </a:solidFill>
                <a:uFillTx/>
                <a:latin typeface="Franklin Gothic Book"/>
                <a:hlinkClick r:id="rId3"/>
              </a:rPr>
              <a:t>ATTO COSTITUTIV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LLEGATO ALLA PRESENTE DIAPOSITIVA</a:t>
            </a: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CasellaDiTesto 5"/>
          <p:cNvSpPr/>
          <p:nvPr/>
        </p:nvSpPr>
        <p:spPr>
          <a:xfrm>
            <a:off x="3084480" y="154764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E’  STATO  ISTITUITO  C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CasellaDiTesto 7"/>
          <p:cNvSpPr/>
          <p:nvPr/>
        </p:nvSpPr>
        <p:spPr>
          <a:xfrm>
            <a:off x="755640" y="2502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Negli articoli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dell’ATTO COSTITUTIVO 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ci sono le caratteristiche principali del CTS dell’ITIS Cannizzaro e soprattutto: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Rettangolo 8"/>
          <p:cNvSpPr/>
          <p:nvPr/>
        </p:nvSpPr>
        <p:spPr>
          <a:xfrm>
            <a:off x="755640" y="3071880"/>
            <a:ext cx="770400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RT.3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OBIETTIVI del C.T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Il C.T.S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ha funzioni consultive e di proposta 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per la organizzazione delle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aree di indirizzo 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e l’utilizzo degli spazi di autonomia e flessibilità nella organizzazione dell’offerta didattica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COMPITI del C.T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Il C.T.S.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formula i criteri per l’individuazione di esperti del mondo del lavoro 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e di esperti per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l’arricchimento dell’offerta formativa</a:t>
            </a:r>
            <a:r>
              <a:rPr b="0" i="1" lang="it-IT" sz="1600" spc="-1" strike="noStrike">
                <a:solidFill>
                  <a:srgbClr val="000000"/>
                </a:solidFill>
                <a:latin typeface="Franklin Gothic Book"/>
              </a:rPr>
              <a:t>, anche attraverso la stipula di contratti d’opera, al fine di attivare specifiche attività didattiche che richiedono spazi e/o competenze specialistici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75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76" name="CasellaDiTesto 10"/>
          <p:cNvSpPr/>
          <p:nvPr/>
        </p:nvSpPr>
        <p:spPr>
          <a:xfrm>
            <a:off x="1927800" y="583092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BEA9-EC3E-41CE-BA35-696ABCEB284F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CasellaDiTesto 3"/>
          <p:cNvSpPr/>
          <p:nvPr/>
        </p:nvSpPr>
        <p:spPr>
          <a:xfrm>
            <a:off x="746280" y="14414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ATTIVITA’  SVOLTE  E  IN  AT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CasellaDiTesto 6"/>
          <p:cNvSpPr/>
          <p:nvPr/>
        </p:nvSpPr>
        <p:spPr>
          <a:xfrm>
            <a:off x="1052640" y="1717560"/>
            <a:ext cx="69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1° ANNO – 2009/2010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Riflessione e confronto sulle competenze in uscita sia dal  punto dello sviluppo della persona che quelle professionali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Incontro tra i rappresentanti delle aziende e il Collegio docenti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Ricerca su punti di incontro e sulle possibili convergenze tra richieste della scuola e dell’azienda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CasellaDiTesto 6"/>
          <p:cNvSpPr/>
          <p:nvPr/>
        </p:nvSpPr>
        <p:spPr>
          <a:xfrm>
            <a:off x="1125360" y="344160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Franklin Gothic Book"/>
              </a:rPr>
              <a:t>2° ANNO – 2010/2011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Stesura per quanto riguarda l’indirizzo chimico delle competenze e delle possibili attività;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ttività volte alla valutazione della cultura tecnologica e delle scelte di orientamento degli studenti in entrat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Attività volte a riconoscere l’attività della scuola e dell’azienda nel territorio come «valori sociali e culturali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Messa a punto di modelli di alternanza e di valutazione e certificazione di competenze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347840" y="596880"/>
            <a:ext cx="1077840" cy="950760"/>
          </a:xfrm>
          <a:prstGeom prst="rect">
            <a:avLst/>
          </a:prstGeom>
          <a:ln w="0">
            <a:noFill/>
          </a:ln>
        </p:spPr>
      </p:pic>
      <p:pic>
        <p:nvPicPr>
          <p:cNvPr id="282" name="Rettangolo 1" descr=""/>
          <p:cNvPicPr/>
          <p:nvPr/>
        </p:nvPicPr>
        <p:blipFill>
          <a:blip r:embed="rId2"/>
          <a:stretch/>
        </p:blipFill>
        <p:spPr>
          <a:xfrm>
            <a:off x="2127240" y="444600"/>
            <a:ext cx="6383520" cy="1360440"/>
          </a:xfrm>
          <a:prstGeom prst="rect">
            <a:avLst/>
          </a:prstGeom>
          <a:ln w="0">
            <a:noFill/>
          </a:ln>
        </p:spPr>
      </p:pic>
      <p:sp>
        <p:nvSpPr>
          <p:cNvPr id="283" name="CasellaDiTesto 10"/>
          <p:cNvSpPr/>
          <p:nvPr/>
        </p:nvSpPr>
        <p:spPr>
          <a:xfrm>
            <a:off x="1927080" y="5877000"/>
            <a:ext cx="52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2060"/>
                </a:solidFill>
                <a:latin typeface="Franklin Gothic Book"/>
              </a:rPr>
              <a:t>Via Raffaello SANZIO, 2 – RHO (MILA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Segnaposto numero diapositiva 2"/>
          <p:cNvSpPr/>
          <p:nvPr/>
        </p:nvSpPr>
        <p:spPr>
          <a:xfrm>
            <a:off x="767088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9E1-E63A-487B-A6F6-3E15989EA302}" type="slidenum">
              <a:rPr b="0" lang="it-IT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CasellaDiTesto 3"/>
          <p:cNvSpPr/>
          <p:nvPr/>
        </p:nvSpPr>
        <p:spPr>
          <a:xfrm>
            <a:off x="755640" y="1628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CasellaDiTesto 8"/>
          <p:cNvSpPr/>
          <p:nvPr/>
        </p:nvSpPr>
        <p:spPr>
          <a:xfrm>
            <a:off x="971640" y="2205000"/>
            <a:ext cx="705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La nostra “Buona Pratica” sta nel riconoscere che la presenza di un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CTS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  oltre a dare uno stimolo alla scuola verso un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innovazione dell’offerta formativa 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in termini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individuazione delle competenze 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sia di base che specifiche e d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sistemi di valutazione  e certificazione non più autorefernziali , 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permette alla scuola di costruirsi culturale nel territorio.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 un identità sociale 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6:58:51Z</dcterms:created>
  <dc:creator>User</dc:creator>
  <dc:description/>
  <dc:language>en-US</dc:language>
  <cp:lastModifiedBy>itis</cp:lastModifiedBy>
  <dcterms:modified xsi:type="dcterms:W3CDTF">2011-04-06T13:59:26Z</dcterms:modified>
  <cp:revision>88</cp:revision>
  <dc:subject/>
  <dc:title>Presentazione standard di PowerPoint</dc:title>
</cp:coreProperties>
</file>