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93D7-D886-4112-85D4-194CC6FDA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FBCF-5964-4869-B090-BF986D62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5DB9-0C2C-41F5-9012-EC43DF41C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D25D-91C7-491F-A89C-E1D192EF5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02A7-B2DC-4A76-97F6-DD5AE0F4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D2F3D-ADC5-49D4-8FA2-270401D5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B95C3-EABC-4CF7-B84C-3AE76AF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6CB66-03C9-44E1-8EE4-A27F5D98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2AEF0-EF27-4918-B51F-288FD070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4C232-ED08-4761-B0B5-488CB60F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39FC5-587A-455B-BC32-EA0A99E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569C-E647-47A0-8C14-0E629A9F3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EAD8C-34EB-41F6-B956-E7240DE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C2F7D-5672-45C6-8AD0-036343C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F85D9-99D7-4C5D-B810-6143718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5BFC7-90DD-4333-AA6B-B2E58584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964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0000" y="76464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928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964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0000" y="3660480"/>
            <a:ext cx="282852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7C5E1-A310-401D-86FB-38A2E4D7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7B8D-AF51-4729-BF93-94DE8789C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D5F8-C7BD-49FC-9461-8D273E568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3FFE-8FC4-4CEE-B9B0-AEB8A41DA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46C7-4337-45B8-AE57-1FEAC5179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E1F53-96E0-40E2-82F0-7525AC84F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6048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2835-80B6-45FC-AC1F-249FFC7E7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764640"/>
            <a:ext cx="42872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660480"/>
            <a:ext cx="878544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4492-72C9-4C14-98EF-EB048ACF6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042920" y="6524640"/>
            <a:ext cx="70581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72000" y="6524640"/>
            <a:ext cx="792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7B27-07E6-484B-9E1D-703959CDCF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2555640" y="6244920"/>
            <a:ext cx="4103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6FC7-B9C4-4CEB-A727-2986E68B35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struzioneveneto.it/orientamento" TargetMode="External"/><Relationship Id="rId2" Type="http://schemas.openxmlformats.org/officeDocument/2006/relationships/hyperlink" Target="http://www.istruzioneveneto.it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l ruolo della Delivery Unit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er la promozione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dei CTS e dei Dipartiment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4941720"/>
            <a:ext cx="7848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rento, 13 april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4869000"/>
            <a:ext cx="7924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1152360" cy="10778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5796000" y="620640"/>
            <a:ext cx="1944720" cy="1008000"/>
            <a:chOff x="5796000" y="620640"/>
            <a:chExt cx="1944720" cy="1008000"/>
          </a:xfrm>
        </p:grpSpPr>
        <p:sp>
          <p:nvSpPr>
            <p:cNvPr id="86" name=""/>
            <p:cNvSpPr/>
            <p:nvPr/>
          </p:nvSpPr>
          <p:spPr>
            <a:xfrm>
              <a:off x="5796000" y="620640"/>
              <a:ext cx="216000" cy="10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72360" y="620640"/>
              <a:ext cx="215640" cy="1008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9640" y="620640"/>
              <a:ext cx="216000" cy="1008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48360" y="620640"/>
              <a:ext cx="216000" cy="100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6000" y="620640"/>
              <a:ext cx="215640" cy="1008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720" y="620640"/>
              <a:ext cx="216000" cy="10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84720" y="620640"/>
              <a:ext cx="216000" cy="100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403280" y="620640"/>
            <a:ext cx="1944720" cy="1008000"/>
            <a:chOff x="1403280" y="620640"/>
            <a:chExt cx="1944720" cy="1008000"/>
          </a:xfrm>
        </p:grpSpPr>
        <p:sp>
          <p:nvSpPr>
            <p:cNvPr id="94" name=""/>
            <p:cNvSpPr/>
            <p:nvPr/>
          </p:nvSpPr>
          <p:spPr>
            <a:xfrm flipH="1">
              <a:off x="3132000" y="620640"/>
              <a:ext cx="216000" cy="10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555640" y="620640"/>
              <a:ext cx="216000" cy="1008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268360" y="620640"/>
              <a:ext cx="216000" cy="100800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979280" y="620640"/>
              <a:ext cx="215640" cy="100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692000" y="620640"/>
              <a:ext cx="216000" cy="1008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403280" y="620640"/>
              <a:ext cx="216000" cy="10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42920" y="620640"/>
              <a:ext cx="215640" cy="100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2000" y="4413240"/>
            <a:ext cx="2800440" cy="3682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istruzioneveneto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3FF97-6949-435F-8B30-BF69BAFFC8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Punti del Protoc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rogettare, attuare e documentare forme di ricerca-azione che consentano 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are da una prassi didattica basata su programmi configurati come elenco di contenuti, allo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viluppo di competenze certificabili e spendibil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el mercato del lavoro,come richiesto dall'Unione Europe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re gli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esiti degli apprendimenti attes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agli allievi a conclusione del percorso di studio in conoscenze,abilità, competenz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viare, nel contesto del Piano dell'offerta Formativa dell'Istituto, la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progettazione didattica per competenze e sostenere il percorso verso la loro formale certif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A153-B44D-4DAE-9684-4CA6E40C50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869796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La Delivery in Veneto - il modello organizzativ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l’Unità regionale di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Multilivello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abina di regia region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SRV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con competenze differenziate (Qualità, Apprendimenti, Alternanza scuola - lavoro, Dimensione europea, Orientamento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nfindustri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Rapporti con il mondo del lavoro, Orientamento, Laboratorialità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ione del Vene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Istruzione; Formazione; Orientamento e Lavor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NSAS Veneto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supporto su richiesta delle scu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irigenti scolastici riconosciuti sul territori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– afferenti ai diversi indirizzi e specializzazioni; capaci di creare Reti provinciali o interprovincia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D0BD-1F33-425A-9653-4BFA4C56B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livery in Veneto - il modello organizzativ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l’Unità regionale di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256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Decentrato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sul territor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i o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ttogruppi coordinati dai Dirigenti UST e/o dai Ds stessi (v. risorse disponibi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ivolto ad una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governanc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richiede condivisione, partecipazione attiva, interazione frequente, monitoraggio periodico, soddisfacimento dei bisogni, sussidiarie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spirato ad un approccio d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ivery costituita sia per gli Istituti Tecnici (maggio 2009) che per i Licei e per gli Istituti Professionali (settembre 200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2E81-02DE-4076-8678-F4FE0BC49E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livery in Veneto - il modello organizzativ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l’Unità regionale di proget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25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 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stitu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te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te a preparare l’azione delle scuole su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ttivazione di specifich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ferenze di serviz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mo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minar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vi/formativ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elaborazione di specifici punti di attenzione per ciascun ordine di scuol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l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“mandat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mozione e il sostegno all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et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i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attenzione all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edisposi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ask-forse terri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edisposizione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rumenti sul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onitoragg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er accompagnare i processi di ricerca delle scuole auton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6A18-3C96-4600-8FAD-1EC1EA595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5680" y="-360"/>
            <a:ext cx="869796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. La Delivery in Veneto – IL SUPPORTO (Formazione e Comunicazion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riunioni regional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analisi documentale, definizione dei compiti e della struttura organizzativa di volta in volta ritenuta più ido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treccio tra le Conferenze di servizio regionali e i gruppi di lavoro (a rete) attivati su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 protagonis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 Dirigenti scolastici; i Docenti; le realtà territo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e temati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’evoluzione normativa del Riordino; la sua interpretazione; lo studio dei bisogni regionali; l’innovazione e la sua declinazione sul terri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strum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a piattaforma dedicata: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struzioneveneto.it/orien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i siti di dialogo: ambienti interattivi (moodle) distinti per i 3 ordini di scuola) http://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www.riformainveneto.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o sportello unico -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i="1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struzioneveneto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lo spazio per la raccolta della ricerca in tema di didattica per competenze: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http://www.piazzadellecompetenz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8834-3D46-4005-9A8D-564B1C4FEB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Delivery in Veneto - LE REALIZZAZ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I CTS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con evidenza negli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Istituti Tecnic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rofessional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e per i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6 ITS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I Dipartimenti disciplinari e pluridisciplinari: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organizzati per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discipline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, per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ss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ultural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biennio), per </a:t>
            </a: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aree di specializzazione o indirizzi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(trienn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ricerca sulle competen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7 </a:t>
            </a:r>
            <a:r>
              <a:rPr b="1" lang="it-IT" sz="2200" spc="-1" strike="noStrike">
                <a:solidFill>
                  <a:srgbClr val="333399"/>
                </a:solidFill>
                <a:latin typeface="Arial"/>
              </a:rPr>
              <a:t>macroreti</a:t>
            </a: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: oltre 500 docenti; 150 tra Istituti Tecnici, Licei, Ist. Prof.li, IeFP, Enti terri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Le rubriche, i Profili, la certificazione per il bien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La valutazione: le Unità di Apprendimento, le “Prove Esperte”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La validazione degli stru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Sperimentazione per le Scienze integ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(il Laboratorio sull’ambiente di apprendimento; i Progetti degli studenti per Scienza dei materiali; la Robotica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didattica laboratoriale </a:t>
            </a: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(l’Alternanza scuola-lavoro, le progettualità delle scuo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Gli indicatori di Qualità dei processi di inno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DD7C-10F0-4F5D-8E1F-C6B0E42066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740880"/>
            <a:ext cx="8785440" cy="5567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IL MONITORAGGIO: CTS tra i punti di attenzione percepiti – valore me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7416720" cy="507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9800" y="3625920"/>
            <a:ext cx="93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7800" y="369900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740720" y="3645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7640" y="5589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aggio USRV 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DF95-D786-479F-AA0E-0293942389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la composi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640720" cy="5256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Intern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 fatte salve le specificità delle singole scuole e indirizz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suggerisce un numero tra i 10 e 12, con minimi scarti a seconda di grandezza e compless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docenti che ne fanno parte dovrebbero preferibilmente avere funzioni di responsabilità e coordi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 docenti dovrebbero essere individuati dal Collegio all’interno dell’area di specializzazione o dell’Indirizzo o per funzioni strument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gli ISISS molto eterogenei (es. Licei+Tecnici) può esserci un Comitato unico, con un rappresentante per ordine di scuola, articolato poi in sottocommiss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7518-8CA5-4244-BE40-E089A28609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la composi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759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sterna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previa presentazione del curricul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nti qualificati delle Associazioni di categoria, imprese, ordini profess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rappresentante degli Enti territoriali compresi eventuali Enti di form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zione variabile con componenti permanenti (interni e territorio) e non permanenti (Università, Centri di ricerca, Uffici studi). Questi ultimi hanno il compito di offrire contributi sulle tendenze dell’innovazione, della ricerca, del mercato, in funzione delle scelte form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amente alle rappresentanze politiche (es. Assessori), fatta salva la libertà della scuola, si sottolinea la partecipazione in veste tecnico-scientifica opera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229360"/>
            <a:ext cx="8496360" cy="1067400"/>
          </a:xfrm>
          <a:prstGeom prst="rect">
            <a:avLst/>
          </a:prstGeom>
          <a:solidFill>
            <a:srgbClr val="ccd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A - L’Amministratore locale potrebbe intervenire con la veste di membro non permanente, qualora si tratti di offerta formativa nel territorio o di dotazioni a carico dell’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D621-8AAB-4EAE-8654-0099462DF8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79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il livello provinci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Possibili CTS di Re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8560" y="1341000"/>
            <a:ext cx="8785080" cy="4969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raccoglie le forze economiche presenti sul territor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zioni di imprenditori industriali e artigi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zioni sindac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ese pubbliche di Servi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 di ricerca come le Università o le Fond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i pubblici di gestione delle dinamiche del lavoro (assessorato o Camera di Commercio, in aggiunta ai rappresentanti degli Istituti scolastici pubblici interessat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tudia e delinea corsi o indirizzi ritenuti necessari a soddisfare le esigenze del territo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51960" y="5805360"/>
            <a:ext cx="1802160" cy="368280"/>
          </a:xfrm>
          <a:prstGeom prst="rect">
            <a:avLst/>
          </a:prstGeom>
          <a:solidFill>
            <a:srgbClr val="ccd4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Ve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6C72-ACCB-47AE-80C8-4CAF2A4C96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 cosa fa la Deli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naliz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l contesto pe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alorizz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asioni favorev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sog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iseg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n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odello organizza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n un’ottica evol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dic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emp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condividere problem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roposte di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a nella progettazione, co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mplementazion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orm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spon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trumen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l più possibile vari - atti a sorreggere le strategie di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onitor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percors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modo costante e restituisce a tu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spone momenti di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nitoragg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erif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qual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isulta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C883-F024-4403-9858-93A2FB3DE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: CTS e Piano dell’offerta form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l CTS esprime pare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i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erenza tra curricoli ed esigenze del mercato del lavoro, sulla base di una rilevazione dei bisogni professionali e formativi del territorio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(v. Dipartimen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elementi di flessibilità previsti dai Regolam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occasioni di formazione tecnica per i docenti dalle aziende e nelle az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rinnovo e l’acquisto di attrezzature per i laborat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l CTS favoris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utilizzo delle strutture territoriali (aziende e non) per   l’aggiornamento dei docenti e per l’attività degli stud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progetti di ricerca e svil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rapporti con le Associazioni datori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B788-CC82-4B0E-A0F5-53B7883A03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691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il livello territoriale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tituto e/o indirizz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mula pare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 modo auton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 Dirigente, al Collegio e alle sue articolazioni e al Consiglio di Istitu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ica strumenti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organizzativ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 a raggiungere le finalità su cui esprime par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muove 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vorisce occasioni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di incontro e scambi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 docenti delle scuole e rappresentanti qualificati delle Università, del mondo del lavoro e delle az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D9C3-7355-46C1-A389-4DA380A67C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 CTS e attività scuola-territo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CTS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sprime pareri, esplicitando valutazioni e linee di indirizz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 fornendo supporto) riguard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lternan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cuola 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st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iroci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ativ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rienta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entrata (anche rispetto alla formazione dei docenti della scuola sec. di 1° grad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usc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BF6F-57BB-495A-B0A8-7700B06A86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blicizzazione e condivisione dell’attività del CTS – centralità/criticità della comunic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ttraverso 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ocenti interni al 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signati nel CTS in qualità di “esperti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portano nel Collegio e nei Dipartimenti gli orientamenti e i pareri espressi dal CTS, per favorirne il recep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ttraverso i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verbali degli incontri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 del 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ubblici e diffusi come quelli degli OO.CC. (eventualmente anche con una bacheca dedica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ttraverso specific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ccasioni ed eventi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rivolti anche alle famigl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E773-A6D1-4112-A3BA-369FD983EC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ricerca sui CTS: gli Indicatori di qualità del funzionam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di riunioni durante l’an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% di presenze per ogni inco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di richieste di parere richieste al 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di pareri e suggerimenti accolti dagli OOCC (% suggerimenti raccolti su suggerimenti dat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. contatti esterni procurati alla scuola (occasioni di formazione; intese con aziende, ec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cezione dei docenti sulla qualità del lavoro del CTS (indagine strutturata, ad es. con questionario – v. SIQus - polo Qualità di V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senza di obiettivi di lavoro autonomi per il 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senza di occasioni di monitoraggio e verifica della propria azione (incontri dedicati alla revisione, strumenti di verifica e osservazion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0D50-B5E6-4574-B92B-EA9FD764C7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7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CTS: CRITICITÀ   e   RISO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36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IT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incere alcune “diffidenz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 confronti della supposta “ingerenza” del mondo es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struire un orizzonte di sen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pibile dal numero più ampio possibile dei docenti e del person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ovare spazi tempor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i contatti, gli incontri, le riflessioni, la documenta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cegliere le prior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perseguire in coerenza con il contesto e con le specificità dell’Istit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RIS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’aiuto del sistema imprendito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l gruppo di lavoro di Confindust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a solidarietà delle R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Arial"/>
              </a:rPr>
              <a:t>La formazione e 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B2C3-8D8F-44A9-ABCC-14D2EE9A8E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ipartimenti tra i punti di attenzione percepi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764640"/>
            <a:ext cx="878544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7416720" cy="5077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4724280"/>
            <a:ext cx="934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357336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812000" y="472428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7640" y="4724280"/>
            <a:ext cx="604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67640" y="5661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aggio USRV Nov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9862-8307-41AE-BBE7-B0E29E9602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i. Gli elementi della ricerc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odo critic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er l’attuazione degli aspet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novazione didattic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sità di una “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visit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rispetto al passato: ora il problema si pone in termini di passaggi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l Profilo al curricol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TI FOCAL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l ruolo professionale e cultur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e fun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La composizione e le articol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20E1-A657-41AC-9C21-96FD67A4EC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partiment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La premess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l processo di insegnamento apprendimento deve la sua specificità al fatto che esso si snoda nella dialettica tra 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dimensione collettiv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che avviene in un contesto sociale e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dimensione persona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tratta di una impresa collettiva nella quale è coinvolta una pluralità di soggetti: i docenti, gli studenti, la classe, le famiglie….Solo se questa pluralità di soggetti è capace di fare «impresa», di fare squadra, il processo di insegnamento avrà come esito la pro-mo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e gli input (gli elementi in entrata) si collocano in una dimensione collettiva, l’output (la formazione, la crescita, l’apprendimento) rimane ancorato alla persona, alla sua storia, ai suoi stili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esta dialettica collettivo/personale vale per lo studente, vale per il docente, attori co-protagonisti del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continuum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insegnamento-apprend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1B54-3FA8-4A0D-A36A-549455346B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Dipartimenti. Il ruolo professionale e cultural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1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partimento, come articolazione del CD, prima di tu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È il luogo della professionalità docente, il luogo in cui si pongono le condizioni dell’esercizio della profession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v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uogo del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nfronto e della condivi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della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municazione intersoggettiv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e garanzia della fondatezza scientifica delle scelte culturali e metodolog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luogo di produzione cultur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il dipartimento costruisce il repertorio di strumenti (concettuali, operativi, didattici, valutativi…) a cui il Consiglio di Classe e il singolo docente ricorrono nella fase della progettazione didattico - educativa  e di realizzazione del curricol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2EE3-1C18-4743-9691-2E0054E2C2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697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1. Prima della Delivery… il contes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Analisi dello “Stato della scuola secondaria di 2° grado in Veneto” con particolare riguardo agli Istituti Tecnici e Professional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sostanziale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appeal dei Tecnici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sostenuti da una richiesta territoriale da parte delle imprese che assorbono tutti i diploma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dialog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dell’Istruzione Professionale con il sistema della Formazione regionale (v. qualifica regionale; percorsi triennali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presenza di forti “spezzoni” di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misure innovativ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 già presenti in un numero considerevole di Istituti (es. sperimentazioni assistite, Dipartimenti disciplinari; stage, tirocini, Terza area, pluriennali esperienze di alternanza scuola-lavoro…); MA 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situazione disomogenea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sul terri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consolidata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capacità progettuale e realizzativa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nei rapporti con il mondo del lavoro (Confindustria, Confartigianato, Camere di Commercio…) e con l’Universit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ta </a:t>
            </a: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richiesta di rinnovamento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e di “sperimentazione” delle principali innovazioni previste dal Riordino da parte delle scuo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87"/>
              </a:spcBef>
              <a:spcAft>
                <a:spcPts val="476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successo</a:t>
            </a:r>
            <a:r>
              <a:rPr b="0" lang="it-IT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registrato nell’ambito del Piano Lauree Scientifiche supportato, oltre che dal MIUR e da Confindustria, anche dalla Regione del Vene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BEB4-B5CC-4E8A-B5A9-1538D953C4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Il ruolo professionale e cultural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5904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È luogo dell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lisi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ciplin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qui, nel confronto e nella condivision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studia in che modo la disciplin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osteng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o studente nella acquisizione di conoscenze, nello sviluppo di abilità e compet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vviene la tras-formazione dei saperi in conoscenze; la disciplina viene ri-pensata e riorganizzata dal punto di vista dello studente che, appropriandosi di quei saperi, acquisisce conoscenze e abilit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studiano e si realizzano percorsi di motivazione, sostegno e recupero per gli studenti in difficoltà o percorsi per l’eccell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studiano e si realizzano modalità di accompagnamento per i tirocinanti, per i docenti neo-immessi in ruolo o meno esper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individuano le caratteristiche fondanti dell’Indirizzo di studio e le attività progettuali pluridisciplinari che lo contraddistingu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BB87-071C-4BA4-8D7E-D807A84514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e funzi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688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Redige la progettazione di Dipartimen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articolata per conoscenze, abilità, compet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Concorda sui criteri di valu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sulle forme e sulle tipologie di veri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Si confronta sulla tipologia, e sulle caratteristiche degli strumenti</a:t>
            </a:r>
            <a:r>
              <a:rPr b="0" lang="it-IT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libri di testo, laboratori, nuove tecnologie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Analizza i risultati di apprendimen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; studia le cause degli insuccessi, propone le coerenti forme di accompagnamento e di recupero per gli stude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Progetta percorsi di integrazione dei saper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nel confronto a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livello d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asse cultur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o area e a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livello di indirizzo o di specializz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es. Piano Lauree scientifiche, Poseidon, Alternanza scuola lavoro,…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 e/o progetta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percorsi di autoaggiornamento / aggiorn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Si fa portatore del patrimonio pedagogico-didattico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lla “comunità scolastica” – identità dell’Istitu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203C-960E-4582-A030-4C45B9F1D5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a composi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Dipartimento si configur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sciplinar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è composto dai docenti titolari della medesima o delle medesime discip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asse cultura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è composto dai docenti che afferiscono ai quattro assi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oppure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ar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n questo caso il Dipartimento è composto in maniera flessibile da docenti che afferiscono nello stesso tempo all’area della comunicazione e a quella metodologica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esta flessibilità implica la reale assunzione di punti di vista differenti, quello della disciplina per sé e quello della disciplina in un altro contes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indirizz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e luogo della specificità dei Licei o </a:t>
            </a:r>
            <a:r>
              <a:rPr b="0" lang="en-US" sz="2200" spc="-1" strike="noStrike" u="sng">
                <a:solidFill>
                  <a:srgbClr val="990033"/>
                </a:solidFill>
                <a:uFillTx/>
                <a:latin typeface="Arial"/>
              </a:rPr>
              <a:t>in termini di specializz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e luogo della specificità dei Tecnici e dei Profess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7722-7C5A-4698-88F3-89176D155F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la flessibilità organizzativa e i suoi compiti - verso la “comunità di pratich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990033"/>
                </a:solidFill>
                <a:uFillTx/>
                <a:latin typeface="Arial"/>
              </a:rPr>
              <a:t>Il primo livello  (DISCIPLINARE)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nda e costruisce le condizioni del lavoro degli altri: individuazione delle conoscenze e delle abilità disciplinari da curare, metodi, strumenti, etc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990033"/>
                </a:solidFill>
                <a:uFillTx/>
                <a:latin typeface="Arial"/>
              </a:rPr>
              <a:t>Nel secondo e nel terzo livello (ASSE O AREA CULTURALE; INDIRIZZO o AREA DI SPECIALIZZAZIO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rogettano, alla luce del profilo dello studente in uscita,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i percors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inalizzati alla promozione, sviluppo, consolidamento, valutazione delle compet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mettono in atto dispositivi volti a far emergere, accanto alle competenze acquisite in ambiente formale, </a:t>
            </a:r>
            <a:r>
              <a:rPr b="1" i="1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le competenze acquisite in ambiente non formale e inform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anche in funzione della certificazione da rilasciare al conseguimento dell’obbligo scolastico e del titolo finale di st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49CD-018E-475A-992F-AA4FC71155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artimenti: difficoltà e riso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990033"/>
                </a:solidFill>
                <a:uFillTx/>
                <a:latin typeface="Arial"/>
              </a:rPr>
              <a:t>La difficoltà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Mettersi in discus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uperare il livello del “disciplinare”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vorare nell’ottica di una didattica orientata alla promozione delle compet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i-trovare le connessioni e gli intrecci tra le articolazioni della collegialità (CD, Cd’I, Cdcl..) e i nuovi interlocutori (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990033"/>
                </a:solidFill>
                <a:uFillTx/>
                <a:latin typeface="Arial"/>
              </a:rPr>
              <a:t>Le ris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l patrimonio pedagogico-didattico di ogni comunità scola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disponibilità alla ricerca didattico-edu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FDF4-1F9D-4C83-AB25-245926342A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7078680" cy="679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e di svilupp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907560"/>
            <a:ext cx="7129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A RICERCA CONTINUA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avorire ulteriormente gli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accord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tra scuola e territorio,  valorizzando la ricchezza dell’incontro tra approcci differenti e nel contempo l’identità della scu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 l’attenzione della scuola verso i temi dello sviluppo della conoscenza, anche ai fini dell’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orientamen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e dell’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occupabili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i giova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coraggiare i docenti 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rivedere in modo sostanzi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l’impostazione didattica tradizionale centrata sul programm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urare l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diffus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innovazione, promuovendo il consolidamento delle Re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upportare la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formazione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la raccolta </a:t>
            </a: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in itine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a </a:t>
            </a: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documen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sulle speriment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ostenere  il dibattito, implementare 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l’autonomia di ricerca e svil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30920" y="115920"/>
            <a:ext cx="1944720" cy="504720"/>
            <a:chOff x="6730920" y="115920"/>
            <a:chExt cx="1944720" cy="504720"/>
          </a:xfrm>
        </p:grpSpPr>
        <p:sp>
          <p:nvSpPr>
            <p:cNvPr id="208" name=""/>
            <p:cNvSpPr/>
            <p:nvPr/>
          </p:nvSpPr>
          <p:spPr>
            <a:xfrm>
              <a:off x="6730920" y="115920"/>
              <a:ext cx="21600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07280" y="115920"/>
              <a:ext cx="215640" cy="504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4560" y="115920"/>
              <a:ext cx="216000" cy="50472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3280" y="115920"/>
              <a:ext cx="216000" cy="50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70920" y="115920"/>
              <a:ext cx="215640" cy="504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59640" y="115920"/>
              <a:ext cx="216000" cy="5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19640" y="115920"/>
              <a:ext cx="216000" cy="50472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41840" y="115920"/>
            <a:ext cx="1944720" cy="504720"/>
            <a:chOff x="4641840" y="115920"/>
            <a:chExt cx="1944720" cy="504720"/>
          </a:xfrm>
        </p:grpSpPr>
        <p:sp>
          <p:nvSpPr>
            <p:cNvPr id="216" name=""/>
            <p:cNvSpPr/>
            <p:nvPr/>
          </p:nvSpPr>
          <p:spPr>
            <a:xfrm>
              <a:off x="4641840" y="115920"/>
              <a:ext cx="21600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18200" y="115920"/>
              <a:ext cx="215640" cy="504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5480" y="115920"/>
              <a:ext cx="216000" cy="50472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94200" y="115920"/>
              <a:ext cx="216000" cy="50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81840" y="115920"/>
              <a:ext cx="215640" cy="504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0560" y="115920"/>
              <a:ext cx="216000" cy="504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0560" y="115920"/>
              <a:ext cx="216000" cy="50472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 flipH="1">
            <a:off x="-360" y="0"/>
            <a:ext cx="16002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13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FF5C-E71F-4A3A-83E9-1BA26CB417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ima della Delivery… il contes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87"/>
              </a:spcBef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Analisi delle possibili risorse presenti sul territorio in termini di alleanze e compartecipazion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La Regione del Vene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– impegno pluriennale in tema di Orientamento (Reti territoriali), Saperi scientifici, Terza area, Alternanza scuola-lavoro, Protocollo per il riconoscimento dei percorsi di istruzione nei passaggi alla formazione, progettualità rivolta alla scuola inclusiva (alunni stranieri, disabilità, difficoltà di apprendimento, etc..) e al tema della Qualità (Premio Qualità,OCSE Pisa, Dimensione europea, progetti culturali, etc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Confindustria Veneto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Orientamento, Lauree scientifiche, apertura laboratori delle aziende, collaborazione progettuale con le scuole, etc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Università</a:t>
            </a:r>
            <a:r>
              <a:rPr b="1" lang="it-IT" sz="1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– v. Protocolli d’intesa concernenti l’Orientamento, la Formazione  e il Piano Lauree scientific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Associazioni disciplinari</a:t>
            </a: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– v. Piano ISS, Piano Poseidon, CLIL, etc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steso sistema di Reti di scuol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- aperte alle collaborazioni con il territor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87"/>
              </a:spcBef>
              <a:spcAft>
                <a:spcPts val="58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xpertise del personale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 - utilizzato per i compiti a sostegno dell’autonom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9F7D-4E3C-4508-A3CA-21FFF9F457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la Delivery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olontà d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valorizz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fondamentale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PATRIMO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conoscenze e  competen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zionali alla progettazione didattico-educa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erie di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ESPERIENZE E RICERC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dot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 numerosi Istituti Tecnici Industriali d'eccellenza del Vene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inergia con Confindustria Ven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are risposte concre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iugando mandato istituzionale e bisog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5D01-92BC-44EA-8EAB-CAB12ABB29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la Delivery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Nasce il Protocollo d’intesa (3 aprile 2009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ema di politica regionale scolastica per la realizzazione del Piano per l’innovazione dell’Istruzione Te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tire dall’articolato sistema di relazioni con la Regione Veneto, co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l sistema economico produt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l territorio su cui insiste la scuola veneta e con le associazioni datoriali e di catego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inalità propuls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 cambiamento attraverso un modello rinnovato di governance tale da conferire slanci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’innov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rato ad ottene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ivelli di competenz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ispondenti alle nuove necessità culturali e socio-economiche di un tessuto produttivo che avverte l’esigenza di innovare per mantenere i livelli di produzione e le possibilità occupazion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4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0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96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236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44280"/>
            <a:ext cx="14472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4280"/>
            <a:ext cx="14436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512D-8979-4112-A68B-4F619F4C52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lo d’intesa (3 aprile 200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99"/>
                </a:solidFill>
                <a:latin typeface="Arial"/>
              </a:rPr>
              <a:t>obiettivo prioritari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omuovere, d'intesa con il MIUR, </a:t>
            </a:r>
            <a:r>
              <a:rPr b="1" lang="it-IT" sz="2600" spc="-1" strike="noStrike">
                <a:solidFill>
                  <a:srgbClr val="333399"/>
                </a:solidFill>
                <a:latin typeface="Arial"/>
              </a:rPr>
              <a:t>UN'AZIONE DI SOSTANZIALE MIGLIORAMENTO DELLA QUALITÀ DELL'OFFERTA FORMATIVA TERRITORI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a mediante lo studio di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nuovi assetti ordinamentali curricol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a attraverso forme coordinate e organiche di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ricerca-azione organizzativa e metodologico-didat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6ED0-5B02-446C-80FC-84928225C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Punti del Protoc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Strutturazione del Collegio i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partimenti  (dal disciplinare al pluridisciplinare, per assi culturali, per indirizzo, per area di specializz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ttivare nuove ed organiche modalità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gettazione educ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promuovere e sostenere l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divis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gli obiettivi generali e specifici – v. incentivazion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unità di prati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favorire la diffusione delle metodologie più efficaci a migliorare i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risultati di apprend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li studenti, in particolare attraverso un utilizzo diffuso e sistematico di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atiche laboratorial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utte le discipline e mediante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l’alternanza scuola-lavo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) avvi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terventi sistematici di aggiorna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che in rete, di tutto il personale della scuola, dirigente, docente e 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8AC0-C2FE-4268-B4A3-DF9280034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79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Punti del Protoc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554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stituzione del Comitato Tecnico-Scientifico Paritetico Scuola-lavor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nalizzato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e u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pporto organico fra il momento didattico – educativo dell’attività scolastica e il mondo del lavoro e delle professio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ruolo di consultazione e di propos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vamente alle modalità di innovazione coerenti con l’evoluzione del quadro normativo in tema di Istruzione Te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ccogliere proposte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ticolare le aree di indirizzo negli ampi spazi di FLESSIBILIT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evisti per l’assetto dell’Istruzione Tecnica, in base alle specifiche esigenze del territorio, del mondo produttivo e delle profess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ianna Miola - Dirigente Ufficio IV - USR Venet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75ED-E804-425D-9BA1-D2528051C3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5:55:40Z</dcterms:created>
  <dc:creator>Miola</dc:creator>
  <dc:description/>
  <dc:language>en-US</dc:language>
  <cp:lastModifiedBy>Utente</cp:lastModifiedBy>
  <dcterms:modified xsi:type="dcterms:W3CDTF">2011-04-10T15:45:37Z</dcterms:modified>
  <cp:revision>142</cp:revision>
  <dc:subject/>
  <dc:title>Seminario Sorrento 2011</dc:title>
</cp:coreProperties>
</file>