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772320" cy="9902880"/>
          </a:xfrm>
          <a:custGeom>
            <a:avLst/>
            <a:gdLst>
              <a:gd name="textAreaLeft" fmla="*/ 360 w 6772320"/>
              <a:gd name="textAreaRight" fmla="*/ 6771960 w 6772320"/>
              <a:gd name="textAreaTop" fmla="*/ 360 h 9902880"/>
              <a:gd name="textAreaBottom" fmla="*/ 9902520 h 9902880"/>
            </a:gdLst>
            <a:ahLst/>
            <a:rect l="textAreaLeft" t="textAreaTop" r="textAreaRight" b="textAreaBottom"/>
            <a:pathLst>
              <a:path w="21600" h="31584">
                <a:moveTo>
                  <a:pt x="4" y="0"/>
                </a:moveTo>
                <a:arcTo wR="4" hR="4" stAng="16200000" swAng="-5400000"/>
                <a:lnTo>
                  <a:pt x="0" y="31580"/>
                </a:lnTo>
                <a:arcTo wR="4" hR="4" stAng="10800000" swAng="-5400000"/>
                <a:lnTo>
                  <a:pt x="21596" y="3158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0800" y="752400"/>
            <a:ext cx="4946760" cy="37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move the slide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440" y="4703400"/>
            <a:ext cx="5416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32200" y="-3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32200" y="9407160"/>
            <a:ext cx="29368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B5FD4-B55F-432E-9535-B5C69AC4345D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93578-13AB-4C9F-ABB3-DB85932E1136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7F5DA-962E-40B8-90FC-88A0C6D4EE7C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15EBA-3D35-4167-AC64-BAB9A6EA6519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A330E-0C94-4567-913E-AADE8873BC2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5CD20-1C05-45A7-9B13-8AE8DA1D4D3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F190A-AC53-4F01-BE4C-748A9AF4B1F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BA8ED-34E1-41F8-BD71-5E5D7C08484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C2B6F-B3E0-4036-A9E9-FD32EAADFE32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9B6F4-C0F6-46A4-BD45-1E937C1716EC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6BDDA-47CC-4127-B8E1-AA55BFDE2BE1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C763C-23A5-4F07-8682-1CB3EB99201C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CF3A5-BD82-435C-95D5-1C7D55E94E78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1D9A5-7954-441E-9CE4-F14C48A9C79B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DEBB4-C5DE-4254-B38A-6552313D58D2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32200" y="9407520"/>
            <a:ext cx="29368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07880"/>
                <a:tab algn="l" pos="819000"/>
                <a:tab algn="l" pos="1228680"/>
                <a:tab algn="l" pos="1639800"/>
                <a:tab algn="l" pos="2049480"/>
                <a:tab algn="l" pos="2460600"/>
                <a:tab algn="l" pos="2870280"/>
                <a:tab algn="l" pos="3281400"/>
                <a:tab algn="l" pos="3692520"/>
                <a:tab algn="l" pos="4102200"/>
                <a:tab algn="l" pos="4513320"/>
                <a:tab algn="l" pos="4923000"/>
                <a:tab algn="l" pos="5334120"/>
                <a:tab algn="l" pos="5743440"/>
                <a:tab algn="l" pos="6154560"/>
                <a:tab algn="l" pos="6564240"/>
                <a:tab algn="l" pos="6975360"/>
                <a:tab algn="l" pos="7385040"/>
                <a:tab algn="l" pos="7796160"/>
                <a:tab algn="l" pos="8207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A9B87-6003-4303-B149-8496C778A58A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2400"/>
            <a:ext cx="479088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703760"/>
            <a:ext cx="54180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342-76F1-4FA8-9676-EC4334CF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304-BF4C-40B9-A7A2-A6AB497D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743-94F7-44D1-BA07-535315DA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D26-FAFB-431F-BC8F-1C188A04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C07-94AF-4528-81B8-5AC2A552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2BB-1829-42AE-A0CB-74630D2F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1F7-D9BC-40FC-9CC7-0A1DEB77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611-5496-46B4-9926-1A5515D0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280800"/>
            <a:ext cx="9067680" cy="60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FBE-BF47-427C-903B-18BBB1B3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DEA-9F86-4E60-BD24-B29C5CC5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E45-7E62-4DF5-B6DB-E01AE8DA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533-EBBE-4C39-B2AF-2A2EAD74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0"/>
            <a:ext cx="10080720" cy="37800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28080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D49EE6-ACD3-48A2-A1BC-C8AD404CE5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09520"/>
            <a:ext cx="9217080" cy="2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f57900"/>
                </a:solidFill>
                <a:latin typeface="Bitstream Vera Sans"/>
              </a:rPr>
              <a:t>L’innovazione scientifica a supporto della didittica: </a:t>
            </a:r>
            <a:br>
              <a:rPr sz="2800"/>
            </a:br>
            <a:r>
              <a:rPr b="1" lang="it-IT" sz="2800" spc="-1" strike="noStrike">
                <a:solidFill>
                  <a:srgbClr val="f57900"/>
                </a:solidFill>
                <a:latin typeface="Bitstream Vera Sans"/>
              </a:rPr>
              <a:t>I Comitati Tecnico Scientifici e i Dipartimenti</a:t>
            </a:r>
            <a:br>
              <a:rPr sz="2800"/>
            </a:br>
            <a:endParaRPr b="1" lang="en-US" sz="28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L COMITATO TECNICO SCIENTIF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nalisi di un ca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TIS “A. ROSSI” - VICEN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rrento, 13-15 aprile 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124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Il Modello Proposto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9280" y="1499760"/>
            <a:ext cx="907092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4600" indent="0" algn="just">
              <a:lnSpc>
                <a:spcPct val="8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omposi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8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8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mbri di diri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8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rigente Scolastico (Presid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8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i docenti (designati dal Collegio Docen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84000"/>
              </a:lnSpc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8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mbri rappresent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8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ue rappresentanti di associazioni imprenditoriali (Confindustria e AP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8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rappresentante del Collegio dei Perirti Industr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8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rappresentante dei genitori presenti in Consiglio di Istit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8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rappresentante dell’Univers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8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8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men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8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rappresentanti dei docenti dovrebbero rappresentare i diparti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8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si capisce il ruolo del rappresentante dei gen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8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124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Il Modello Proposto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9280" y="1499760"/>
            <a:ext cx="907092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4600" indent="0" algn="just">
              <a:lnSpc>
                <a:spcPct val="9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Azio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9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9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Ha funzione consultiva generale in ordine all’attività di programmazione ed all’innovazione didattica dell’istituto formulando pareri e proposte al Collegio Docenti ed al Consiglio di Istit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9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pone programmi, anche pluriennali, di ricerca e sviluppo didattico/formativo, in rapporto al sapere, al mondo del lavoro ed all’i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9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volge funzioni di coordinamento tra attività organizzate dalla scuola in collaborazione con le impr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lnSpc>
                <a:spcPct val="9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ffettua monitoraggi e valutazioni sulle citate attività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9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just">
              <a:lnSpc>
                <a:spcPct val="9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Punti di forza .....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7280" y="1091880"/>
            <a:ext cx="9070920" cy="55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atto diretto con il mondo sociale e produt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ggiornamento dei contenuti e delle metodologie didatti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ordinamento delle attività scuola – azien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lutazione degli esiti in usc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Punti di debolezza .....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47280" y="1091880"/>
            <a:ext cx="9070920" cy="55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50720" indent="-45072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blematiche riscontrate nel mondo della scuola (“le aziende vengono a comandarci...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arsa attenzione al contesto socio economico ester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n obbligatoriet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ssun potere decision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…</a:t>
            </a: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..a che punto siamo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000" y="1760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TS dell’ITIS “Rossi” ad oggi si è riunito solamente una volta ed ha iniziato una azione di studio e di revisione delle programmazioni delle discipline tecniche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sua costituzione è stata accolta con molto favore dalle associazioni imprenditoriali, mentre da parte della scuola l’accoglienza è stata piuttosto “tiepida”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razie per l'atten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112320"/>
            <a:ext cx="907128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La realtà territoriale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079280"/>
            <a:ext cx="9070920" cy="57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-26676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rovincia di Vicenza è caratterizzata da un elevato grado di industri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aziende sono per la gran parte di tipo manifatturiero, sviluppate principalmente nei settori della meccanica-meccatronica, del tessile e della metallurg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livelli di disoccupazione, nonostante la crisi degli ultimi anni, sono a livelli molto bas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aziende sono di dimensioni medio-piccole con elevati livelli di tecnolog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olti imprenditori si sono formati al “ROSSI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Un po' di storia.................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.......1878, nasce a Vicenza con Alessandro Rossi il primo Istituto Tecnico Industriale Itali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copo dichiarato della nuova scuola, che sarà capostipite dell'istruzione tecnica italiana, è quello di formare tecnici preparati per coprire ruoli “intermedi” nella nascente industria manifatturi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..........oggi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728720"/>
            <a:ext cx="907092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i fasti degli anni del secondo dopoguerra, durante i quali l'istruzione tecnica ha contribuito a formare i migliori talenti dell'industria italiana, sono seguiti anni di “appannamento” nei quali la scuola si è ripiegata su se stessa con evidente distacco dalla realtà es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lo negli ultimi anni si è riaperto il dialogo con il mondo sociale e produttivo del territo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La realtà interna dall'ITIS Rossi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-26676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'ITIS Rossi attualmente conta 1100 studenti nei corsi diurni e 200 nei corsi se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no presenti 5 specializzazioni (meccanica-meccatronica, informatica-telecomunicazioni, elettrotecnica-elettronica, chim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irca il 50% dei diplomati si iscrive all'università, mentre l'altra metà viene immediatamente assorbito dalle aziende 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 algn="just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6948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I punti di contatto con la realtà produttiva e sociale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03280" y="1728720"/>
            <a:ext cx="907092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76200" indent="-376200" algn="just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n dalle origini il rapporto Rossi-Aziende è molto stretto e di assoluta collabor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 algn="just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 corso degli anni si è cercato di rendere organici i vari contatti intrattenuti dai singoli docenti con varie azien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 algn="just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 sono posti in atto numerose iniziative, a partire dai “vecchi” stage, all'ASL, alla realizzazione di progetti comun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 algn="just"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376200"/>
                <a:tab algn="l" pos="480960"/>
                <a:tab algn="l" pos="930240"/>
                <a:tab algn="l" pos="1379520"/>
                <a:tab algn="l" pos="1828800"/>
                <a:tab algn="l" pos="2278080"/>
                <a:tab algn="l" pos="2727360"/>
                <a:tab algn="l" pos="3176640"/>
                <a:tab algn="l" pos="3625920"/>
                <a:tab algn="l" pos="4075200"/>
                <a:tab algn="l" pos="4524480"/>
                <a:tab algn="l" pos="4973760"/>
                <a:tab algn="l" pos="5423040"/>
                <a:tab algn="l" pos="5872320"/>
                <a:tab algn="l" pos="6321600"/>
                <a:tab algn="l" pos="6770520"/>
                <a:tab algn="l" pos="7219800"/>
                <a:tab algn="l" pos="7669080"/>
                <a:tab algn="l" pos="8118360"/>
                <a:tab algn="l" pos="8567640"/>
                <a:tab algn="l" pos="9016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alizzazione di percorsi post diploma con reti di scuole e aziende e proprio 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piè di pagina 2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"/>
          <p:cNvSpPr/>
          <p:nvPr/>
        </p:nvSpPr>
        <p:spPr>
          <a:xfrm>
            <a:off x="503280" y="279360"/>
            <a:ext cx="90709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Da dove si è partiti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03280" y="1731960"/>
            <a:ext cx="929016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'esigenza di un “organo di progettazione e di proposta” di tipo misto nasce dalla necessità di mantenere stretto il contatto tra quanto si insegna a scuola e le competenze richieste dal mondo industri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critica rivolta dalle aziende alla scuola è quella di non riuscire a fornire agli allievi quanto necessario ad affrontare in modo “indolore” l'ingresso nel mondo del lavo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critica rivolta dalla scuola al mondo del lavoro è quella di non privilegiare una educazione a 360° dei giovani, ma solo una formazione specif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 algn="just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All'inizio si era proposto un CTS........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76000" y="1692000"/>
            <a:ext cx="90709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5040" indent="0" algn="just">
              <a:lnSpc>
                <a:spcPct val="104000"/>
              </a:lnSpc>
              <a:buNone/>
              <a:tabLst>
                <a:tab algn="l" pos="0"/>
                <a:tab algn="l" pos="36504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504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rgano consultivo obbligato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504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rgano paritet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504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rgano di proposta e supporto a dipartimenti e collegi docenti nella progettazione dei curricoli e dei percor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504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rgano di valutazione  delle attività svol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 algn="ctr">
              <a:lnSpc>
                <a:spcPct val="104000"/>
              </a:lnSpc>
              <a:buNone/>
              <a:tabLst>
                <a:tab algn="l" pos="0"/>
                <a:tab algn="l" pos="36504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piè di pagina 3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iorgio Spanevello - ITIS "A. Rossi" V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266400"/>
            <a:ext cx="90709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57900"/>
                </a:solidFill>
                <a:latin typeface="Bitstream Vera Sans"/>
              </a:rPr>
              <a:t>........poi invece il CTS è diventato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909440"/>
            <a:ext cx="9070920" cy="55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240" indent="0" algn="just">
              <a:lnSpc>
                <a:spcPct val="104000"/>
              </a:lnSpc>
              <a:buNone/>
              <a:tabLst>
                <a:tab algn="l" pos="0"/>
                <a:tab algn="l" pos="104760"/>
                <a:tab algn="l" pos="6332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3240" indent="-45072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6332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rgano consultivo non obbligato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3240" indent="-450720" algn="just">
              <a:lnSpc>
                <a:spcPct val="104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6332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rgano non paritetico (quindi con presenza preponderante della scuo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3240" indent="0" algn="just">
              <a:lnSpc>
                <a:spcPct val="104000"/>
              </a:lnSpc>
              <a:buNone/>
              <a:tabLst>
                <a:tab algn="l" pos="0"/>
                <a:tab algn="l" pos="104760"/>
                <a:tab algn="l" pos="6332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3240" indent="0" algn="just">
              <a:lnSpc>
                <a:spcPct val="104000"/>
              </a:lnSpc>
              <a:buNone/>
              <a:tabLst>
                <a:tab algn="l" pos="0"/>
                <a:tab algn="l" pos="104760"/>
                <a:tab algn="l" pos="6332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mmento: si è di fatto svuotato il CTS dell’importanza che avrebbe dovuto avere nel quadro generale della Riforma dell’Istruzione Te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3240" indent="0" algn="just">
              <a:lnSpc>
                <a:spcPct val="104000"/>
              </a:lnSpc>
              <a:buNone/>
              <a:tabLst>
                <a:tab algn="l" pos="0"/>
                <a:tab algn="l" pos="104760"/>
                <a:tab algn="l" pos="6332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0:44:53Z</dcterms:created>
  <dc:creator/>
  <dc:description/>
  <dc:language>en-US</dc:language>
  <cp:lastModifiedBy>pc</cp:lastModifiedBy>
  <dcterms:modified xsi:type="dcterms:W3CDTF">2011-04-12T06:29:56Z</dcterms:modified>
  <cp:revision>55</cp:revision>
  <dc:subject/>
  <dc:title>L’innovazione scientifica a supporto della didittica:  I Comitati Tecnico Scientifici e i Dipartimenti </dc:title>
</cp:coreProperties>
</file>