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20C-4192-4DFE-8153-A0D7476E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1D0-5553-4095-8CB9-6EA882E9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99E-EE9C-44C3-8C39-7143850D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BB5-4EC3-4595-841B-F90132E0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7D1F-3187-426F-869C-12C7BE15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CB86-B912-4E5B-943D-2CF522C5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F047-09D4-45E5-B2E2-9BF06200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5368-D284-4E02-B341-A537899B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D26C-11C0-4E70-96A5-5B17381B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603C-EBD4-4966-978E-E1FF3699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897C-F2B4-4A68-A21B-659425C7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F55-DE1E-47CA-94F2-BEC98AAB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5E1E-3FDA-475C-9E2A-483C6391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E471-E65A-4397-88A8-99CDC7AA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A23F-DCAC-431B-98DB-6F7578FF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BF22-D62E-4D3F-8151-5C4D7B4B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45A7-0007-41A5-9686-C1A671B4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8F1F2-9741-40C0-88F0-E8148368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43FE0-1ADB-4A82-B4E0-DCC7A410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D527D-DBEC-428C-BF04-FDC5F1A1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CB753-B2AA-42E6-870A-0A5E1003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AB5E-C435-4FB5-9423-29B734D1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475-F59D-4EEB-A8D9-95B4F39C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54407-0796-4907-8B73-2D1F442F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E3268-C840-4CD5-8928-F9951FBE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C8F40-E3B1-42BF-A968-72761693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97C3E-56C6-43D8-9EA0-B2EFEEA4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FC8BD-6B1B-47AD-B7B3-9BBC92DE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50F30-076C-4211-A868-713AF28F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4EBB7-C383-4A0D-8B4F-5781B754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341D6-C485-4FF8-B8D9-9114E0EE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620BB-6345-4798-AE90-92326006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6E4E9-924B-4EBC-BBDE-15A9DF1C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555-B869-4A24-86D7-4B305A16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9ACCA-96D9-4C5D-B37F-2EF13CFF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874D7-EF5E-40CA-982B-0310364C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0BE12-8F9A-460B-9F5F-8D483125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46ECD-9012-40A1-84F3-8DEA0F4B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13B9A-BCA5-46DA-8BA6-53C5F5EC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05259-D1E1-424B-B570-6A36CACA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642F2-07E0-4728-B201-0EDC8842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0C168-C4F5-4E7C-B5E3-2E884FF0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0BF48-8FB6-4B30-A33B-D82EC44B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5F824-0710-4673-B1B5-7AA0380B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79C-10FE-4077-B57E-6F1939E2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92168-ED3F-4BEF-B7B3-AE5FA8BB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7AF1E-5067-42F9-9D4C-6D9D1922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07100-35D4-4122-A6DB-1DBB136F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9E055-B0A6-4060-BE44-66206AC6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6EA42-5035-4AFB-A0AD-FFAA2CD6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A4A27-AE15-4054-A71A-C4E588F0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21CC3-6DCC-42C4-9384-595995EC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5B965-1A64-45CF-8C62-CA345D91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67B9E-DB64-469A-B9FF-29BA37C8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07DFA-4A04-406E-9D23-6D6F58FE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EC6-58F2-48D5-A7F5-9BADF4D6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12365-1838-4DB6-A877-57918C0E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874A7-7286-4DE5-9170-E11A6C9C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1A10D-E6A8-4924-B698-8145D28C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62A9C-BBCB-41EA-8577-562E44A2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F6B5A-29B3-49EA-8CBA-C12688DF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6B422-B387-41F8-8136-49311271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8EEF9-D88B-404E-9544-05069565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771D4-7DB4-42FD-B7EE-DCF16C6E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B94F8-4E8E-4202-BDD9-1F3390E9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293AE-E0A5-4A30-A7CC-195CAA2B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2F12-DCCD-4292-8CDD-97A1107A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0A856-85F4-444B-9089-BF775A58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5D79A-9D71-47C9-9C31-46DD4912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8ADDB-43E4-449A-A1FB-B3FBEB6F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4DD22-B3DF-41E8-8B85-C9B97F15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F0ADF-43B3-40E1-9872-884A3A43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DC0B8-84A1-4654-BAA9-AD7471FF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40175-765B-4E53-AC92-DCFF6ACB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8AC1E-0B12-4A19-A28D-C90BDCCE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ADFB8-DEC4-4302-A81F-65715BCF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6E816-9292-49B5-A0F2-D0594C0B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D3F-E7BF-4457-86FD-D9D3DE38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0CDBD-3505-4BBC-BDEF-12185D27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9709E-C8D5-41A5-AD87-37C1FF5C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36B96-82A9-459D-B974-F29C2983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4B7FE-8B85-4FB7-88C5-853E3B6A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9E9FF-F420-4058-89C0-81F13B61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332-8577-4D87-A28B-5842B045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ttangolo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0024-DAE9-471A-BF81-383A22D368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ttangolo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ttangolo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8247-BA33-4256-BE9A-71D2F698FA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ttangolo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ttangolo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2438-E637-4FC8-B55E-2FC4945FFF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8C0F-4387-436C-B5CF-1B0E5783DC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ttangolo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ttangolo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ttangolo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ttangolo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64BD-E228-48D6-984B-092F3F93C4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ttangolo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ttangolo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ttangolo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ttangolo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3221-7704-41A1-B863-76D3BCDE34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ttangolo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ttangolo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207D-C4FD-44D0-B571-E45FC77AF9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0" y="0"/>
            <a:ext cx="914400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P.E.CU.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l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DejaVu Sans"/>
              </a:rPr>
              <a:t>conoscen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 disciplinari e interdisciplinari (il saper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l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DejaVu Sans"/>
              </a:rPr>
              <a:t>abilit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 operative apprese (il fare consapevo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l’insieme delle azioni e delle relazioni interpersonali (l’agir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condizione p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matura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DejaVu Sans"/>
              </a:rPr>
              <a:t>le competen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 che arricchiscono la personalità dello studen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lo rendono autonomo costruttore di se stesso in tutti i campi della esperienza umana, sociale e professiona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457200" y="304920"/>
            <a:ext cx="83818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cessità dei rapporti con il contesto territori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visione di obietti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visione di modali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0" y="0"/>
            <a:ext cx="8991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cuola/mondo del lavo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modalità di attu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testimonianze privileg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visite azienda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micro st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tages (orientativ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lternanza scuola lavo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304920" y="228600"/>
            <a:ext cx="8610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porti con il contesto territori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ze a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etti enti loc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etti alternanza con camere di commer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ziative delle singole scu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533520" y="304920"/>
            <a:ext cx="8229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i di scuola ed alterna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porti con associazioni di rappresenta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ordi “quadro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i tra istituti dello stesso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mensione provinciale e/o region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i  territoria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li, tra istituti di tipo dive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45720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3808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itato Tecnico Scientif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ttura innovativa di cui possono dotarsi gli istituti tecnici, nell’esercizio della loro autonomia didattica e organizzativa,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funzioni consultive e di proposta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 l’organizzazione delle aree di indiriz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utilizzazione degli spazi di autonomia e flessibili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zazione e gestione dell’alterna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’ composto da docenti e da esperti del mondo del lavoro, delle professioni e della ricerca scientifica e tecnologic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CasellaDiTesto 1"/>
          <p:cNvSpPr/>
          <p:nvPr/>
        </p:nvSpPr>
        <p:spPr>
          <a:xfrm>
            <a:off x="250920" y="26028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mbiti di intervento (funzioni consultive e di propos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efinizione delle attività formative e scientifiche da inserire nel P.O.F. e delle relative strategie di azione, con particolare riferimento alle aree di indirizzo e alla progettazione degli spazi di autonomia e flessibili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cquisizione e implementazione di risorse strumentali di interesse didat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biettivi e contenuti dei corsi di formazione e aggiornamento del personale docente, di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stages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aziendali per i docenti, di incontri con esperti provenienti dal mondo del lavoro e della rice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rotocolli di intesa, accordi di programma, convenzioni finalizzate alla realizzazione di interventi specifici per le aree di indiriz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CasellaDiTesto 1"/>
          <p:cNvSpPr/>
          <p:nvPr/>
        </p:nvSpPr>
        <p:spPr>
          <a:xfrm>
            <a:off x="324000" y="26028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sempi di composizione del 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nterni all’istituzione scolastica: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Il D.S., Direttore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ipartiment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Linguaggi, Direttore Dipartimento Scienze Integrate, Direttore Dipartimento Matematica, Direttore Dipartimento Meccanica, Direttore Dipartimento Informatica, Direttore Dipartimento Elettrotecnic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Esterni all’istituzione scolastica: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Rappresentante Confindustria, Rappresentante Camera di Commercio, Presidente Ordine dei Periti, Presidente Ordine degli Ingegneri Frosinone, Rappresentante Università di Cassino (FR), Rappresentante Azienda “Agusta” , Rappresentante Azienda “ Marangoni”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(I.T.I.S. Volta, Frosinon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CasellaDiTesto 1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sempi di composizione del 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irigente Scolastic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, DGSA, n° 1 docente 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Funzione Strumentale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er le attività progettuali di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cuola/Lavoro,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° 2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ocenti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di discipline professionalizzanti con competenze specifiche di progetti relativi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ll’area del Territorio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cuola/Lavor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, Tirocini di Formazione, Dispersione scolastica e Disagio giovan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° 2 esperti esterni del settore produttivo inerenti gli indirizzi di studio dell’Istituto scelti sulla base di una ricognizione delle aziende con cui di recente sono stati realizzati progetti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CTS può, di volta in volta, avvalersi di docenti dell’Istituto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(ITE Pertini, Ro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0" y="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OSCE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ult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l'assimilaz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z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av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'apprendiment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oscen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ie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t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r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ti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v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d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fi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oscen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tte come teoriche e/o pratich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0" y="0"/>
            <a:ext cx="91440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apacità di applicare conoscenze e di utilizzare know­how per portare a termine compiti e risolvere problem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 contesto del Quadro europeo delle qualifiche le abilità sono descritte co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nitive (comprendenti l'uso del pensiero logico, intuitivo e creativo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tiche (comprendenti l'abilità manuale e l'uso di metodi, materiali, strument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0" y="0"/>
            <a:ext cx="91440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E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ovata capacità di utilizzare conoscenze, abilità e capacità personali, sociali e/o metodologiche, in situazioni di lavoro o di studio e nello sviluppo professionale e person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 contesto del Quadro Europeo delle Qualifiche le competenze sono descritte in termini di responsabilità e autonom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0" y="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ttenzione è  ai risultati di apprendimento (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come­based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ach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uttosto c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a durata degli studi (numero di anni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situazioni di apprendimento (formale, informale, non­formal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modalità di insegnamento (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­based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ach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centro è posta la persona che appre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0" y="0"/>
            <a:ext cx="91440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l’utilizzo 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metodi indutti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metodologie partecip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una intensa e diffusa didattica di laborato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tecnologie dell’informazione e della comunic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attività progettua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alternanza scuola­lavoro per sviluppare il rapporto col territorio e le sue  risorse formative  in ambito aziendale e soci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0"/>
            <a:ext cx="9144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percorsi in alternanza sono progettati, attuati, verificati e valutati, sotto la responsabilità dell'istituzione scola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lla base di apposite convenzioni c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impr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rispettive associazioni di rappresenta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amere di commercio, industria, artigianato e agrico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i pubblici e priva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52280" y="152280"/>
            <a:ext cx="87631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it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uare modalità di apprendimento flessibili e equivalenti sotto il profilo culturale ed educativo, rispetto agli esiti dei percorsi del secondo ciclo, che colleghino sistematicamente la formazione in aula con l'esperienza pra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icchire la formazione acquisita nei percorsi scolastici e formativi con l'acquisizione di competenze spendibili anche nel mercato del lavo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vorire l'orientamento dei giovani per valorizzarne le vocazioni personali, gli interessi e gli stili di apprendimento individu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zare un organico collegamento delle istituzioni scolastiche e formative con il mondo del lavoro e la società civi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lare l'offerta formativa allo sviluppo culturale, sociale ed economico del territori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026"/>
          <p:cNvSpPr/>
          <p:nvPr/>
        </p:nvSpPr>
        <p:spPr>
          <a:xfrm>
            <a:off x="380880" y="304920"/>
            <a:ext cx="84582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cessità dei rapporti con il contesto territori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facilita uno scambio di informazioni continuamente aggiorna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sui fabbisogni professionali e formativi delle impr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sulla reale "spendibilità" dei titoli di studio nel mercato del lavo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sulle prospettive di sviluppo delle professio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sulle competenze specifiche richieste dal sistema produt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sulle condizioni migliori per organizzare efficacemente gli spazi di autonomia e di flessibilità che tali scuole hanno a disposizione</a:t>
            </a:r>
            <a:r>
              <a:rPr b="0" lang="en-US" sz="2400" spc="-1" strike="noStrike">
                <a:solidFill>
                  <a:srgbClr val="ffffff"/>
                </a:solidFill>
                <a:latin typeface="DejaVu Sans"/>
                <a:ea typeface="DejaVu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0:31:29Z</dcterms:created>
  <dc:creator>Umberto Nobili</dc:creator>
  <dc:description/>
  <dc:language>en-US</dc:language>
  <cp:lastModifiedBy>Umberto Nobili</cp:lastModifiedBy>
  <dcterms:modified xsi:type="dcterms:W3CDTF">2011-05-03T07:28:02Z</dcterms:modified>
  <cp:revision>24</cp:revision>
  <dc:subject/>
  <dc:title>Presentazione di PowerPoint</dc:title>
</cp:coreProperties>
</file>