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click.wav" ContentType="audio/x-wav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1A7-6F96-48AC-A1A2-5708B746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F0C-8BC8-42BF-A486-7739786E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AC0-EC79-43D5-875D-192932B8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320-BE11-4C1D-B35A-B9A63B46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4B24-7C7C-4B16-9534-587BAB6F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11BF-252E-44AB-A73D-C69FC4F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1B9C-1F55-4595-8015-62CFC076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9555-7FBC-47BE-9C31-CDC5DBCF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FC34-A5E7-4339-85FE-94335583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4AF9-B729-4720-80BE-D028BCB7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285E-DEDA-49C2-9921-6BE88185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843-114C-4F66-885A-9CCD7EC5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72F8-F7AC-4B48-B955-F14B9D60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379E-438E-428E-8A02-745B0DFD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52CC-4F8C-42A0-B781-D2961809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2631-E25E-4837-AB8A-022BC054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CDD8-DE39-47D8-80EB-C5B0C2A8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12AA-AFB1-44B4-B1B4-63C1DD0D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67DE9-BE2D-492B-AE0E-3BA1F48F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BAFF-F1EA-4798-A292-1BED19F3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3DC1C-1F8B-44B7-985B-A4EA308A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AF43-F622-4426-8A30-75FCC17E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967-DC36-4FFE-94B6-F95E4057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6BB79-C074-4600-B5F0-3D34717C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316A-F334-4A57-A208-BB834777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368F-88AD-46F5-BC43-E7319B49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E297-B185-4624-BC23-E31F9C7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F3C44-288E-46C2-9684-74FD7774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4217-AE9A-46BE-8571-07548782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6D35B-FEAB-4273-B7D6-181C9E23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3838-D305-4972-8FA3-58242D66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954DA-3CFE-4521-B85E-DF6F1ED4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F19C-D790-44A9-B0A0-59662B3C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C30-28E3-460A-91C8-E82536FD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E6FE-8EFB-4686-AAFC-F295659C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15B5F-D292-4A58-9336-2894073D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4E7C-9762-44FC-866B-F01D301B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489EC-30E1-4556-98C2-F262BC44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A9109-932B-457F-95FC-D5FD0B0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3421-01F7-4C24-B5D5-A860BE83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2A9D1-526F-45EE-9731-B8C3717A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89602-9886-48A6-B925-DB30D421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7C990-9835-4734-9293-79026CD2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6ED-4B36-4CEA-9204-83EACB48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3E7-D2A8-4B46-82F3-6D90C380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B0F-FD0F-4366-95C9-C874C2B3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E22-2373-4190-8278-ECCFD0D6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B73-38D1-42D7-89FB-3F16FFCE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627B-EAAA-4894-937C-1A204BB5BA6E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6E47-9D47-419B-B738-32E372873B44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C0C0-7B9E-4A58-948B-EE65C6E0237A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31C4-B87C-4D22-B5B6-C32343ECC657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7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5.png"/><Relationship Id="rId4" Type="http://schemas.openxmlformats.org/officeDocument/2006/relationships/image" Target="../media/image22.png"/><Relationship Id="rId5" Type="http://schemas.openxmlformats.org/officeDocument/2006/relationships/image" Target="../media/image17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7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laborazione 5"/>
          <p:cNvSpPr/>
          <p:nvPr/>
        </p:nvSpPr>
        <p:spPr>
          <a:xfrm>
            <a:off x="2286000" y="3500280"/>
            <a:ext cx="1928880" cy="107172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Rounded MT Bold"/>
              </a:rPr>
              <a:t>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Rounded MT Bold"/>
              </a:rPr>
              <a:t>D’ISTIT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aborazione 7"/>
          <p:cNvSpPr/>
          <p:nvPr/>
        </p:nvSpPr>
        <p:spPr>
          <a:xfrm>
            <a:off x="3071880" y="1785960"/>
            <a:ext cx="3429000" cy="121428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Rounded MT Bold"/>
              </a:rPr>
              <a:t>Struttura fless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laborazione 8"/>
          <p:cNvSpPr/>
          <p:nvPr/>
        </p:nvSpPr>
        <p:spPr>
          <a:xfrm>
            <a:off x="5429160" y="3500280"/>
            <a:ext cx="1928880" cy="107172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Rounded MT Bold"/>
              </a:rPr>
              <a:t>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Rounded MT Bold"/>
              </a:rPr>
              <a:t>DI  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onnettore 1 10"/>
          <p:cNvSpPr/>
          <p:nvPr/>
        </p:nvSpPr>
        <p:spPr>
          <a:xfrm flipH="1">
            <a:off x="3249720" y="3000240"/>
            <a:ext cx="1536480" cy="500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nettore 1 12"/>
          <p:cNvSpPr/>
          <p:nvPr/>
        </p:nvSpPr>
        <p:spPr>
          <a:xfrm>
            <a:off x="4785480" y="3000240"/>
            <a:ext cx="1608120" cy="500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laborazione alternativa 14"/>
          <p:cNvSpPr/>
          <p:nvPr/>
        </p:nvSpPr>
        <p:spPr>
          <a:xfrm>
            <a:off x="285840" y="4929120"/>
            <a:ext cx="8572320" cy="15001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Il C.T.S. di Rete,  ha maggiore capacità  di esercitare il ruolo di interlocutore  significativo e credibile nel raccordo fra scuola e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Rettangolo 20" descr=""/>
          <p:cNvPicPr/>
          <p:nvPr/>
        </p:nvPicPr>
        <p:blipFill>
          <a:blip r:embed="rId2"/>
          <a:stretch/>
        </p:blipFill>
        <p:spPr>
          <a:xfrm>
            <a:off x="353880" y="176040"/>
            <a:ext cx="8436240" cy="1420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Rettangolo 4"/>
          <p:cNvGrpSpPr/>
          <p:nvPr/>
        </p:nvGrpSpPr>
        <p:grpSpPr>
          <a:xfrm>
            <a:off x="23760" y="1322280"/>
            <a:ext cx="9016920" cy="5359680"/>
            <a:chOff x="23760" y="1322280"/>
            <a:chExt cx="9016920" cy="5359680"/>
          </a:xfrm>
        </p:grpSpPr>
        <p:pic>
          <p:nvPicPr>
            <p:cNvPr id="253" name="Rettangolo 4" descr=""/>
            <p:cNvPicPr/>
            <p:nvPr/>
          </p:nvPicPr>
          <p:blipFill>
            <a:blip r:embed="rId2"/>
            <a:stretch/>
          </p:blipFill>
          <p:spPr>
            <a:xfrm>
              <a:off x="23760" y="1322280"/>
              <a:ext cx="9016920" cy="535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42920" y="1357200"/>
              <a:ext cx="878688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2303e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2303e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2303e"/>
                  </a:solidFill>
                  <a:latin typeface="Arial Rounded MT Bold"/>
                </a:rPr>
                <a:t>COSTITUZIONE DI C.T.S. DI R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2303e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2303e"/>
                  </a:solidFill>
                  <a:latin typeface="Arial Rounded MT Bold"/>
                </a:rPr>
                <a:t>ANALISI SUI LIVELLI OCCUPAZIONALI E SULLO SVILUPPO DELLE REALTÀ PRODUTTIVE E DEI SERVIZI DISTINTE PER SETTORI A LIVELLO LO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2303e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2303e"/>
                  </a:solidFill>
                  <a:latin typeface="Arial Rounded MT Bold"/>
                </a:rPr>
                <a:t>SUPPORTO AL COLLEGIO DOCENTI NELLA CURVATURA DELLE AREE DI INDIRIZZO E NELLA PRATICA DIDATTICA FINALIZZATA ALLA CERTIFICAZIONE DELLE COMPETENZE ATTRAVERSO L’OSSERVAZIONE DI COMPORTAMENTI TRASFERIBILI IN ALTRI CONTES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2303e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2303e"/>
                  </a:solidFill>
                  <a:latin typeface="Arial Rounded MT Bold"/>
                </a:rPr>
                <a:t>SUPPORTO  ALLA FORMAZIONE DEI DOCENT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2303e"/>
                </a:buClr>
                <a:buFont typeface="Arial Rounded MT Bold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2303e"/>
                  </a:solidFill>
                  <a:latin typeface="Arial Rounded MT Bold"/>
                </a:rPr>
                <a:t>POTENZIAMENTO DELLA DIDATTICA ORIENTATIVA ATTRAVERSO L’ALTERNANZA SCUOLA LAVO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2303e"/>
                  </a:solidFill>
                  <a:latin typeface="Arial Rounded MT Bold"/>
                </a:rPr>
                <a:t>COLLABORAZIONE TRA GLI ENTI LOCALI E I C.T.S. OPERANTI ATTRAVERSO UN’ALLEANZA DI RETI TERRITORIALI DI ISTITUTI DI STESSA TIPOLO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Goccia 20" descr=""/>
          <p:cNvPicPr/>
          <p:nvPr/>
        </p:nvPicPr>
        <p:blipFill>
          <a:blip r:embed="rId3"/>
          <a:stretch/>
        </p:blipFill>
        <p:spPr>
          <a:xfrm>
            <a:off x="5291280" y="-36360"/>
            <a:ext cx="3925800" cy="1846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4" name="click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ttangolo 20" descr=""/>
          <p:cNvPicPr/>
          <p:nvPr/>
        </p:nvPicPr>
        <p:blipFill>
          <a:blip r:embed="rId2"/>
          <a:stretch/>
        </p:blipFill>
        <p:spPr>
          <a:xfrm>
            <a:off x="353880" y="176040"/>
            <a:ext cx="8436240" cy="1146240"/>
          </a:xfrm>
          <a:prstGeom prst="rect">
            <a:avLst/>
          </a:prstGeom>
          <a:ln w="0">
            <a:noFill/>
          </a:ln>
        </p:spPr>
      </p:pic>
      <p:pic>
        <p:nvPicPr>
          <p:cNvPr id="203" name="Rettangolo 28" descr=""/>
          <p:cNvPicPr/>
          <p:nvPr/>
        </p:nvPicPr>
        <p:blipFill>
          <a:blip r:embed="rId3"/>
          <a:stretch/>
        </p:blipFill>
        <p:spPr>
          <a:xfrm>
            <a:off x="420840" y="1420920"/>
            <a:ext cx="8302320" cy="1285920"/>
          </a:xfrm>
          <a:prstGeom prst="rect">
            <a:avLst/>
          </a:prstGeom>
          <a:ln w="0">
            <a:noFill/>
          </a:ln>
        </p:spPr>
      </p:pic>
      <p:pic>
        <p:nvPicPr>
          <p:cNvPr id="204" name="Rettangolo 35" descr=""/>
          <p:cNvPicPr/>
          <p:nvPr/>
        </p:nvPicPr>
        <p:blipFill>
          <a:blip r:embed="rId4"/>
          <a:stretch/>
        </p:blipFill>
        <p:spPr>
          <a:xfrm>
            <a:off x="341280" y="2914560"/>
            <a:ext cx="8461440" cy="3552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5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ttangolo 20" descr=""/>
          <p:cNvPicPr/>
          <p:nvPr/>
        </p:nvPicPr>
        <p:blipFill>
          <a:blip r:embed="rId2"/>
          <a:stretch/>
        </p:blipFill>
        <p:spPr>
          <a:xfrm>
            <a:off x="353880" y="176040"/>
            <a:ext cx="8436240" cy="1420920"/>
          </a:xfrm>
          <a:prstGeom prst="rect">
            <a:avLst/>
          </a:prstGeom>
          <a:ln w="0">
            <a:noFill/>
          </a:ln>
        </p:spPr>
      </p:pic>
      <p:sp>
        <p:nvSpPr>
          <p:cNvPr id="206" name="Rettangolo 6"/>
          <p:cNvSpPr/>
          <p:nvPr/>
        </p:nvSpPr>
        <p:spPr>
          <a:xfrm>
            <a:off x="357120" y="185724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f6fc6"/>
                </a:solidFill>
                <a:latin typeface="Arial Rounded MT Bold"/>
              </a:rPr>
              <a:t>Il C.T.S. contribuisce all’elaborazione di Linee di indirizzo che si avvalgono delle competenze e del contributo del contesto socio-economico e culturale con cui la scuola interagis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ttangolo 20" descr=""/>
          <p:cNvPicPr/>
          <p:nvPr/>
        </p:nvPicPr>
        <p:blipFill>
          <a:blip r:embed="rId2"/>
          <a:stretch/>
        </p:blipFill>
        <p:spPr>
          <a:xfrm>
            <a:off x="353880" y="176040"/>
            <a:ext cx="8436240" cy="1420920"/>
          </a:xfrm>
          <a:prstGeom prst="rect">
            <a:avLst/>
          </a:prstGeom>
          <a:ln w="0">
            <a:noFill/>
          </a:ln>
        </p:spPr>
      </p:pic>
      <p:pic>
        <p:nvPicPr>
          <p:cNvPr id="208" name="Rettangolo 28" descr=""/>
          <p:cNvPicPr/>
          <p:nvPr/>
        </p:nvPicPr>
        <p:blipFill>
          <a:blip r:embed="rId3"/>
          <a:stretch/>
        </p:blipFill>
        <p:spPr>
          <a:xfrm>
            <a:off x="268200" y="1420920"/>
            <a:ext cx="860112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4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Rettangolo 4"/>
          <p:cNvGrpSpPr/>
          <p:nvPr/>
        </p:nvGrpSpPr>
        <p:grpSpPr>
          <a:xfrm>
            <a:off x="390600" y="512640"/>
            <a:ext cx="8504280" cy="5980320"/>
            <a:chOff x="390600" y="512640"/>
            <a:chExt cx="8504280" cy="5980320"/>
          </a:xfrm>
        </p:grpSpPr>
        <p:pic>
          <p:nvPicPr>
            <p:cNvPr id="210" name="Rettangolo 4" descr=""/>
            <p:cNvPicPr/>
            <p:nvPr/>
          </p:nvPicPr>
          <p:blipFill>
            <a:blip r:embed="rId2"/>
            <a:stretch/>
          </p:blipFill>
          <p:spPr>
            <a:xfrm>
              <a:off x="390600" y="512640"/>
              <a:ext cx="8504280" cy="59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11280" y="549360"/>
              <a:ext cx="8064360" cy="58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83763"/>
                  </a:solidFill>
                  <a:latin typeface="Arial Rounded MT Bold"/>
                </a:rPr>
                <a:t>La didattica efficace è espressione del circolo virtuoso fra il momento dell’analisi/progettazione/ realizzazione dei percorsi formativi e quello della valutazione ed autovalutazi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83763"/>
                  </a:solidFill>
                  <a:latin typeface="Arial Rounded MT Bold"/>
                </a:rPr>
                <a:t>DE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 u="sng">
                  <a:solidFill>
                    <a:srgbClr val="083763"/>
                  </a:solidFill>
                  <a:uFillTx/>
                  <a:latin typeface="Arial Rounded MT Bold"/>
                </a:rPr>
                <a:t>focalizzare il tema della trasferibilità di quanto appreso in contesti esterni alla scuola</a:t>
              </a:r>
              <a:r>
                <a:rPr b="1" lang="it-IT" sz="3200" spc="-1" strike="noStrike" u="sng">
                  <a:solidFill>
                    <a:srgbClr val="ffffff"/>
                  </a:solidFill>
                  <a:uFillTx/>
                  <a:latin typeface="Arial Rounded MT Bold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ttangolo 20" descr=""/>
          <p:cNvPicPr/>
          <p:nvPr/>
        </p:nvPicPr>
        <p:blipFill>
          <a:blip r:embed="rId2"/>
          <a:stretch/>
        </p:blipFill>
        <p:spPr>
          <a:xfrm>
            <a:off x="353880" y="176040"/>
            <a:ext cx="8436240" cy="1146240"/>
          </a:xfrm>
          <a:prstGeom prst="rect">
            <a:avLst/>
          </a:prstGeom>
          <a:ln w="0">
            <a:noFill/>
          </a:ln>
        </p:spPr>
      </p:pic>
      <p:grpSp>
        <p:nvGrpSpPr>
          <p:cNvPr id="213" name="Rettangolo 4"/>
          <p:cNvGrpSpPr/>
          <p:nvPr/>
        </p:nvGrpSpPr>
        <p:grpSpPr>
          <a:xfrm>
            <a:off x="1066680" y="1390680"/>
            <a:ext cx="6864480" cy="1206360"/>
            <a:chOff x="1066680" y="1390680"/>
            <a:chExt cx="6864480" cy="1206360"/>
          </a:xfrm>
        </p:grpSpPr>
        <p:pic>
          <p:nvPicPr>
            <p:cNvPr id="214" name="Rettangolo 4" descr=""/>
            <p:cNvPicPr/>
            <p:nvPr/>
          </p:nvPicPr>
          <p:blipFill>
            <a:blip r:embed="rId3"/>
            <a:stretch/>
          </p:blipFill>
          <p:spPr>
            <a:xfrm>
              <a:off x="1066680" y="1390680"/>
              <a:ext cx="686448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143000" y="1428840"/>
              <a:ext cx="671508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83763"/>
                  </a:solidFill>
                  <a:latin typeface="Arial Rounded MT Bold"/>
                  <a:ea typeface="Times New Roman"/>
                </a:rPr>
                <a:t>PROPOSTE E VALUTAZIONI DEI PROFILI PROFESSIONAL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Rettangolo 7"/>
          <p:cNvGrpSpPr/>
          <p:nvPr/>
        </p:nvGrpSpPr>
        <p:grpSpPr>
          <a:xfrm>
            <a:off x="341280" y="3676680"/>
            <a:ext cx="8534520" cy="3029040"/>
            <a:chOff x="341280" y="3676680"/>
            <a:chExt cx="8534520" cy="3029040"/>
          </a:xfrm>
        </p:grpSpPr>
        <p:pic>
          <p:nvPicPr>
            <p:cNvPr id="217" name="Rettangolo 7" descr=""/>
            <p:cNvPicPr/>
            <p:nvPr/>
          </p:nvPicPr>
          <p:blipFill>
            <a:blip r:embed="rId4"/>
            <a:stretch/>
          </p:blipFill>
          <p:spPr>
            <a:xfrm>
              <a:off x="341280" y="3676680"/>
              <a:ext cx="853452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00040" y="3714840"/>
              <a:ext cx="8215200" cy="28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83763"/>
                  </a:solidFill>
                  <a:latin typeface="Arial Rounded MT Bold"/>
                </a:rPr>
                <a:t>Con specifico riferimento ai percorsi triennali di Istruzione e Formazione professionale, all’interno delle macro-aree dei profili delle qualifiche triennali, il C.T.S. è in grado di definire proposte sul profilo di professionalità specifiche. A supporto della pratica didattica è in grado di indicare comportamenti operativi che caratterizzano la figura professiona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Freccia a destra 9"/>
          <p:cNvGrpSpPr/>
          <p:nvPr/>
        </p:nvGrpSpPr>
        <p:grpSpPr>
          <a:xfrm>
            <a:off x="4280040" y="2610000"/>
            <a:ext cx="730080" cy="1150920"/>
            <a:chOff x="4280040" y="2610000"/>
            <a:chExt cx="730080" cy="1150920"/>
          </a:xfrm>
        </p:grpSpPr>
        <p:pic>
          <p:nvPicPr>
            <p:cNvPr id="220" name="Freccia a destra 9" descr=""/>
            <p:cNvPicPr/>
            <p:nvPr/>
          </p:nvPicPr>
          <p:blipFill>
            <a:blip r:embed="rId5"/>
            <a:stretch/>
          </p:blipFill>
          <p:spPr>
            <a:xfrm>
              <a:off x="4280040" y="2610000"/>
              <a:ext cx="7300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 rot="5400000">
              <a:off x="4214520" y="2928960"/>
              <a:ext cx="857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  <p:sndAc>
      <p:stSnd>
        <p:snd r:embed="rId6" name="click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ttangolo 20" descr=""/>
          <p:cNvPicPr/>
          <p:nvPr/>
        </p:nvPicPr>
        <p:blipFill>
          <a:blip r:embed="rId2"/>
          <a:stretch/>
        </p:blipFill>
        <p:spPr>
          <a:xfrm>
            <a:off x="353880" y="176040"/>
            <a:ext cx="8436240" cy="1146240"/>
          </a:xfrm>
          <a:prstGeom prst="rect">
            <a:avLst/>
          </a:prstGeom>
          <a:ln w="0">
            <a:noFill/>
          </a:ln>
        </p:spPr>
      </p:pic>
      <p:grpSp>
        <p:nvGrpSpPr>
          <p:cNvPr id="223" name="Rettangolo 4"/>
          <p:cNvGrpSpPr/>
          <p:nvPr/>
        </p:nvGrpSpPr>
        <p:grpSpPr>
          <a:xfrm>
            <a:off x="1066680" y="1390680"/>
            <a:ext cx="6864480" cy="1206360"/>
            <a:chOff x="1066680" y="1390680"/>
            <a:chExt cx="6864480" cy="1206360"/>
          </a:xfrm>
        </p:grpSpPr>
        <p:pic>
          <p:nvPicPr>
            <p:cNvPr id="224" name="Rettangolo 4" descr=""/>
            <p:cNvPicPr/>
            <p:nvPr/>
          </p:nvPicPr>
          <p:blipFill>
            <a:blip r:embed="rId3"/>
            <a:stretch/>
          </p:blipFill>
          <p:spPr>
            <a:xfrm>
              <a:off x="1066680" y="1390680"/>
              <a:ext cx="686448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1143000" y="1428840"/>
              <a:ext cx="671508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83763"/>
                  </a:solidFill>
                  <a:latin typeface="Arial Rounded MT Bold"/>
                  <a:ea typeface="Times New Roman"/>
                </a:rPr>
                <a:t>PIANO DI FORMAZIO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83763"/>
                  </a:solidFill>
                  <a:latin typeface="Arial Rounded MT Bold"/>
                  <a:ea typeface="Times New Roman"/>
                </a:rPr>
                <a:t>DEL PERSONALE DOCENT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Rettangolo 7"/>
          <p:cNvGrpSpPr/>
          <p:nvPr/>
        </p:nvGrpSpPr>
        <p:grpSpPr>
          <a:xfrm>
            <a:off x="341280" y="3676680"/>
            <a:ext cx="8534520" cy="2504880"/>
            <a:chOff x="341280" y="3676680"/>
            <a:chExt cx="8534520" cy="2504880"/>
          </a:xfrm>
        </p:grpSpPr>
        <p:pic>
          <p:nvPicPr>
            <p:cNvPr id="227" name="Rettangolo 7" descr=""/>
            <p:cNvPicPr/>
            <p:nvPr/>
          </p:nvPicPr>
          <p:blipFill>
            <a:blip r:embed="rId4"/>
            <a:stretch/>
          </p:blipFill>
          <p:spPr>
            <a:xfrm>
              <a:off x="341280" y="3676680"/>
              <a:ext cx="853452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00040" y="3714840"/>
              <a:ext cx="821520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83763"/>
                  </a:solidFill>
                  <a:latin typeface="Arial Rounded MT Bold"/>
                </a:rPr>
                <a:t>Osmosi fra scuola e realtà produttive del territorio attraverso la formazione dei diretti responsabili della programmazione dei processi formativi e didattici della scuola all’interno di realtà aziendali e produttiv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Freccia a destra 9"/>
          <p:cNvGrpSpPr/>
          <p:nvPr/>
        </p:nvGrpSpPr>
        <p:grpSpPr>
          <a:xfrm>
            <a:off x="4280040" y="2610000"/>
            <a:ext cx="730080" cy="1150920"/>
            <a:chOff x="4280040" y="2610000"/>
            <a:chExt cx="730080" cy="1150920"/>
          </a:xfrm>
        </p:grpSpPr>
        <p:pic>
          <p:nvPicPr>
            <p:cNvPr id="230" name="Freccia a destra 9" descr=""/>
            <p:cNvPicPr/>
            <p:nvPr/>
          </p:nvPicPr>
          <p:blipFill>
            <a:blip r:embed="rId5"/>
            <a:stretch/>
          </p:blipFill>
          <p:spPr>
            <a:xfrm>
              <a:off x="4280040" y="2610000"/>
              <a:ext cx="7300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rot="5400000">
              <a:off x="4214520" y="2928960"/>
              <a:ext cx="857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  <p:sndAc>
      <p:stSnd>
        <p:snd r:embed="rId6" name="click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ttangolo 20" descr=""/>
          <p:cNvPicPr/>
          <p:nvPr/>
        </p:nvPicPr>
        <p:blipFill>
          <a:blip r:embed="rId2"/>
          <a:stretch/>
        </p:blipFill>
        <p:spPr>
          <a:xfrm>
            <a:off x="353880" y="176040"/>
            <a:ext cx="8436240" cy="1146240"/>
          </a:xfrm>
          <a:prstGeom prst="rect">
            <a:avLst/>
          </a:prstGeom>
          <a:ln w="0">
            <a:noFill/>
          </a:ln>
        </p:spPr>
      </p:pic>
      <p:grpSp>
        <p:nvGrpSpPr>
          <p:cNvPr id="233" name="Rettangolo 4"/>
          <p:cNvGrpSpPr/>
          <p:nvPr/>
        </p:nvGrpSpPr>
        <p:grpSpPr>
          <a:xfrm>
            <a:off x="1066680" y="1390680"/>
            <a:ext cx="6864480" cy="1206360"/>
            <a:chOff x="1066680" y="1390680"/>
            <a:chExt cx="6864480" cy="1206360"/>
          </a:xfrm>
        </p:grpSpPr>
        <p:pic>
          <p:nvPicPr>
            <p:cNvPr id="234" name="Rettangolo 4" descr=""/>
            <p:cNvPicPr/>
            <p:nvPr/>
          </p:nvPicPr>
          <p:blipFill>
            <a:blip r:embed="rId3"/>
            <a:stretch/>
          </p:blipFill>
          <p:spPr>
            <a:xfrm>
              <a:off x="1066680" y="1390680"/>
              <a:ext cx="686448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143000" y="1428840"/>
              <a:ext cx="671508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83763"/>
                  </a:solidFill>
                  <a:latin typeface="Arial Rounded MT Bold"/>
                  <a:ea typeface="Times New Roman"/>
                </a:rPr>
                <a:t>ALTERNANZA SCUOLA –LAVOR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83763"/>
                  </a:solidFill>
                  <a:latin typeface="Arial Rounded MT Bold"/>
                  <a:ea typeface="Times New Roman"/>
                </a:rPr>
                <a:t>ORIENTAMEN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Rettangolo 7"/>
          <p:cNvGrpSpPr/>
          <p:nvPr/>
        </p:nvGrpSpPr>
        <p:grpSpPr>
          <a:xfrm>
            <a:off x="371520" y="3749760"/>
            <a:ext cx="8400960" cy="2504880"/>
            <a:chOff x="371520" y="3749760"/>
            <a:chExt cx="8400960" cy="2504880"/>
          </a:xfrm>
        </p:grpSpPr>
        <p:pic>
          <p:nvPicPr>
            <p:cNvPr id="237" name="Rettangolo 7" descr=""/>
            <p:cNvPicPr/>
            <p:nvPr/>
          </p:nvPicPr>
          <p:blipFill>
            <a:blip r:embed="rId4"/>
            <a:stretch/>
          </p:blipFill>
          <p:spPr>
            <a:xfrm>
              <a:off x="371520" y="3749760"/>
              <a:ext cx="84009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00040" y="3786120"/>
              <a:ext cx="814392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83763"/>
                  </a:solidFill>
                  <a:latin typeface="Arial Rounded MT Bold"/>
                </a:rPr>
                <a:t>Offre l’opportunità di misurare l’efficacia del percorso scolastico in termini di trasferibilità degli apprendimenti in contesti differenti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83763"/>
                  </a:solidFill>
                  <a:latin typeface="Arial Rounded MT Bold"/>
                </a:rPr>
                <a:t>Amplifica la funzione orientativa della didattica, creando le condizioni affinché lo studente possa sperimentare la realtà lavorativa ed autovalutare attitudini, capacità e competenze per reindirizzare il proprio percorso formativo in modo consapevo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Freccia a destra 9"/>
          <p:cNvGrpSpPr/>
          <p:nvPr/>
        </p:nvGrpSpPr>
        <p:grpSpPr>
          <a:xfrm>
            <a:off x="4280040" y="2610000"/>
            <a:ext cx="730080" cy="1150920"/>
            <a:chOff x="4280040" y="2610000"/>
            <a:chExt cx="730080" cy="1150920"/>
          </a:xfrm>
        </p:grpSpPr>
        <p:pic>
          <p:nvPicPr>
            <p:cNvPr id="240" name="Freccia a destra 9" descr=""/>
            <p:cNvPicPr/>
            <p:nvPr/>
          </p:nvPicPr>
          <p:blipFill>
            <a:blip r:embed="rId5"/>
            <a:stretch/>
          </p:blipFill>
          <p:spPr>
            <a:xfrm>
              <a:off x="4280040" y="2610000"/>
              <a:ext cx="7300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 rot="5400000">
              <a:off x="4214520" y="2928960"/>
              <a:ext cx="857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  <p:sndAc>
      <p:stSnd>
        <p:snd r:embed="rId6" name="click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ttangolo 20" descr=""/>
          <p:cNvPicPr/>
          <p:nvPr/>
        </p:nvPicPr>
        <p:blipFill>
          <a:blip r:embed="rId2"/>
          <a:stretch/>
        </p:blipFill>
        <p:spPr>
          <a:xfrm>
            <a:off x="353880" y="176040"/>
            <a:ext cx="8436240" cy="1146240"/>
          </a:xfrm>
          <a:prstGeom prst="rect">
            <a:avLst/>
          </a:prstGeom>
          <a:ln w="0">
            <a:noFill/>
          </a:ln>
        </p:spPr>
      </p:pic>
      <p:grpSp>
        <p:nvGrpSpPr>
          <p:cNvPr id="243" name="Rettangolo 4"/>
          <p:cNvGrpSpPr/>
          <p:nvPr/>
        </p:nvGrpSpPr>
        <p:grpSpPr>
          <a:xfrm>
            <a:off x="950760" y="1390680"/>
            <a:ext cx="6980400" cy="1206360"/>
            <a:chOff x="950760" y="1390680"/>
            <a:chExt cx="6980400" cy="1206360"/>
          </a:xfrm>
        </p:grpSpPr>
        <p:pic>
          <p:nvPicPr>
            <p:cNvPr id="244" name="Rettangolo 4" descr=""/>
            <p:cNvPicPr/>
            <p:nvPr/>
          </p:nvPicPr>
          <p:blipFill>
            <a:blip r:embed="rId3"/>
            <a:stretch/>
          </p:blipFill>
          <p:spPr>
            <a:xfrm>
              <a:off x="950760" y="1390680"/>
              <a:ext cx="698040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143000" y="1428840"/>
              <a:ext cx="671508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83763"/>
                  </a:solidFill>
                  <a:latin typeface="Arial Rounded MT Bold"/>
                  <a:ea typeface="Times New Roman"/>
                </a:rPr>
                <a:t>RACCORDO CON GLI ENTI LOCAL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Rettangolo 7"/>
          <p:cNvGrpSpPr/>
          <p:nvPr/>
        </p:nvGrpSpPr>
        <p:grpSpPr>
          <a:xfrm>
            <a:off x="371520" y="3676680"/>
            <a:ext cx="8474040" cy="2816280"/>
            <a:chOff x="371520" y="3676680"/>
            <a:chExt cx="8474040" cy="2816280"/>
          </a:xfrm>
        </p:grpSpPr>
        <p:pic>
          <p:nvPicPr>
            <p:cNvPr id="247" name="Rettangolo 7" descr=""/>
            <p:cNvPicPr/>
            <p:nvPr/>
          </p:nvPicPr>
          <p:blipFill>
            <a:blip r:embed="rId4"/>
            <a:stretch/>
          </p:blipFill>
          <p:spPr>
            <a:xfrm>
              <a:off x="371520" y="3676680"/>
              <a:ext cx="847404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00040" y="3714840"/>
              <a:ext cx="821520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2303e"/>
                  </a:solidFill>
                  <a:latin typeface="Arial Rounded MT Bold"/>
                </a:rPr>
                <a:t>Per contribuire a realizzare un Piano di Razionalizzazione efficace ed un’offerta formativa di qualità, utile ed innovativa,  frutto di un’indagine sui fabbisogni e livelli occupazionali, di una ricognizione del dislocamento degli istituti nel territorio e della loro capacità di differenziazione, risulta strategica la collaborazione tra gli Enti Locali e i C.T.S., operanti attraverso un’alleanza di Reti territoriali di Istituti di stessa tipologia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Freccia a destra 9"/>
          <p:cNvGrpSpPr/>
          <p:nvPr/>
        </p:nvGrpSpPr>
        <p:grpSpPr>
          <a:xfrm>
            <a:off x="4280040" y="2610000"/>
            <a:ext cx="730080" cy="1150920"/>
            <a:chOff x="4280040" y="2610000"/>
            <a:chExt cx="730080" cy="1150920"/>
          </a:xfrm>
        </p:grpSpPr>
        <p:pic>
          <p:nvPicPr>
            <p:cNvPr id="250" name="Freccia a destra 9" descr=""/>
            <p:cNvPicPr/>
            <p:nvPr/>
          </p:nvPicPr>
          <p:blipFill>
            <a:blip r:embed="rId5"/>
            <a:stretch/>
          </p:blipFill>
          <p:spPr>
            <a:xfrm>
              <a:off x="4280040" y="2610000"/>
              <a:ext cx="7300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 rot="5400000">
              <a:off x="4214520" y="2928960"/>
              <a:ext cx="857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  <p:sndAc>
      <p:stSnd>
        <p:snd r:embed="rId6" name="click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2:40:52Z</dcterms:created>
  <dc:creator>Serenella</dc:creator>
  <dc:description/>
  <dc:language>en-US</dc:language>
  <cp:lastModifiedBy>M.I.U.R.</cp:lastModifiedBy>
  <dcterms:modified xsi:type="dcterms:W3CDTF">2011-05-18T10:12:45Z</dcterms:modified>
  <cp:revision>44</cp:revision>
  <dc:subject/>
  <dc:title>Diapositiva 1</dc:title>
</cp:coreProperties>
</file>