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90792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90324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0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CCF-4748-4E6E-B1BE-0AD289D1FC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7F3-D88A-47D2-A852-D567C45937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4F7C-7438-4027-934B-BCCCB97747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"/>
          <p:cNvSpPr/>
          <p:nvPr/>
        </p:nvSpPr>
        <p:spPr>
          <a:xfrm>
            <a:off x="90972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41920" y="94312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BA67648-C16F-442D-8475-EF153F5F150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463-EEC2-4BA5-A48A-DA57821C03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90972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41920" y="94312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82697DA-E7F3-4329-97DC-E69E8B80824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85BA-ECDC-46EA-88AB-B2A2B00D1C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4BE3-A4B3-4086-96E7-D0FF3BF7B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B7CF-1C6E-40B0-90BF-73FE5BDBA1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3D2-51EF-4F54-84DB-6F19D53F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A48-6E2D-4F7F-81F6-D3F085E8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7CB-AE7C-4FB5-82C8-1CC43FEA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093-4F03-4CA0-B74D-A0BEC1B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E60-E959-4A16-B6A2-9DAA08B6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7C93-B865-43C4-939A-77D131D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0DC6-E106-432A-8E72-B8050065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77D6-19B6-4597-B022-A0E6E9B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2D2-F716-4B5D-9287-5A6560A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4AA6-CBB7-4633-893E-18D1DA5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408-FF5B-44FF-8263-21DE69F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D8E-0BE2-4EB4-B1F7-4D710361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C22-5B32-46A6-B4A4-4BB6D0A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5C8-7E62-4186-BFF9-18A1AEB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DE2D-D90B-4F78-939E-5F8AB94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EED6-A82E-4CAF-BEBE-E25C4A0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DB8-82D7-49A4-B9BE-9C8A65C8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D92C5-8A44-4E2C-9341-7D9EA77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E4044-8DB7-418B-B785-139F7E9C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30EDF-DDE3-4C17-A110-F9B4EAB6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11EB3-BFFB-4888-B43C-2620ADC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94886-8AB3-4EA5-AACC-E87D54F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773-56F3-4D30-BC2D-C8475B50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0B65F-9B11-4F68-AFFB-52A8F8BA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09E1-24B6-4530-9E2B-52EB1AE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060EA-080D-4C5A-BDED-8CF2404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1EE94-6448-46CB-B333-C7CF15D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D9045-2FB5-49AE-8FE2-272AC54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EF3AA-8544-420F-B326-EA880D1E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EA3C-5BB8-40B0-9253-08AB1E1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9DD-F625-4FD3-98DF-D0EDBEB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C90-7C4A-466E-A109-4FAB4F0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274-CF29-480C-9F70-CD87A51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2E4-86B4-443E-A372-20ABA32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CA0-730D-4731-A6AF-7BE1D19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EFD-AEDA-4285-ACBB-3E4D527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532-1020-4A3A-9E0A-07E2A4D14F4F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4C7-1477-4515-BBC1-9AAAE6AD0C6A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ACFF-D8CC-4BA5-8776-B0E38B05B0BE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308-047D-4728-AFC8-C994C115216E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F0CB-8DEC-4AD2-89B0-B685BE75D27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dt" idx="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7A7-9A9D-49C7-AE26-981A763173CD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9/11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1800" y="2362320"/>
            <a:ext cx="6019920" cy="35812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L’ALTERNANZA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SCUOLA LAVORO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NEI NUOVI ORDINAMENTI DELLA SCUOLA SECONDARIA SUPERIORE</a:t>
            </a:r>
            <a:br>
              <a:rPr sz="2800"/>
            </a:b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CasellaDiTesto 6"/>
          <p:cNvSpPr/>
          <p:nvPr/>
        </p:nvSpPr>
        <p:spPr>
          <a:xfrm>
            <a:off x="2819520" y="53352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NUOVI LICEI</a:t>
            </a:r>
            <a:br>
              <a:rPr sz="2800"/>
            </a:b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 NUOVI ISTITUTI TECNI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NUOVI ISTITUTI PROFESSIONA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68360" y="1052640"/>
            <a:ext cx="729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Verdana"/>
              </a:rPr>
              <a:t>OBIETTIVI della RI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33520" y="228600"/>
            <a:ext cx="73436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0"/>
                </a:solidFill>
                <a:latin typeface="Verdana"/>
              </a:rPr>
              <a:t>Secondo ciclo del sistema educativo di istruzione e formaz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24000" y="1989000"/>
            <a:ext cx="82296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7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Eliminare duplicazioni e sovrapposizioni tra i percorsi educativ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valorizzare l’identità dei diversi ordinament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facilitare le scelte degli studenti e delle famigli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contrastare la dispersione scolastic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favorire il raccordo tra scuola, mondo del lavoro e delle profession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08200" indent="-3366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garantire una equilibrata distribuzione territorial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08200" indent="-3366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asellaDiTesto 1"/>
          <p:cNvSpPr/>
          <p:nvPr/>
        </p:nvSpPr>
        <p:spPr>
          <a:xfrm>
            <a:off x="1143000" y="533520"/>
            <a:ext cx="685800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Verdana"/>
              </a:rPr>
              <a:t>d.P.R. N.89/2010 Regolamento LICEI, art.1, c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A partire dal secondo biennio, anche d’intesa con le università, le istituzioni di alta formazione artistica, gli istituti tecnici superiori ecc., i licei stabiliscono specifiche modalità per approfondire le conoscenze, le abilità e le conoscenze richieste per accedere ai corsi di studio post secondari e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L’approfondimento può essere realizzato anche attraverso </a:t>
            </a:r>
            <a:r>
              <a:rPr b="1" i="1" lang="it-IT" sz="2000" spc="-1" strike="noStrike">
                <a:solidFill>
                  <a:srgbClr val="da0000"/>
                </a:solidFill>
                <a:latin typeface="Verdana"/>
              </a:rPr>
              <a:t>percorsi di alternanza scuola lavoro</a:t>
            </a:r>
            <a:r>
              <a:rPr b="1" i="1" lang="it-IT" sz="20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 nonché attraverso attivazione di </a:t>
            </a:r>
            <a:r>
              <a:rPr b="1" i="1" lang="it-IT" sz="2000" spc="-1" strike="noStrike">
                <a:solidFill>
                  <a:srgbClr val="da0000"/>
                </a:solidFill>
                <a:latin typeface="Verdana"/>
              </a:rPr>
              <a:t>moduli e di iniziative di studio-lavoro per progetti, di esperienze pratiche e di tirocinio</a:t>
            </a:r>
            <a:r>
              <a:rPr b="1" lang="it-IT" sz="2000" spc="-1" strike="noStrike">
                <a:solidFill>
                  <a:srgbClr val="00009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694C88B-ADD9-46AF-AE62-BE724DABE3CE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D10023D-66FB-415D-89AB-0761C4A64E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476360" y="260280"/>
            <a:ext cx="597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PIÙ AUTONOMIA P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I LIC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0492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-842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Quote di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AUTONOMIA </a:t>
            </a:r>
            <a:r>
              <a:rPr b="0" lang="en-GB" sz="2400" spc="-1" strike="noStrike">
                <a:solidFill>
                  <a:srgbClr val="000090"/>
                </a:solidFill>
                <a:latin typeface="Verdana"/>
              </a:rPr>
              <a:t>nei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LICEI: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4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n relazione all’orario complessivo delle lezioni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20%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ne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primo bienni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30%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per i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secondo bienni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20%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 ne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quinto ann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fermo restando che l’orario di ciascuna disciplina prevista nel piano di studio  non può essere ridotta in misura maggiore di un terzo nell’arco del quinquennio e che non possono essere soppresse le discipline previste nell’ultimo anno di corso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CasellaDiTesto 1"/>
          <p:cNvSpPr/>
          <p:nvPr/>
        </p:nvSpPr>
        <p:spPr>
          <a:xfrm>
            <a:off x="971640" y="765000"/>
            <a:ext cx="727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0"/>
                </a:solidFill>
                <a:latin typeface="Verdana"/>
              </a:rPr>
              <a:t>I licei possono dotarsi di  un </a:t>
            </a:r>
            <a:r>
              <a:rPr b="1" lang="it-IT" sz="2800" spc="-1" strike="noStrike">
                <a:solidFill>
                  <a:srgbClr val="a50021"/>
                </a:solidFill>
                <a:latin typeface="Verdana"/>
              </a:rPr>
              <a:t>COMITATO SCIENTIFICO</a:t>
            </a:r>
            <a:r>
              <a:rPr b="0" lang="it-IT" sz="2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90"/>
                </a:solidFill>
                <a:latin typeface="Verdana"/>
              </a:rPr>
              <a:t>composto di docenti e di esperti del mondo del lavoro, delle professioni, della ricerca scientifica e tecnologica, delle università e delle istituzioni di alta formazione artistica, musicale e coreutica, con funzioni consultive e di proposta per l’organizzazione e l’utilizzazione degli spazi di autonomia e flessibilità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E575F54-9C1B-4D45-8BFB-79226C182D1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5113509-46BB-4309-8102-7A6F34883A1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PIÙ AUTONOMIA PER ISTITUTI TECNICI</a:t>
            </a:r>
            <a:r>
              <a:rPr b="1" lang="en-GB" sz="32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Verdana"/>
              </a:rPr>
              <a:t>(d.P.R. n. 88/20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04920" y="1295280"/>
            <a:ext cx="7829280" cy="521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-842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</a:rPr>
              <a:t>Quote di</a:t>
            </a:r>
            <a:r>
              <a:rPr b="1" lang="en-GB" sz="2800" spc="-1" strike="noStrike">
                <a:solidFill>
                  <a:srgbClr val="22228b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AUTONOMIA e FLESSIBILITÀ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Istituti Tecni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8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20%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di </a:t>
            </a:r>
            <a:r>
              <a:rPr b="0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autonomia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in relazione all’orario complessivo delle lezioni per il primo biennio e il successivo triennio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0 %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di flessibilità </a:t>
            </a:r>
            <a:r>
              <a:rPr b="0" lang="en-GB" sz="28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(opzion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nel secondo biennio 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5 %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nel quinto anno</a:t>
            </a:r>
            <a:r>
              <a:rPr b="1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,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  <a:ea typeface="ＭＳ Ｐゴシック"/>
              </a:rPr>
              <a:t>solo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in relazione all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AREE di INDIRIZZO</a:t>
            </a:r>
            <a:r>
              <a:rPr b="0" lang="en-GB" sz="20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0" i="1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per rispondere a documentate richieste del territorio, del mondo del lavoro e delle professioni</a:t>
            </a:r>
            <a:r>
              <a:rPr b="0" i="1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85EF3FB-5C98-4A38-8608-3F00ADC176D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679320" y="260280"/>
            <a:ext cx="84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Verdana"/>
              </a:rPr>
              <a:t>PIÙ AUTONOMIA PER ISTITUTI PROFESSIONALI </a:t>
            </a:r>
            <a:r>
              <a:rPr b="0" lang="en-GB" sz="2800" spc="-1" strike="noStrike">
                <a:solidFill>
                  <a:srgbClr val="c00000"/>
                </a:solidFill>
                <a:latin typeface="Verdana"/>
              </a:rPr>
              <a:t>d.P.R.n.87/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62120" y="1413000"/>
            <a:ext cx="7543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Quote di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AUTONOMIA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 e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FLESSIBILITÀ ISTITUTI PROFESSIONALI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20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di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autonomia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in relazione all’orario complessivo delle lezioni per il primo biennio e il successivo triennio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25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di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flessibilità</a:t>
            </a:r>
            <a:r>
              <a:rPr b="1" lang="en-GB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nel primo biennio, calcolata in base  al monte ore dell’</a:t>
            </a:r>
            <a:r>
              <a:rPr b="1" lang="en-GB" sz="2000" spc="-1" strike="noStrike">
                <a:solidFill>
                  <a:srgbClr val="c00000"/>
                </a:solidFill>
                <a:latin typeface="Verdana"/>
              </a:rPr>
              <a:t>area di indirizzo 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per  organizzare un’offerta formativa  coordinata con il sistema di istruzione e formazione professionale di competenza delle Reg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366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5 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nel secondo biennio  e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40 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 di flessibilità nel quinto anno, calcolata in base  al monte ore dell’area di indirizzo, per realizzare </a:t>
            </a:r>
            <a:r>
              <a:rPr b="1" lang="en-GB" sz="2000" spc="-1" strike="noStrike">
                <a:solidFill>
                  <a:srgbClr val="c00000"/>
                </a:solidFill>
                <a:latin typeface="Verdana"/>
                <a:ea typeface="ＭＳ Ｐゴシック"/>
              </a:rPr>
              <a:t>opzioni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rispondenti  a documentate  richieste del territorio, del mondo del lavoro e delle profess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3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8BF-247F-4497-A51C-827284EC3C9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684360" y="620640"/>
            <a:ext cx="7159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Verdana"/>
              </a:rPr>
              <a:t>NUOVI MODELLI ORGANIZZATIVI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95280" y="1123920"/>
            <a:ext cx="8218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468360" y="404640"/>
            <a:ext cx="75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8244000" y="620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8244000" y="620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826920" y="33192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68360" y="1684440"/>
          <a:ext cx="8227800" cy="4749840"/>
        </p:xfrm>
        <a:graphic>
          <a:graphicData uri="http://schemas.openxmlformats.org/drawingml/2006/table">
            <a:tbl>
              <a:tblPr/>
              <a:tblGrid>
                <a:gridCol w="3898800"/>
                <a:gridCol w="4329000"/>
              </a:tblGrid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2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IPARTIM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e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il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sostegno alla didattica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e alla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progettazione formativa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2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finalizzato a rafforzare il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raccordo sinergico tra gli obiettivi educativi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della scuola,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e esigenze del territorio e i fabbisogni professionali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espressi dal mondo produttiv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0C323B8-57B2-4F28-A941-1B4BAF5E392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80880" y="533520"/>
            <a:ext cx="82281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Verdana"/>
              </a:rPr>
              <a:t>L’alternanza scuola-lavo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Verdana"/>
              </a:rPr>
              <a:t>negli istituti tecnici e profession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95280"/>
            <a:ext cx="8305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Fa emergere nello studente la 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consapevolezza dell’appartenenza ad una comunità professionale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, sviluppa una precisa identità quale membro di un’organizzazione e potenzia una nuova cultura del lavor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200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È finalizzata a rispondere alle esigenze specifiche di apprendimento degli studenti in situazione, rendendo più attraente i percorsi e favorendo il 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collegamento con il territorio, con il mondo del lavoro e delle professioni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79898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03dff"/>
                </a:solidFill>
                <a:latin typeface="Candara"/>
              </a:rPr>
              <a:t>PROGETTARE L’ALTERNANZ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708360" y="3933720"/>
            <a:ext cx="4089600" cy="2711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744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0"/>
            <a:ext cx="6858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Sistema regionale/territoriale: i soggetti coinvol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g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ti loc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mere commerci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ciazioni imprenditori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ti soci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ti di ricer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545ff"/>
                </a:solidFill>
                <a:latin typeface="Arial"/>
                <a:ea typeface="Times New Roman"/>
              </a:rPr>
              <a:t>COME NASCE L’ALTERNANZ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to legislativo n.77/2005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’alternanza scuola-lavoro si fonda sull’intreccio tra:</a:t>
            </a:r>
            <a:br>
              <a:rPr sz="2800"/>
            </a:br>
            <a:br>
              <a:rPr sz="1200"/>
            </a:b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scelte educative della scuola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indicate nel piano dell’offerta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formativa;</a:t>
            </a:r>
            <a:br>
              <a:rPr sz="2800"/>
            </a:br>
            <a:br>
              <a:rPr sz="1200"/>
            </a:b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aspettative delle aziende in termini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di fabbisogni professionali;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 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esigenze formative degli stud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23960" y="0"/>
            <a:ext cx="7696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Livello operativo locale: i soggetti coinvol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gole istituzioni scolastiche e form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te istituzioni scolastiche e form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ti (e associazioni)  pubblici e privati - compreso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set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ig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ud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042920" y="914400"/>
          <a:ext cx="62722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14400"/>
                    <a:ext cx="6272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66680" y="380880"/>
            <a:ext cx="693432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I PRINCIPALI FATTORI DI SUCCES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ordo tra i soggett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ettazione del percorso formativo unitario, condiviso e validato congiuntam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 efficace dei flussi formativ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visione dei criteri e degli strumenti per il controllo, la valutazione e il trattamento di eventuali disfunz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lettura dei piani di studio per individuare: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enze di base, trasversali e di indirizz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strutturazione dei piani di studio in moduli autoconsistenti e sequenziali (es. Unità di apprendimento).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09480"/>
            <a:ext cx="670536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</a:rPr>
              <a:t>COMPETENZE DEGLI ORGANI COLLEGI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)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gli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quisire le richieste degli alunni e dell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amigl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aborare ipotesi di percorsi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dividualizzat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olare il percorso formativo in MODUL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disporre il contratto forma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ammare le attività didattiche a scuol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 in azie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lare i processi e valutare i risulta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5280" y="228600"/>
            <a:ext cx="756144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</a:rPr>
              <a:t>COMPETENZE DEGLI ORGANI COLLEGIAL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)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llegio dei docen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individuare, sulla base delle proposte avanzate dai singoli Consigli di classe, quantità e tipologia dei percorsi da avviare per inserirli nel PO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re le competenze de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61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forma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61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i componenti interni del gruppo di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etto.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alutare i risulta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68360" y="907920"/>
            <a:ext cx="762012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Consiglio di Istituto (Cd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CdI definisce le risorse necessarie per la realizzazione dei progetti di alternanza previsti nel PO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Gruppo tecnico di proget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ò essere costituito un gruppo tecnico costituito da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enti discipline coinvolt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formativ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azienda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perti del mondo della produzion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tri soggett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69325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7545ff"/>
                </a:solidFill>
                <a:latin typeface="Comic Sans MS"/>
              </a:rPr>
              <a:t>Le fasi di vita del percorso formativo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211640" y="2362320"/>
            <a:ext cx="4514400" cy="4495320"/>
            <a:chOff x="4211640" y="2362320"/>
            <a:chExt cx="4514400" cy="4495320"/>
          </a:xfrm>
        </p:grpSpPr>
        <p:sp>
          <p:nvSpPr>
            <p:cNvPr id="331" name="Puzzle3"/>
            <p:cNvSpPr/>
            <p:nvPr/>
          </p:nvSpPr>
          <p:spPr>
            <a:xfrm rot="5400000">
              <a:off x="6643080" y="42354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Puzzle2"/>
            <p:cNvSpPr/>
            <p:nvPr/>
          </p:nvSpPr>
          <p:spPr>
            <a:xfrm rot="5400000">
              <a:off x="4475520" y="4354920"/>
              <a:ext cx="2820240" cy="218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Puzzle4"/>
            <p:cNvSpPr/>
            <p:nvPr/>
          </p:nvSpPr>
          <p:spPr>
            <a:xfrm rot="5400000">
              <a:off x="4758120" y="2399040"/>
              <a:ext cx="1700280" cy="2793600"/>
            </a:xfrm>
            <a:prstGeom prst="pi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Puzzle1"/>
            <p:cNvSpPr/>
            <p:nvPr/>
          </p:nvSpPr>
          <p:spPr>
            <a:xfrm rot="5400000">
              <a:off x="5739840" y="2957400"/>
              <a:ext cx="2855520" cy="16653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7040" y="2362320"/>
            <a:ext cx="4514760" cy="4495320"/>
            <a:chOff x="1067040" y="2362320"/>
            <a:chExt cx="4514760" cy="4495320"/>
          </a:xfrm>
        </p:grpSpPr>
        <p:sp>
          <p:nvSpPr>
            <p:cNvPr id="336" name="Puzzle3"/>
            <p:cNvSpPr/>
            <p:nvPr/>
          </p:nvSpPr>
          <p:spPr>
            <a:xfrm rot="5400000">
              <a:off x="3498480" y="4235040"/>
              <a:ext cx="1766880" cy="239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Puzzle2"/>
            <p:cNvSpPr/>
            <p:nvPr/>
          </p:nvSpPr>
          <p:spPr>
            <a:xfrm rot="5400000">
              <a:off x="1330920" y="4354920"/>
              <a:ext cx="2820240" cy="218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Puzzle4"/>
            <p:cNvSpPr/>
            <p:nvPr/>
          </p:nvSpPr>
          <p:spPr>
            <a:xfrm rot="5400000">
              <a:off x="1613880" y="2398680"/>
              <a:ext cx="1700280" cy="2793960"/>
            </a:xfrm>
            <a:prstGeom prst="pi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Puzzle1"/>
            <p:cNvSpPr/>
            <p:nvPr/>
          </p:nvSpPr>
          <p:spPr>
            <a:xfrm rot="5400000">
              <a:off x="2595240" y="2957400"/>
              <a:ext cx="2855520" cy="166536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826920" y="1916280"/>
            <a:ext cx="1876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x 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635280" y="2133720"/>
            <a:ext cx="2229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 itin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 rot="3393000">
            <a:off x="6824520" y="2039760"/>
            <a:ext cx="1847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ex 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457200" y="304920"/>
          <a:ext cx="7543800" cy="62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5438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68360" y="189000"/>
          <a:ext cx="7819920" cy="586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8199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457200" y="34308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308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907920"/>
            <a:ext cx="806616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8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attuare modalità di apprendimento flessibili ed equivalenti - sotto il profilo culturale ed educativo - agli esiti dei percorsi del secondo ciclo, collegando sistematicamente la formazione in aula con l'esperienza pratic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arricchire la formazione acquisita nei percorsi scolastici e formativi con l'acquisizione di competenze spendibili anche nel mercato del lavor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favorire l'orientamento dei giovani per valorizzarne le vocazioni personali, gli interessi e gli stili di apprendimento individu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realizzare un organico collegamento delle istituzioni scolastiche con il mondo del lavoro e la società civile, che consenta la loro partecipazione attiva nei processi formativ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476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FINALITÀ DELL’ALTERNA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643280" y="5950080"/>
            <a:ext cx="29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6610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714240" indent="-17604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correlare l'offerta formativa allo sviluppo culturale, sociale ed economico del territorio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62120" y="566640"/>
          <a:ext cx="7848360" cy="5702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66640"/>
                    <a:ext cx="78483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487440" y="324000"/>
          <a:ext cx="7788240" cy="590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324000"/>
                    <a:ext cx="77882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990720" y="380880"/>
          <a:ext cx="7162560" cy="541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71625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833400" y="1031760"/>
          <a:ext cx="6713640" cy="4411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1760"/>
                    <a:ext cx="671364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533520" y="395280"/>
          <a:ext cx="7238880" cy="539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5280"/>
                    <a:ext cx="723888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990720" y="838080"/>
          <a:ext cx="7086600" cy="541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9933ff"/>
                </a:solidFill>
                <a:latin typeface="Arial"/>
              </a:rPr>
              <a:t>La valutazione e la certificazione: </a:t>
            </a:r>
            <a:br>
              <a:rPr sz="3800"/>
            </a:br>
            <a:r>
              <a:rPr b="0" lang="it-IT" sz="3800" spc="-1" strike="noStrike">
                <a:solidFill>
                  <a:srgbClr val="9933ff"/>
                </a:solidFill>
                <a:latin typeface="Arial"/>
              </a:rPr>
              <a:t>i soggetti coinvolti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2133720"/>
          <a:ext cx="8229600" cy="420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LIVELLO REG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TERRITORI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PROCESS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PRODO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one, EE.LL., US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re commerci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soci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prenditoriali, Pa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ciali, Enti di ricerc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aggio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di altern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fronto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territo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utazione di siste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zione modell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if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nca dati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territo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pporti nazional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aggio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lo di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552600" y="0"/>
          <a:ext cx="8037360" cy="632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0"/>
                    <a:ext cx="80373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37960" y="301680"/>
          <a:ext cx="7959960" cy="59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301680"/>
                    <a:ext cx="79599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53352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Verdana"/>
              </a:rPr>
              <a:t>MONITORAGGIO, VERIFICA E  VALUT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3520" y="990720"/>
          <a:ext cx="7467480" cy="575460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57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545ff"/>
                          </a:solidFill>
                          <a:latin typeface="Verdana"/>
                        </a:rPr>
                        <a:t>VERIFICA EFFIC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levazione coerenza tra obiettivi e risult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lo/confronto tra risultati attesi e quelli ottenu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zione dei livelli di accettabilità dei risultati (stand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545ff"/>
                          </a:solidFill>
                          <a:latin typeface="Verdana"/>
                        </a:rPr>
                        <a:t>INDICA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. Allievi che concludono il percorso come programmat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. Presenti alle riunioni di progettazione/numero dei component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petto delle scansioni temporal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ità delle misure di accompag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o frequenza scola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lioramento esiti 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04920" y="304920"/>
            <a:ext cx="8229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Nell’alternanza le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 esperienze di lavo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arte integrante dei percors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formativi personalizzat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rogettate e definite con criteri d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gradualità e progressività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rogrammate sulla base delle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possibilità concrete di accoglienza degl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alunni da parte di imprese e di altre struttur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possono costituire crediti per il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conseguimento di titoli e di qualifiche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richiesti per l’accesso al mondo del lavoro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(albi professionali, qualifiche regionali, ecc.).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3808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5800" y="609480"/>
          <a:ext cx="7543800" cy="56340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6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DI EFFICI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EFFICI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Quantità e qualità del gradimento dell’attività svolta (attraverso questionari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Quantità e qualità delle risorse impegna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fficoltà incontrate in itinere (attraverso l’esame sistematico, fase per fase, dei punti di forza e dei punti di debolezza del progetto)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457200" y="609480"/>
          <a:ext cx="7772400" cy="579096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57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Riduzione delle situazioni di difficoltà (osservazione diretta del tutor e dei docenti della class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iglioramento degli esiti scolastici (analisi della differenza tra valutazione in ingresso e in uscit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viluppo della capacità di autovalutars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elle richieste di percorsi in alternanza.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57200" y="990720"/>
          <a:ext cx="7772400" cy="435456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43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I DO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partecipazione dei docenti ai progetti integrati scuola-lavoro (stage, tirocini, impresa formativa simulata, alternan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certificazione delle competenz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33520" y="685800"/>
          <a:ext cx="7772400" cy="563400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56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I GENI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partecipazione dei Genitori alle attività scuola-famigli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proposte/pareri dei genitori rispetto alla progettazione dell’offerta formativ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a partecipazione dei genitori alle attività di monitoraggio e di autovalutazione di istitu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1252440"/>
          <a:ext cx="7772400" cy="435456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43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DEL GRADIMENTO DELLE AZIENDE E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erifica del gradimento delle aziende e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offerte di collaborazione da parte delle azie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a disponibilità delle aziende a ospitare stage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richieste di percorsi in alternanza da parte degli allie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omic Sans MS"/>
              </a:rPr>
              <a:t>Decreto legislativo 15 APRILE 2005, n. 7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I percorsi in Alternanza 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sono progettati, attuati, verificati e valutati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sotto la responsabilità dell'istituzione scolastica o formativ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I periodi di apprendimento 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in contesti di lavoro fanno parte integrante dei percorsi formativ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La scuola sottoscrive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 convenzioni con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… imprese, … associazioni di rappresentanza, … camere di commercio,  industria, artigianato  e agricoltura, … enti … ivi inclusi quelli  del terzo settor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Funzione tutoriale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: docente interno, tutor formativo intern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Comic Sans MS"/>
              </a:rPr>
              <a:t>Le istituzioni scolastiche o formative rilasciano, a conclusione dei percorsi in alternanza,… una </a:t>
            </a:r>
            <a:r>
              <a:rPr b="1" lang="it-IT" sz="2000" spc="-1" strike="noStrike">
                <a:solidFill>
                  <a:srgbClr val="000090"/>
                </a:solidFill>
                <a:latin typeface="Comic Sans MS"/>
              </a:rPr>
              <a:t>certificazione relativa alle competenze</a:t>
            </a:r>
            <a:r>
              <a:rPr b="0" lang="it-IT" sz="2000" spc="-1" strike="noStrike">
                <a:solidFill>
                  <a:srgbClr val="000090"/>
                </a:solidFill>
                <a:latin typeface="Comic Sans MS"/>
              </a:rPr>
              <a:t> acquisite nei periodi di apprendimento mediante esperienze di lavo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762120" y="457200"/>
            <a:ext cx="7696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0000"/>
                </a:solidFill>
                <a:latin typeface="Verdana"/>
                <a:ea typeface="Times New Roman"/>
              </a:rPr>
              <a:t>IL SISTEMA TUTORIA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0000"/>
                </a:solidFill>
                <a:latin typeface="Verdana"/>
                <a:ea typeface="Times New Roman"/>
              </a:rPr>
              <a:t>E LE FIGURE DI ACCOMPAGNAMENTO</a:t>
            </a:r>
            <a:r>
              <a:rPr b="1" lang="it-IT" sz="1800" spc="-1" strike="noStrike">
                <a:solidFill>
                  <a:srgbClr val="bf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447920"/>
          <a:ext cx="8556480" cy="5105160"/>
        </p:xfrm>
        <a:graphic>
          <a:graphicData uri="http://schemas.openxmlformats.org/drawingml/2006/table">
            <a:tbl>
              <a:tblPr/>
              <a:tblGrid>
                <a:gridCol w="4898880"/>
                <a:gridCol w="3657600"/>
              </a:tblGrid>
              <a:tr h="24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Docente tutor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(Istituzione scolastica o formativ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FUN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Assistere e guidare gli studenti e verificare il corretto svolgimento  del percorso in alternanz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Tutor formativo esterno</a:t>
                      </a: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 (azien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Favorire l’inserimento dello studente nel contesto operativo, assisterlo nel percorso di formazione sul lavoro, controllare e verificare le attività, valutare l’efficacia dei processi formati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371600" y="2133720"/>
            <a:ext cx="693432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</a:rPr>
              <a:t>istituzione scolastica o formativa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, tenuto conto delle indicazioni fornite dal tutor aziendale, 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</a:rPr>
              <a:t>valuta gli apprendimenti degli studenti in alternanza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e certifica le competenze da essi acquisite, che costituiscono credi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per la prosecuzione degli stud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per eventuali passaggi tra i sistemi per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facilitare l’ingresso nel mondo del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lavoro e delle profess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1143000" y="457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Verdana"/>
              </a:rPr>
              <a:t>VALUTAZIONE, CERTIFICAZIONE E RICONOSCIMENTO DEI CRED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1"/>
          <p:cNvSpPr/>
          <p:nvPr/>
        </p:nvSpPr>
        <p:spPr>
          <a:xfrm>
            <a:off x="838080" y="21337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L’ALTERNANZ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SCUOLA LAVOR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NEI NUOVI ORDINAMENT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663640" cy="2341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3116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E9A00CD-9B6A-4B5B-B7A6-411EE391E9E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42779D7-EB55-451E-8D55-BB42BC55B665}" type="slidenum">
              <a:rPr b="0" lang="en-GB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95200" y="487440"/>
            <a:ext cx="85536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189000"/>
            <a:ext cx="80280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8252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a000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da0000"/>
                </a:solidFill>
                <a:latin typeface="Verdana"/>
              </a:rPr>
              <a:t>SECONDO ciclo del sistema educativo di istruzione e formazion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08200" y="1792440"/>
            <a:ext cx="69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39640" y="692280"/>
            <a:ext cx="73850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Tutti gli studenti, a conclusione del primo ciclo di istruzione, esercitano il proprio diritto-dovere all’istruzione e alla formazione fino al conseguimento di un titolo di studio o di almeno una qualifica triennale entro il 18° anno di età nel secondo ciclo del sistema educativo di istruzione e formazione </a:t>
            </a:r>
            <a:r>
              <a:rPr b="0" i="1" lang="en-GB" sz="1400" spc="-1" strike="noStrike">
                <a:solidFill>
                  <a:srgbClr val="00007d"/>
                </a:solidFill>
                <a:latin typeface="Verdana"/>
              </a:rPr>
              <a:t>(D.Lgs. n. 226/05, D.Lgs. n. 76/05 e Legge n. 40/07)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826920" y="4778280"/>
            <a:ext cx="36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627280" y="2781360"/>
            <a:ext cx="36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905120" y="5105520"/>
            <a:ext cx="6972120" cy="1773720"/>
          </a:xfrm>
          <a:prstGeom prst="rect">
            <a:avLst/>
          </a:prstGeom>
          <a:solidFill>
            <a:srgbClr val="dddddd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Gli elementi unificanti del secondo ciclo</a:t>
            </a:r>
            <a:r>
              <a:rPr b="1" lang="en-GB" sz="1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Saperi e competenze relative al nuovo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Obbligo di istruzione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(DM n. 139/0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Profilo educativo, culturale e professionale dello stud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  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a conclusione del secondo ciclo del sistema educativo di 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istruzione e di formazione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(D.Lgs. n. 226/05, Allegato 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457200" y="2133720"/>
            <a:ext cx="8137080" cy="2895120"/>
            <a:chOff x="457200" y="2133720"/>
            <a:chExt cx="8137080" cy="2895120"/>
          </a:xfrm>
        </p:grpSpPr>
        <p:sp>
          <p:nvSpPr>
            <p:cNvPr id="273" name="Rectangle 10"/>
            <p:cNvSpPr/>
            <p:nvPr/>
          </p:nvSpPr>
          <p:spPr>
            <a:xfrm>
              <a:off x="457200" y="2133720"/>
              <a:ext cx="47469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SISTEMA  DI  ISTRUZIONE SECONDARIA SUPERIO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5204160" y="2133720"/>
              <a:ext cx="338868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SISTEMA  DI  ISTRUZIONE E FORMAZIONE PROFESSION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(Capo III , art. 27, c. 2 D.Lgs. 226/05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457200" y="3045960"/>
              <a:ext cx="13186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6 LICE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lice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1775880" y="3045960"/>
              <a:ext cx="15714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11 ISTITUTI TECNIC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tecni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347280" y="3045960"/>
              <a:ext cx="18568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6 ISTITUTI PROFESSIO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profession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5204160" y="3045960"/>
              <a:ext cx="15714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21 PERCORS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TRIEN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Qualifica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Operatore profession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6"/>
            <p:cNvSpPr/>
            <p:nvPr/>
          </p:nvSpPr>
          <p:spPr>
            <a:xfrm>
              <a:off x="6775560" y="3045960"/>
              <a:ext cx="1817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21 PERCORSI QUADRIEN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 professionale di Tecnic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1775880" y="3045960"/>
              <a:ext cx="144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18"/>
            <p:cNvSpPr/>
            <p:nvPr/>
          </p:nvSpPr>
          <p:spPr>
            <a:xfrm>
              <a:off x="3347280" y="3045960"/>
              <a:ext cx="108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>
              <a:off x="5204160" y="2133720"/>
              <a:ext cx="144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6775560" y="3045960"/>
              <a:ext cx="108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21"/>
            <p:cNvSpPr/>
            <p:nvPr/>
          </p:nvSpPr>
          <p:spPr>
            <a:xfrm>
              <a:off x="457200" y="304596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457200" y="2133720"/>
              <a:ext cx="108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8593200" y="2133720"/>
              <a:ext cx="108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>
              <a:off x="457200" y="213372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Line 25"/>
            <p:cNvSpPr/>
            <p:nvPr/>
          </p:nvSpPr>
          <p:spPr>
            <a:xfrm>
              <a:off x="457200" y="502704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2:43:12Z</dcterms:created>
  <dc:creator>rossella mengucci</dc:creator>
  <dc:description/>
  <dc:language>en-US</dc:language>
  <cp:lastModifiedBy>M.I.U.R.</cp:lastModifiedBy>
  <dcterms:modified xsi:type="dcterms:W3CDTF">2011-04-12T10:51:18Z</dcterms:modified>
  <cp:revision>138</cp:revision>
  <dc:subject/>
  <dc:title>Presentazione di PowerPoint</dc:title>
</cp:coreProperties>
</file>