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wmf" ContentType="image/x-wmf"/>
  <Override PartName="/ppt/media/image21.jpeg" ContentType="image/jpeg"/>
  <Override PartName="/ppt/media/image2.wmf" ContentType="image/x-wmf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9.wmf" ContentType="image/x-wmf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32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6.wmf" ContentType="image/x-wmf"/>
  <Override PartName="/ppt/media/image1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25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245-B8AB-4CE3-957F-A31DBFDA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F92-3A77-4D86-9F3B-8DDBBE60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D3D-23D8-4833-B433-BEB5CCDC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553-B6A5-486C-9397-97801AD8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B39-0E55-4EE5-934C-1EE43B0C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C68-FB7E-4374-A3C5-04E681F5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7E1-AE1E-4832-BCCC-91C5AF59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74B-830D-443C-9DC4-D1865CB6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10D-5AC6-4540-9766-32251FA4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98C-BD11-46FD-9077-F6592C08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904-6C8B-407E-80E5-4362FF2D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247-E4FB-41ED-9493-EAAF89F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CBD2-94BF-492A-ABD4-E78BCAE5ACF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700280"/>
            <a:ext cx="835344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Corso di formazione alternanza scuola lavoro a.s. 2010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cc0000"/>
                </a:solidFill>
                <a:latin typeface="Verdana"/>
              </a:rPr>
              <a:t>Il contesto in cui realizzare l’alternanza scuola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Giuseppe Pedri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Black"/>
              </a:rPr>
              <a:t>Forlì, 4 maggi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3473640" cy="133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2352960" cy="743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740720" y="476280"/>
            <a:ext cx="514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2637000"/>
            <a:ext cx="8280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i="1" lang="it-IT" sz="2400" spc="-1" strike="noStrike">
                <a:solidFill>
                  <a:srgbClr val="333399"/>
                </a:solidFill>
                <a:latin typeface="Arial Black"/>
              </a:rPr>
              <a:t>Credo che sia difficile sopravvalutare il ruolo dell’Aldini-Valeriani nella crescita industriale della città: quasi tutti gli imprenditori innovativi di questi decenni provengono dall’Istituto. Si deve a questo nuovo capitale umano, dotato di forte dinamismo e capace di imparare lavorando, la trasformazione industriale di Bologna.” </a:t>
            </a:r>
            <a:r>
              <a:rPr b="0" lang="it-IT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Arial Black"/>
              </a:rPr>
              <a:t>(Carlo Poni, 1994 per il 150^ anniversario degli Istituti “Aldini Valeriani”)</a:t>
            </a:r>
            <a:r>
              <a:rPr b="0" lang="it-IT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7628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Il sistema scolastico e formativo in più di un’occasione ha anticipato e/o accompagnato lo sviluppo economico-sociale” </a:t>
            </a:r>
            <a:r>
              <a:rPr b="0" lang="it-IT" sz="2400" spc="-1" strike="noStrike">
                <a:solidFill>
                  <a:srgbClr val="808080"/>
                </a:solidFill>
                <a:latin typeface="Arial Black"/>
              </a:rPr>
              <a:t>(</a:t>
            </a:r>
            <a:r>
              <a:rPr b="0" i="1" lang="it-IT" sz="2400" spc="-1" strike="noStrike">
                <a:solidFill>
                  <a:srgbClr val="808080"/>
                </a:solidFill>
                <a:latin typeface="Arial Black"/>
              </a:rPr>
              <a:t>Giuliano Muzzioli</a:t>
            </a:r>
            <a:r>
              <a:rPr b="0" lang="it-IT" sz="2400" spc="-1" strike="noStrike">
                <a:solidFill>
                  <a:srgbClr val="80808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24720" y="1125360"/>
          <a:ext cx="143676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1125360"/>
                    <a:ext cx="14367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50920" y="1052640"/>
          <a:ext cx="158436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52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asellaDiTesto 4"/>
          <p:cNvSpPr/>
          <p:nvPr/>
        </p:nvSpPr>
        <p:spPr>
          <a:xfrm>
            <a:off x="357120" y="214200"/>
            <a:ext cx="8391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8a54"/>
                </a:solidFill>
                <a:latin typeface="Bernard MT Condensed"/>
              </a:rPr>
              <a:t>    </a:t>
            </a:r>
            <a:r>
              <a:rPr b="1" lang="en-US" sz="2600" spc="-1" strike="noStrike">
                <a:solidFill>
                  <a:srgbClr val="4a452a"/>
                </a:solidFill>
                <a:latin typeface="Bernard MT Condensed"/>
              </a:rPr>
              <a:t>LE RADICI COMUNI DELL’ISTRUZIONE TECNICA </a:t>
            </a:r>
            <a:r>
              <a:rPr b="1" lang="en-US" sz="2600" spc="-1" strike="noStrike">
                <a:solidFill>
                  <a:srgbClr val="4a452a"/>
                </a:solidFill>
                <a:latin typeface="Bernard MT Condensed"/>
              </a:rPr>
              <a:t>	</a:t>
            </a:r>
            <a:r>
              <a:rPr b="1" lang="en-US" sz="2600" spc="-1" strike="noStrike">
                <a:solidFill>
                  <a:srgbClr val="4a452a"/>
                </a:solidFill>
                <a:latin typeface="Bernard MT Condensed"/>
              </a:rPr>
              <a:t>	</a:t>
            </a:r>
            <a:r>
              <a:rPr b="1" lang="en-US" sz="2600" spc="-1" strike="noStrike">
                <a:solidFill>
                  <a:srgbClr val="4a452a"/>
                </a:solidFill>
                <a:latin typeface="Bernard MT Condensed"/>
              </a:rPr>
              <a:t>	</a:t>
            </a:r>
            <a:r>
              <a:rPr b="1" lang="en-US" sz="2600" spc="-1" strike="noStrike">
                <a:solidFill>
                  <a:srgbClr val="4a452a"/>
                </a:solidFill>
                <a:latin typeface="Bernard MT Condensed"/>
              </a:rPr>
              <a:t>	</a:t>
            </a:r>
            <a:r>
              <a:rPr b="1" lang="en-US" sz="2600" spc="-1" strike="noStrike">
                <a:solidFill>
                  <a:srgbClr val="4a452a"/>
                </a:solidFill>
                <a:latin typeface="Bernard MT Condensed"/>
              </a:rPr>
              <a:t>	</a:t>
            </a:r>
            <a:r>
              <a:rPr b="1" lang="en-US" sz="2600" spc="-1" strike="noStrike">
                <a:solidFill>
                  <a:srgbClr val="4a452a"/>
                </a:solidFill>
                <a:latin typeface="Bernard MT Condensed"/>
              </a:rPr>
              <a:t>E PROFESS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magine 7" descr="esercitazioni pratiche.jpg"/>
          <p:cNvPicPr/>
          <p:nvPr/>
        </p:nvPicPr>
        <p:blipFill>
          <a:blip r:embed="rId1"/>
          <a:srcRect l="10642" t="17507" r="12762" b="16230"/>
          <a:stretch/>
        </p:blipFill>
        <p:spPr>
          <a:xfrm>
            <a:off x="214200" y="1000080"/>
            <a:ext cx="4094280" cy="2786040"/>
          </a:xfrm>
          <a:prstGeom prst="rect">
            <a:avLst/>
          </a:prstGeom>
          <a:ln w="0">
            <a:noFill/>
          </a:ln>
        </p:spPr>
      </p:pic>
      <p:sp>
        <p:nvSpPr>
          <p:cNvPr id="116" name="CasellaDiTesto 10"/>
          <p:cNvSpPr/>
          <p:nvPr/>
        </p:nvSpPr>
        <p:spPr>
          <a:xfrm>
            <a:off x="4932360" y="1628640"/>
            <a:ext cx="3782880" cy="1618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 la fine dell’Ottocento e i primi del Novecento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imprenditori, movimento operai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cattolic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remono per accorciare le distanze tra scuola e lavoro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magine 6" descr="aggiustatori al lavoro.jpg"/>
          <p:cNvPicPr/>
          <p:nvPr/>
        </p:nvPicPr>
        <p:blipFill>
          <a:blip r:embed="rId2"/>
          <a:srcRect l="0" t="0" r="23077" b="0"/>
          <a:stretch/>
        </p:blipFill>
        <p:spPr>
          <a:xfrm>
            <a:off x="4572000" y="3645000"/>
            <a:ext cx="4237200" cy="2855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250920" y="3933720"/>
            <a:ext cx="4066920" cy="2533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scono le prime scuole tecniche, gestite dai Ministeri competenti per i diversi settori: agricoltura, industria, commer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 l’avvio ufficiale dell'istruzione tecnica e professionale, caratterizzate da radici comuni,   bisognerà arrivare agli anni Tr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Segnaposto contenuto 5" descr="palestra scoperta.jpg"/>
          <p:cNvPicPr/>
          <p:nvPr/>
        </p:nvPicPr>
        <p:blipFill>
          <a:blip r:embed="rId1"/>
          <a:srcRect l="0" t="0" r="0" b="-6042"/>
          <a:stretch/>
        </p:blipFill>
        <p:spPr>
          <a:xfrm>
            <a:off x="142920" y="214200"/>
            <a:ext cx="2844720" cy="2308320"/>
          </a:xfrm>
          <a:prstGeom prst="rect">
            <a:avLst/>
          </a:prstGeom>
          <a:ln w="0">
            <a:noFill/>
          </a:ln>
        </p:spPr>
      </p:pic>
      <p:sp>
        <p:nvSpPr>
          <p:cNvPr id="120" name="CasellaDiTesto 12"/>
          <p:cNvSpPr/>
          <p:nvPr/>
        </p:nvSpPr>
        <p:spPr>
          <a:xfrm>
            <a:off x="3000240" y="285840"/>
            <a:ext cx="2089440" cy="3537000"/>
          </a:xfrm>
          <a:prstGeom prst="rect">
            <a:avLst/>
          </a:prstGeom>
          <a:solidFill>
            <a:srgbClr val="ff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Calibri"/>
              </a:rPr>
              <a:t>LEGGE  15 giugno 1931 n.8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3735"/>
                </a:solidFill>
                <a:latin typeface="Calibri"/>
              </a:rPr>
              <a:t>Regio Decreto del 21 settembre 1938, n.2038, convertito nella LEGGE 2 giugno 1939, n.73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13"/>
          <p:cNvSpPr/>
          <p:nvPr/>
        </p:nvSpPr>
        <p:spPr>
          <a:xfrm>
            <a:off x="5072040" y="357120"/>
            <a:ext cx="3852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Nascono gli istituti tecnici, riorganizzati e ricondotti nella competenza del Ministero della pubblica istru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Istituzione di scuole di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struzione tecnica con ordinamento speciale</a:t>
            </a: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primo nucleo della futura istruzione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14"/>
          <p:cNvSpPr/>
          <p:nvPr/>
        </p:nvSpPr>
        <p:spPr>
          <a:xfrm>
            <a:off x="3071880" y="3143160"/>
            <a:ext cx="1873080" cy="2062440"/>
          </a:xfrm>
          <a:prstGeom prst="rect">
            <a:avLst/>
          </a:prstGeom>
          <a:solidFill>
            <a:srgbClr val="ff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Calibri"/>
              </a:rPr>
              <a:t>Anni ’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Calibri"/>
              </a:rPr>
              <a:t>C.M. 27 febbraio 1959 n. 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sellaDiTesto 15"/>
          <p:cNvSpPr/>
          <p:nvPr/>
        </p:nvSpPr>
        <p:spPr>
          <a:xfrm>
            <a:off x="5072040" y="1785960"/>
            <a:ext cx="3852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Scuole tecniche speciali denominate “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stituti professionali</a:t>
            </a: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”, istituiti con singoli D.P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Formalizzate per la prima volta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le qualifiche e 100 profili professionali,</a:t>
            </a: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 ripartiti in 14 settori, sulla base delle classificazioni adottate dal Ministero del Lavo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16"/>
          <p:cNvSpPr/>
          <p:nvPr/>
        </p:nvSpPr>
        <p:spPr>
          <a:xfrm>
            <a:off x="3071880" y="5429160"/>
            <a:ext cx="1944720" cy="1067400"/>
          </a:xfrm>
          <a:prstGeom prst="rect">
            <a:avLst/>
          </a:prstGeom>
          <a:solidFill>
            <a:srgbClr val="ff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Calibri"/>
              </a:rPr>
              <a:t>LEGGE 27 ottobre 19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Calibri"/>
              </a:rPr>
              <a:t>n. 7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17"/>
          <p:cNvSpPr/>
          <p:nvPr/>
        </p:nvSpPr>
        <p:spPr>
          <a:xfrm>
            <a:off x="5143680" y="542916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Istituzione dei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corsi post-qualifica</a:t>
            </a: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, per il conseguimento del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diploma di maturità profession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214200" y="4572000"/>
            <a:ext cx="2773440" cy="207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214200" y="2500200"/>
            <a:ext cx="27734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7870680" cy="6480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LLA SCUOLA AL LAVO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4321080" cy="284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5877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Docenti  prestati  all’i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496960" cy="2532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00720" y="4149720"/>
            <a:ext cx="2514600" cy="20289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l sistema scolastico non ha più il monopolio della trasmissione del sa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’apprendim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3860640"/>
            <a:ext cx="4608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L’apprendimento avviene mediante una molteplicità di agenzie e di soggetti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Arial Unicode MS"/>
              </a:rPr>
              <a:t>Apprendimento  formale: avviene in un contesto organizzato e strutturato (in un istituzione scolastica/formativa o su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Arial Unicode MS"/>
              </a:rPr>
              <a:t>Apprendimento non formale: è connesso ad attività pianificate ma non esplicitamente progettate come apprendimento (quello che non e’ erogato da una istituzione forma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Apprendimento informale: le molteplici forme dell’apprendimento mediante l’esperienza risultante dalle attività della vita quotidiana legate al lavoro, alla famiglia, al tempo libero, non è organizzato o struttu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alità di apprend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Pof-Piano Offerta formativa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nuovi compiti della scu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oscere il territorio (nuove abitudini, immigrazione diffusione della dro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o con la PA lo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o con le impr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uovere l’integrazione tra scuola e 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Divenendo meno rigida la separazione tra l’aula e il mondo esterno, gli insegnanti debbono, secondo il Rapporto dell’Unesco, cercare di prolungare il processo educativo al di fuori dell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- fisicamente, attraverso esperienze pratiche di insegnamento in luoghi esterni alla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- dal punto di vista dei contenuti, collegando le varie materie con la vita quoti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la e mondo est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 dimensione stor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'aspetto euristic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 fiducia in se stes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 formazione continu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iettivi educativ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tu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rittu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o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o del compu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nze di b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77080" y="907920"/>
            <a:ext cx="2095560" cy="190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41767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Arial"/>
              </a:rPr>
              <a:t>per assicurare ai giovani, oltre alle conoscenze di base, l’acquisizione di competenze spendibili nel mercato del lavoro, </a:t>
            </a:r>
            <a:r>
              <a:rPr b="0" lang="en-US" sz="3200" spc="-1" strike="noStrike">
                <a:solidFill>
                  <a:srgbClr val="cc3300"/>
                </a:solidFill>
                <a:latin typeface="Arial Black"/>
                <a:ea typeface="Arial"/>
              </a:rPr>
              <a:t>“utilizzando l’azienda come a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2565360"/>
            <a:ext cx="678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902200"/>
                    </a:gs>
                    <a:gs pos="100000">
                      <a:srgbClr val="cc33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ffffff"/>
                  </a:outerShdw>
                </a:effectLst>
                <a:latin typeface="Antique Olive"/>
              </a:rPr>
              <a:t>Una nuova modalità</a:t>
            </a:r>
            <a:endParaRPr b="1" lang="en-US" sz="2400" spc="1" strike="noStrike">
              <a:ln w="648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902200"/>
                  </a:gs>
                  <a:gs pos="100000">
                    <a:srgbClr val="cc3300"/>
                  </a:gs>
                </a:gsLst>
                <a:lin ang="13500000"/>
              </a:gradFill>
              <a:effectLst>
                <a:outerShdw dist="40186" dir="4303641" blurRad="0" rotWithShape="0">
                  <a:srgbClr val="ffffff"/>
                </a:outerShdw>
              </a:effectLst>
              <a:latin typeface="Antique Olive"/>
              <a:ea typeface="Antique Oliv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3141720"/>
            <a:ext cx="106668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ef5c13"/>
                  </a:solidFill>
                  <a:miter/>
                </a:ln>
                <a:solidFill>
                  <a:srgbClr val="cc0066"/>
                </a:solidFill>
                <a:latin typeface="Antique Olive"/>
              </a:rPr>
              <a:t>di </a:t>
            </a:r>
            <a:endParaRPr b="1" lang="en-US" sz="2400" spc="1" strike="noStrike">
              <a:ln w="9360">
                <a:solidFill>
                  <a:srgbClr val="ef5c13"/>
                </a:solidFill>
                <a:miter/>
              </a:ln>
              <a:solidFill>
                <a:srgbClr val="cc0066"/>
              </a:solidFill>
              <a:latin typeface="Antique Olive"/>
              <a:ea typeface="Antique Oliv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3357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ef5c13"/>
                  </a:solidFill>
                  <a:miter/>
                </a:ln>
                <a:solidFill>
                  <a:srgbClr val="ff0066"/>
                </a:solidFill>
                <a:latin typeface="Antique Olive"/>
              </a:rPr>
              <a:t>FARE SCUOLA</a:t>
            </a:r>
            <a:endParaRPr b="1" lang="en-US" sz="2400" spc="1" strike="noStrike">
              <a:ln w="9360">
                <a:solidFill>
                  <a:srgbClr val="ef5c13"/>
                </a:solidFill>
                <a:miter/>
              </a:ln>
              <a:solidFill>
                <a:srgbClr val="ff0066"/>
              </a:solidFill>
              <a:latin typeface="Antique Olive"/>
              <a:ea typeface="Antique Olive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920"/>
            <a:ext cx="4876920" cy="1792080"/>
          </a:xfrm>
          <a:prstGeom prst="wedgeEllipseCallout">
            <a:avLst>
              <a:gd name="adj1" fmla="val 45865"/>
              <a:gd name="adj2" fmla="val 57175"/>
            </a:avLst>
          </a:prstGeom>
          <a:gradFill rotWithShape="0">
            <a:gsLst>
              <a:gs pos="0">
                <a:srgbClr val="ffffcc"/>
              </a:gs>
              <a:gs pos="100000">
                <a:srgbClr val="f8b390"/>
              </a:gs>
            </a:gsLst>
            <a:lin ang="13500000"/>
          </a:gradFill>
          <a:ln w="9360">
            <a:solidFill>
              <a:srgbClr val="ef5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3500"/>
                </a:solidFill>
                <a:latin typeface="Arial Black"/>
                <a:ea typeface="Arial"/>
              </a:rPr>
              <a:t>Cosa è l’Altern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3500"/>
                </a:solidFill>
                <a:latin typeface="Arial Black"/>
                <a:ea typeface="Arial"/>
              </a:rPr>
              <a:t>secondo l’articolo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8a8"/>
                </a:solidFill>
                <a:latin typeface="Arial Black"/>
                <a:ea typeface="Arial"/>
              </a:rPr>
              <a:t>(ex L. 53/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ision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nze trasversa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rendere ad apprend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gue strani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ltur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irito d’impre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nso so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nze chi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Di sviluppare nei giova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- capacità decis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- capacità di analisi e di sintesi delle situazio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- capacità di risolvere 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- capacità di adattarsi a nuove esperien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- capacità di comunicare chiara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chiedono le impre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la scu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Di sviluppare nei giova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- conoscenze linguistiche e logico-matema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- padronanza dell'inglese e degli strumenti informat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-   capacità rel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- capacita diagnostiche (reperire, trattare e utilizzare d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a chiedono le impres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lla scu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03280" y="5445000"/>
            <a:ext cx="5977080" cy="1068840"/>
          </a:xfrm>
          <a:prstGeom prst="rect">
            <a:avLst/>
          </a:prstGeom>
          <a:solidFill>
            <a:srgbClr val="6a21cb"/>
          </a:solidFill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ZIONE   CULTURALE E  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357720"/>
            <a:ext cx="4653000" cy="111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.    O.     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9360"/>
            <a:ext cx="1763640" cy="2228400"/>
          </a:xfrm>
          <a:prstGeom prst="rect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SOGNI FORMATIVI DEGLI STUDENTI E ATTESE DELLE FAMIG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748800" y="3292200"/>
            <a:ext cx="1141200" cy="839880"/>
          </a:xfrm>
          <a:custGeom>
            <a:avLst/>
            <a:gdLst>
              <a:gd name="textAreaLeft" fmla="*/ 380520 w 1141200"/>
              <a:gd name="textAreaRight" fmla="*/ 977400 w 1141200"/>
              <a:gd name="textAreaTop" fmla="*/ 483840 h 839880"/>
              <a:gd name="textAreaBottom" fmla="*/ 719640 h 839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rot="16200000">
            <a:off x="7012440" y="3219480"/>
            <a:ext cx="1141560" cy="839880"/>
          </a:xfrm>
          <a:custGeom>
            <a:avLst/>
            <a:gdLst>
              <a:gd name="textAreaLeft" fmla="*/ 380520 w 1141560"/>
              <a:gd name="textAreaRight" fmla="*/ 977760 w 1141560"/>
              <a:gd name="textAreaTop" fmla="*/ 468720 h 839880"/>
              <a:gd name="textAreaBottom" fmla="*/ 719640 h 839880"/>
            </a:gdLst>
            <a:ahLst/>
            <a:rect l="textAreaLeft" t="textAreaTop" r="textAreaRight" b="textAreaBottom"/>
            <a:pathLst>
              <a:path w="21600" h="21600">
                <a:moveTo>
                  <a:pt x="0" y="15152"/>
                </a:moveTo>
                <a:lnTo>
                  <a:pt x="12052" y="15152"/>
                </a:lnTo>
                <a:lnTo>
                  <a:pt x="12052" y="7200"/>
                </a:lnTo>
                <a:lnTo>
                  <a:pt x="8952" y="7200"/>
                </a:lnTo>
                <a:lnTo>
                  <a:pt x="1527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765000"/>
            <a:ext cx="2124000" cy="1923480"/>
          </a:xfrm>
          <a:prstGeom prst="rect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ATTERI ED ESIGENZE SOCIO-ECONOMICHE DEL 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997" t="25205" r="15088" b="24399"/>
          <a:stretch/>
        </p:blipFill>
        <p:spPr>
          <a:xfrm>
            <a:off x="1835280" y="260280"/>
            <a:ext cx="5086080" cy="3076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4360" y="4508640"/>
            <a:ext cx="718920" cy="792000"/>
          </a:xfrm>
          <a:prstGeom prst="downArrow">
            <a:avLst>
              <a:gd name="adj1" fmla="val 50000"/>
              <a:gd name="adj2" fmla="val 27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2530440" cy="1990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rot="20241600">
            <a:off x="777960" y="1382400"/>
            <a:ext cx="8032680" cy="434340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aeaf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914400"/>
            <a:ext cx="1447920" cy="1457280"/>
          </a:xfrm>
          <a:prstGeom prst="ellipse">
            <a:avLst/>
          </a:prstGeom>
          <a:gradFill rotWithShape="0">
            <a:gsLst>
              <a:gs pos="0">
                <a:srgbClr val="d8eb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533520"/>
            <a:ext cx="1447560" cy="1457280"/>
          </a:xfrm>
          <a:prstGeom prst="ellipse">
            <a:avLst/>
          </a:prstGeom>
          <a:gradFill rotWithShape="0">
            <a:gsLst>
              <a:gs pos="0">
                <a:srgbClr val="c6feb3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666880"/>
            <a:ext cx="1447920" cy="1457280"/>
          </a:xfrm>
          <a:prstGeom prst="ellipse">
            <a:avLst/>
          </a:prstGeom>
          <a:gradFill rotWithShape="0">
            <a:gsLst>
              <a:gs pos="0">
                <a:srgbClr val="e5f2f3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914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cu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13716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Verdana"/>
              </a:rPr>
              <a:t>univer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20960" y="49417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La famig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81960" y="580716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Verdana"/>
              </a:rPr>
              <a:t>I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105520"/>
            <a:ext cx="1447920" cy="1457280"/>
          </a:xfrm>
          <a:prstGeom prst="ellipse">
            <a:avLst/>
          </a:prstGeom>
          <a:gradFill rotWithShape="0">
            <a:gsLst>
              <a:gs pos="0">
                <a:srgbClr val="fed8a1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4876920"/>
            <a:ext cx="1447560" cy="1457280"/>
          </a:xfrm>
          <a:prstGeom prst="ellipse">
            <a:avLst/>
          </a:prstGeom>
          <a:gradFill rotWithShape="0">
            <a:gsLst>
              <a:gs pos="0">
                <a:srgbClr val="fed8eb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2971800"/>
            <a:ext cx="1447560" cy="1457280"/>
          </a:xfrm>
          <a:prstGeom prst="ellipse">
            <a:avLst/>
          </a:prstGeom>
          <a:gradFill rotWithShape="0">
            <a:gsLst>
              <a:gs pos="0">
                <a:srgbClr val="cfcfc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5715000"/>
            <a:ext cx="1219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mig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124080"/>
            <a:ext cx="14479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genzie form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257800"/>
            <a:ext cx="15238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ente locale e ist. ter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15200" y="3429000"/>
            <a:ext cx="114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 rot="20353800">
            <a:off x="609120" y="1066320"/>
            <a:ext cx="632484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O-PROGETTAZIONE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Black"/>
              </a:rPr>
              <a:t>Alternanza scuola lavo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ggetti coinvol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i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4343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tor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36576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1509840" cy="1325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9520" y="4876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aduta didat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36576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4952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voro in equ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1066680" cy="106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5880" y="4191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tor azien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765920" y="3200400"/>
            <a:ext cx="137808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467480" y="4267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ari Unione Indust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53400">
            <a:off x="4076280" y="-190440"/>
            <a:ext cx="838080" cy="6400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133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etti su tematiche di interesse co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189800">
            <a:off x="4037760" y="1372320"/>
            <a:ext cx="1063440" cy="9142200"/>
          </a:xfrm>
          <a:custGeom>
            <a:avLst/>
            <a:gdLst>
              <a:gd name="textAreaLeft" fmla="*/ 679320 w 1063440"/>
              <a:gd name="textAreaRight" fmla="*/ 1063800 w 1063440"/>
              <a:gd name="textAreaTop" fmla="*/ 238320 h 9142200"/>
              <a:gd name="textAreaBottom" fmla="*/ 8903880 h 914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6400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ttoscrizione convenzione azienda-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0" y="3141720"/>
            <a:ext cx="1184400" cy="1198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1476360" y="3284640"/>
            <a:ext cx="1420920" cy="106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684360" y="2421000"/>
            <a:ext cx="7992720" cy="3384000"/>
            <a:chOff x="684360" y="2421000"/>
            <a:chExt cx="7992720" cy="3384000"/>
          </a:xfrm>
        </p:grpSpPr>
        <p:sp>
          <p:nvSpPr>
            <p:cNvPr id="208" name=""/>
            <p:cNvSpPr/>
            <p:nvPr/>
          </p:nvSpPr>
          <p:spPr>
            <a:xfrm>
              <a:off x="684360" y="2421000"/>
              <a:ext cx="7992720" cy="3384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79920" y="2590920"/>
              <a:ext cx="7475760" cy="3044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9280" y="3068640"/>
            <a:ext cx="2133720" cy="1828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195640" y="333360"/>
            <a:ext cx="4800600" cy="2819520"/>
            <a:chOff x="2195640" y="333360"/>
            <a:chExt cx="4800600" cy="2819520"/>
          </a:xfrm>
        </p:grpSpPr>
        <p:sp>
          <p:nvSpPr>
            <p:cNvPr id="212" name=""/>
            <p:cNvSpPr/>
            <p:nvPr/>
          </p:nvSpPr>
          <p:spPr>
            <a:xfrm>
              <a:off x="2195640" y="333360"/>
              <a:ext cx="4800600" cy="2819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33440" y="1019160"/>
              <a:ext cx="1752840" cy="1295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05240" y="1019160"/>
              <a:ext cx="1676520" cy="1371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43200" y="1857600"/>
              <a:ext cx="1905120" cy="1295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195720" y="714600"/>
              <a:ext cx="2695320" cy="533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.P.S.S.A.R.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659640" y="2997360"/>
            <a:ext cx="2286000" cy="1828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692360" y="5661000"/>
            <a:ext cx="6553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tegrazione e svilup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43280" y="378936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nza scuola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376720" cy="18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3089160" cy="247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5640" y="2421000"/>
            <a:ext cx="6705360" cy="274320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VORO = comunità / 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1523880"/>
            <a:ext cx="4724280" cy="1905120"/>
          </a:xfrm>
          <a:prstGeom prst="ellipse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4114800"/>
            <a:ext cx="4496040" cy="1981080"/>
          </a:xfrm>
          <a:prstGeom prst="ellipse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Z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3960" y="441972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zione “aziend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scita culturale inter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72320" y="160020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16680" y="2209680"/>
            <a:ext cx="472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rire una esperienza conc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zione attestata in situ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260280"/>
          <a:ext cx="129528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0280"/>
                    <a:ext cx="12952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457200" y="404640"/>
            <a:ext cx="8686800" cy="696960"/>
            <a:chOff x="457200" y="404640"/>
            <a:chExt cx="8686800" cy="696960"/>
          </a:xfrm>
        </p:grpSpPr>
        <p:graphicFrame>
          <p:nvGraphicFramePr>
            <p:cNvPr id="232" name=""/>
            <p:cNvGraphicFramePr/>
            <p:nvPr/>
          </p:nvGraphicFramePr>
          <p:xfrm>
            <a:off x="8077320" y="404640"/>
            <a:ext cx="1066680" cy="696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77320" y="404640"/>
                      <a:ext cx="1066680" cy="6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"/>
            <p:cNvSpPr/>
            <p:nvPr/>
          </p:nvSpPr>
          <p:spPr>
            <a:xfrm>
              <a:off x="457200" y="404640"/>
              <a:ext cx="86108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Arial Black"/>
                  <a:ea typeface="Arial"/>
                </a:rPr>
                <a:t>ALTERNANZA SCUOLA - LAVO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OMITATO TECNICO-SCIENTI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341360"/>
            <a:ext cx="81360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 scuole “possono dotarsi, nell'esercizio della loro autonomia didattica e organizzativa, di un comitato tecnico-scientifico, senza nuovi e maggiori oneri per la finanza pubblica, composto da docenti e da esperti del mondo del lavoro, delle professioni e della rice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cientifica e tecnologica, con funzioni consultive e di proposta per l'organizzazione delle aree di indirizzo e l'utilizzazione deg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pazi di autonomia e flessibilità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i componenti del comitato non spettano compensi ad alcun tito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 Black"/>
              </a:rPr>
              <a:t>OBIETTIVI SPECIFI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708280"/>
            <a:ext cx="1066680" cy="21337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806414"/>
                <a:lnTo>
                  <a:pt x="14850" y="21221"/>
                </a:lnTo>
                <a:lnTo>
                  <a:pt x="21600" y="17280"/>
                </a:lnTo>
                <a:lnTo>
                  <a:pt x="14850" y="12581"/>
                </a:lnTo>
                <a:lnTo>
                  <a:pt x="14850" y="14741"/>
                </a:lnTo>
                <a:arcTo wR="21600" hR="7560" stAng="7993586" swAng="2448979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8b390"/>
              </a:gs>
              <a:gs pos="100000">
                <a:srgbClr val="ef5c13"/>
              </a:gs>
            </a:gsLst>
            <a:lin ang="13500000"/>
          </a:gradFill>
          <a:ln w="9360">
            <a:solidFill>
              <a:srgbClr val="ef5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75248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Black"/>
                <a:ea typeface="Arial"/>
              </a:rPr>
              <a:t>a)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attuare “modi di imparare” flessibili, che mettano insieme la formazione in aula con l’esperienza pratica in az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260280"/>
          <a:ext cx="129564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12956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250920" y="260280"/>
            <a:ext cx="8713440" cy="696960"/>
            <a:chOff x="250920" y="260280"/>
            <a:chExt cx="8713440" cy="696960"/>
          </a:xfrm>
        </p:grpSpPr>
        <p:graphicFrame>
          <p:nvGraphicFramePr>
            <p:cNvPr id="58" name=""/>
            <p:cNvGraphicFramePr/>
            <p:nvPr/>
          </p:nvGraphicFramePr>
          <p:xfrm>
            <a:off x="7894440" y="260280"/>
            <a:ext cx="1069920" cy="69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94440" y="260280"/>
                      <a:ext cx="1069920" cy="6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250920" y="260280"/>
              <a:ext cx="863748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 Black"/>
                  <a:ea typeface="Arial"/>
                </a:rPr>
                <a:t>ALTERNANZA SCUOLA - LAVO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37926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Arial"/>
              </a:rPr>
              <a:t>Partendo dall’idea dell’azienda come “luogo di formazione” che, insieme alla Scuola, può contribuire alla crescita umana e professionale dei giov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Black"/>
              </a:rPr>
              <a:t>CARATTERI E RUOLO DEL 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1413000"/>
            <a:ext cx="8064360" cy="1381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trumento permanente di accompagnamento alle attività progett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uogo di confronto e di definizione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356220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lessibile nella compos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erativo nella stesura di accordi e conve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64000" y="3789360"/>
            <a:ext cx="28576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NTEGRAZIONE  FORM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0338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uol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ultura delle conosc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ultura delle compet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3280" y="1557360"/>
            <a:ext cx="4034160" cy="452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ziend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ultura del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ultura della profes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19640" y="2852640"/>
            <a:ext cx="10666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360" y="4365720"/>
            <a:ext cx="10670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2057400"/>
            <a:ext cx="8209080" cy="213372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Century Gothic"/>
              </a:rPr>
              <a:t>Grazie dell’attenzione</a:t>
            </a:r>
            <a:r>
              <a:rPr b="1" lang="en-US" sz="2800" spc="-1" strike="noStrike">
                <a:solidFill>
                  <a:srgbClr val="284c6a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 Black"/>
              </a:rPr>
              <a:t>OBIETTIVI SPECIFI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700280"/>
            <a:ext cx="8763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)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arricchire la formazione acquisita nei percorsi scolastici e formativi con l'acquisizione di competenze spendibili anche nel mercato del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)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favorire l'orientamento dei giovani per valorizzarne le vocazioni personali, gli interessi e gli stili di apprendimento 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260280"/>
            <a:ext cx="8686800" cy="696960"/>
            <a:chOff x="0" y="260280"/>
            <a:chExt cx="8686800" cy="696960"/>
          </a:xfrm>
        </p:grpSpPr>
        <p:graphicFrame>
          <p:nvGraphicFramePr>
            <p:cNvPr id="65" name=""/>
            <p:cNvGraphicFramePr/>
            <p:nvPr/>
          </p:nvGraphicFramePr>
          <p:xfrm>
            <a:off x="7620120" y="260280"/>
            <a:ext cx="1066680" cy="69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0120" y="260280"/>
                      <a:ext cx="1066680" cy="6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0" y="260280"/>
              <a:ext cx="86108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 Black"/>
                  <a:ea typeface="Arial"/>
                </a:rPr>
                <a:t>ALTERNANZA SCUOLA - LAVO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"/>
          <p:cNvGraphicFramePr/>
          <p:nvPr/>
        </p:nvGraphicFramePr>
        <p:xfrm>
          <a:off x="179280" y="0"/>
          <a:ext cx="1152720" cy="10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0"/>
                    <a:ext cx="1152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2281320"/>
            <a:ext cx="813600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d)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realizzare un organico collegamento delle istituzioni scolastiche e formative con il mondo del lavoro e la società civ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e)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correlare l'offerta formativa allo sviluppo culturale, sociale ed economico del territorio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299880"/>
            <a:ext cx="8686800" cy="696960"/>
            <a:chOff x="0" y="299880"/>
            <a:chExt cx="8686800" cy="696960"/>
          </a:xfrm>
        </p:grpSpPr>
        <p:graphicFrame>
          <p:nvGraphicFramePr>
            <p:cNvPr id="72" name=""/>
            <p:cNvGraphicFramePr/>
            <p:nvPr/>
          </p:nvGraphicFramePr>
          <p:xfrm>
            <a:off x="7620120" y="299880"/>
            <a:ext cx="1066680" cy="69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0120" y="299880"/>
                      <a:ext cx="1066680" cy="6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0" y="299880"/>
              <a:ext cx="86108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 Black"/>
                  <a:ea typeface="Arial"/>
                </a:rPr>
                <a:t>ALTERNANZA SCUOLA - LAVO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79280" y="0"/>
          <a:ext cx="1224000" cy="112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0"/>
                    <a:ext cx="122400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 Black"/>
              </a:rPr>
              <a:t>OBIETTIVI SPECIFI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628640"/>
            <a:ext cx="87631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 percorsi in alternanza sono progettati, attuati, verificati e valutati sotto la responsabilità dell'istituzione scolastica o formativa, sulla base di apposite convenzioni con le imprese, o con le rispettive associazioni di rappresentanza, o con le camere di commercio, industria, artigianato e agricoltura, o con gli enti pubblici e privati, ivi inclusi quelli del terzo settore, disponibili ad accogliere gli studenti per periodi di apprendimento in situazione lavorativa, che non costituiscono rapporto individuale di lavo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260280"/>
            <a:ext cx="8686800" cy="696960"/>
            <a:chOff x="0" y="260280"/>
            <a:chExt cx="8686800" cy="696960"/>
          </a:xfrm>
        </p:grpSpPr>
        <p:graphicFrame>
          <p:nvGraphicFramePr>
            <p:cNvPr id="80" name=""/>
            <p:cNvGraphicFramePr/>
            <p:nvPr/>
          </p:nvGraphicFramePr>
          <p:xfrm>
            <a:off x="7620120" y="260280"/>
            <a:ext cx="1066680" cy="69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0120" y="260280"/>
                      <a:ext cx="1066680" cy="6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0" y="260280"/>
              <a:ext cx="86108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 Black"/>
                  <a:ea typeface="Arial"/>
                </a:rPr>
                <a:t>ALTERNANZA SCUOLA - LAVO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179280" y="0"/>
          <a:ext cx="1224000" cy="112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0"/>
                    <a:ext cx="122400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 Black"/>
              </a:rPr>
              <a:t>ORGANIZZ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628640"/>
            <a:ext cx="876312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 istituzioni scolastiche e formative, nell'ambito degli ordinari stanziamenti di bilancio, destinano specifiche risorse alle attività di progettazione dei percorsi in alternanza scuola-lav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 percorsi in alternanza sono oggetto di verifica e valutazione da parte dell'istituzione scolastica o formativ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260280"/>
            <a:ext cx="8686800" cy="696960"/>
            <a:chOff x="0" y="260280"/>
            <a:chExt cx="8686800" cy="696960"/>
          </a:xfrm>
        </p:grpSpPr>
        <p:graphicFrame>
          <p:nvGraphicFramePr>
            <p:cNvPr id="88" name=""/>
            <p:cNvGraphicFramePr/>
            <p:nvPr/>
          </p:nvGraphicFramePr>
          <p:xfrm>
            <a:off x="7620120" y="260280"/>
            <a:ext cx="1066680" cy="69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0120" y="260280"/>
                      <a:ext cx="1066680" cy="6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0" y="260280"/>
              <a:ext cx="86108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 Black"/>
                  <a:ea typeface="Arial"/>
                </a:rPr>
                <a:t>ALTERNANZA SCUOLA - LAVO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1" name=""/>
          <p:cNvGraphicFramePr/>
          <p:nvPr/>
        </p:nvGraphicFramePr>
        <p:xfrm>
          <a:off x="179280" y="0"/>
          <a:ext cx="1224000" cy="112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0"/>
                    <a:ext cx="122400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 Black"/>
              </a:rPr>
              <a:t>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44640"/>
            <a:ext cx="8763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 istituzioni scolastiche, a domanda degli interessati e d'intesa con le regioni, nell'ambito dell'alternanza scuola-lavoro, possono collegarsi con il sistema dell'istruzione e della formazione professionale per la frequenza, negli istituti d'istruzione e formazione professionale, di corsi integrati, attuativi di piani di studio, progettati d'intesa tra i due sistemi e realizzati con il concorso degli operatori di ambedue i siste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260280"/>
            <a:ext cx="8686800" cy="696960"/>
            <a:chOff x="0" y="260280"/>
            <a:chExt cx="8686800" cy="696960"/>
          </a:xfrm>
        </p:grpSpPr>
        <p:graphicFrame>
          <p:nvGraphicFramePr>
            <p:cNvPr id="96" name=""/>
            <p:cNvGraphicFramePr/>
            <p:nvPr/>
          </p:nvGraphicFramePr>
          <p:xfrm>
            <a:off x="7620120" y="260280"/>
            <a:ext cx="1066680" cy="69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0120" y="260280"/>
                      <a:ext cx="1066680" cy="69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0" y="260280"/>
              <a:ext cx="86108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 Black"/>
                  <a:ea typeface="Arial"/>
                </a:rPr>
                <a:t>ALTERNANZA SCUOLA - LAVO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179280" y="0"/>
          <a:ext cx="1224000" cy="112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0"/>
                    <a:ext cx="122400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 Black"/>
              </a:rPr>
              <a:t>PERCORSI INTEGR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38080" y="3645000"/>
          <a:ext cx="76201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645000"/>
                    <a:ext cx="76201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116000" y="3933720"/>
            <a:ext cx="701028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3535a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Identità dell’istituto e sviluppo socio-econo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27280" y="692280"/>
            <a:ext cx="36576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89604" dir="2700000" blurRad="0" rotWithShape="0">
                    <a:srgbClr val="333399"/>
                  </a:outerShdw>
                </a:effectLst>
                <a:latin typeface="Antique Olive"/>
              </a:rPr>
              <a:t>SCUOLA</a:t>
            </a:r>
            <a:endParaRPr b="1" lang="en-US" sz="40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89604" dir="2700000" blurRad="0" rotWithShape="0">
                  <a:srgbClr val="333399"/>
                </a:outerShdw>
              </a:effectLst>
              <a:latin typeface="Antique Olive"/>
              <a:ea typeface="Antique Oliv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1700280"/>
            <a:ext cx="3657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902200"/>
                    </a:gs>
                    <a:gs pos="100000">
                      <a:srgbClr val="cc33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ffffff"/>
                  </a:outerShdw>
                </a:effectLst>
                <a:latin typeface="Antique Olive"/>
              </a:rPr>
              <a:t>AZIENDA</a:t>
            </a:r>
            <a:endParaRPr b="1" lang="en-US" sz="2400" spc="1" strike="noStrike">
              <a:ln w="648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902200"/>
                  </a:gs>
                  <a:gs pos="100000">
                    <a:srgbClr val="cc3300"/>
                  </a:gs>
                </a:gsLst>
                <a:lin ang="13500000"/>
              </a:gradFill>
              <a:effectLst>
                <a:outerShdw dist="40186" dir="4303641" blurRad="0" rotWithShape="0">
                  <a:srgbClr val="ffffff"/>
                </a:outerShdw>
              </a:effectLst>
              <a:latin typeface="Antique Olive"/>
              <a:ea typeface="Antique Oliv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4000" y="2637000"/>
            <a:ext cx="48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Times New Roman"/>
              </a:rPr>
              <a:t>TERRITORI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7:01:37Z</dcterms:created>
  <dc:creator>giuseppe</dc:creator>
  <dc:description/>
  <dc:language>en-US</dc:language>
  <cp:lastModifiedBy>M.I.U.R.</cp:lastModifiedBy>
  <dcterms:modified xsi:type="dcterms:W3CDTF">2011-05-18T10:11:55Z</dcterms:modified>
  <cp:revision>4</cp:revision>
  <dc:subject/>
  <dc:title>Diapositiva 1</dc:title>
</cp:coreProperties>
</file>