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jpeg" ContentType="image/jpeg"/>
  <Override PartName="/ppt/media/image21.jpeg" ContentType="image/jpeg"/>
  <Override PartName="/ppt/media/image29.png" ContentType="image/png"/>
  <Override PartName="/ppt/media/click.wav" ContentType="audio/x-wav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9.jpeg" ContentType="image/jpeg"/>
  <Override PartName="/ppt/media/image11.jpeg" ContentType="image/jpeg"/>
  <Override PartName="/ppt/media/image40.png" ContentType="image/png"/>
  <Override PartName="/ppt/media/image30.jpeg" ContentType="image/jpeg"/>
  <Override PartName="/ppt/media/image31.png" ContentType="image/png"/>
  <Override PartName="/ppt/media/image32.png" ContentType="image/png"/>
  <Override PartName="/ppt/media/image2.jpeg" ContentType="image/jpeg"/>
  <Override PartName="/ppt/media/image36.jpeg" ContentType="image/jpeg"/>
  <Override PartName="/ppt/media/image20.png" ContentType="image/png"/>
  <Override PartName="/ppt/media/image6.jpeg" ContentType="image/jpeg"/>
  <Override PartName="/ppt/media/image45.png" ContentType="image/png"/>
  <Override PartName="/ppt/media/image34.jpeg" ContentType="image/jpeg"/>
  <Override PartName="/ppt/media/image37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3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907588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F91-5D58-4E96-AFEB-062BCC17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C8F-A49D-4E13-B7CF-43EC3A29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20B-EC3D-4533-917B-ACEAFB70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24F-21AE-4767-9A0F-77EBBEAA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468-0A46-464C-BD7E-C3D81BCA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1BC-BE32-474C-8223-72119A2F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834-06DB-45ED-9A6D-26E300AC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4CB-F057-4464-B036-AE8B02FF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42C-C8A7-4F87-BDB1-24AB820F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766-0E55-4B3E-B82D-2574A725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527-5108-4A18-A25D-8C253CE1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E52-25F6-4DC7-B0AF-56A6AE2A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D96E-6012-4754-B050-2F46E57ECCDA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3E3D-2790-452E-8B7C-54D61011816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nnovascuola.gov.it/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2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google.it/imgres?imgurl=http://www.marche-romagna.com/blog/wp-content/Umberto%2520Eco.jpg&amp;imgrefurl=http://www.marche-romagna.com/blog/trial-und-error/2005/12/01/&amp;usg=__mKnh3rvGD2krCefzmFKnPvw-lvQ=&amp;h=306&amp;w=454&amp;sz=16&amp;hl=it&amp;start=32&amp;tbnid=A1ONGLj9WI1vOM:&amp;tbnh=86&amp;tbnw=128&amp;prev=/images%3Fq%3Dumberto%2Beco%26gbv%3D2%26ndsp%3D18%26hl%3Dit%26sa%3DN%26start%3D18" TargetMode="External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2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DF1F-F2C2-4D35-BCEB-8556F895EA6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6" descr="Testata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0160" y="2071440"/>
            <a:ext cx="94327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f497d"/>
                </a:solidFill>
                <a:latin typeface="Verdana"/>
              </a:rPr>
              <a:t>Un link nel web per un salto nel digitale: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800" spc="-1" strike="noStrike">
                <a:solidFill>
                  <a:srgbClr val="1f497d"/>
                </a:solidFill>
                <a:latin typeface="Verdana"/>
              </a:rPr>
              <a:t>InnovaScuola al servizio dell’apprendimento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57200" y="495288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Dott.ssa Maria Letizia Me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Tahoma"/>
              </a:rPr>
              <a:t>Dirigente</a:t>
            </a:r>
            <a:r>
              <a:rPr b="0" i="1" lang="it-IT" sz="1600" spc="-1" strike="noStrike">
                <a:solidFill>
                  <a:srgbClr val="345a88"/>
                </a:solidFill>
                <a:latin typeface="Tahoma"/>
              </a:rPr>
              <a:t> Servizio Studi e Ricerche per l’innovazione dig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Verdana"/>
                <a:ea typeface="Times New Roman"/>
              </a:rPr>
              <a:t>Dipartimento per la digitalizzazione della Pubblica Amministrazione e l'innovazione tecnologica</a:t>
            </a:r>
            <a:r>
              <a:rPr b="0" lang="it-IT" sz="1600" spc="-1" strike="noStrike">
                <a:solidFill>
                  <a:srgbClr val="345a8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934320" y="533412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alibri"/>
              </a:rPr>
              <a:t>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alibri"/>
              </a:rPr>
              <a:t>26 Marz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A32F-74DF-4928-98AB-8D3176C2E27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0" y="1212840"/>
            <a:ext cx="9906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45a88"/>
                </a:solidFill>
                <a:latin typeface="Arial"/>
                <a:ea typeface="宋体"/>
              </a:rPr>
              <a:t>Dalla firma del Protocollo d’ Intesa (30 ottobre 2008), sono stati  raggiunti importanti risulta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Segue.jpg"/>
          <p:cNvPicPr/>
          <p:nvPr/>
        </p:nvPicPr>
        <p:blipFill>
          <a:blip r:embed="rId1"/>
          <a:stretch/>
        </p:blipFill>
        <p:spPr>
          <a:xfrm>
            <a:off x="27288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Risultati consegu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7" descr="Target"/>
          <p:cNvPicPr/>
          <p:nvPr/>
        </p:nvPicPr>
        <p:blipFill>
          <a:blip r:embed="rId2"/>
          <a:stretch/>
        </p:blipFill>
        <p:spPr>
          <a:xfrm>
            <a:off x="9274320" y="3932280"/>
            <a:ext cx="444240" cy="36036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8"/>
          <p:cNvGrpSpPr/>
          <p:nvPr/>
        </p:nvGrpSpPr>
        <p:grpSpPr>
          <a:xfrm>
            <a:off x="9498600" y="3737880"/>
            <a:ext cx="401760" cy="351000"/>
            <a:chOff x="9498600" y="3737880"/>
            <a:chExt cx="401760" cy="351000"/>
          </a:xfrm>
        </p:grpSpPr>
        <p:sp>
          <p:nvSpPr>
            <p:cNvPr id="151" name="AutoShape 9"/>
            <p:cNvSpPr/>
            <p:nvPr/>
          </p:nvSpPr>
          <p:spPr>
            <a:xfrm rot="19298400">
              <a:off x="9465840" y="3926160"/>
              <a:ext cx="412200" cy="38880"/>
            </a:xfrm>
            <a:prstGeom prst="leftArrow">
              <a:avLst>
                <a:gd name="adj1" fmla="val 50000"/>
                <a:gd name="adj2" fmla="val 265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"/>
            <p:cNvSpPr/>
            <p:nvPr/>
          </p:nvSpPr>
          <p:spPr>
            <a:xfrm flipV="1" rot="19212000">
              <a:off x="9736560" y="3838320"/>
              <a:ext cx="168840" cy="45000"/>
            </a:xfrm>
            <a:prstGeom prst="parallelogram">
              <a:avLst>
                <a:gd name="adj" fmla="val 938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 rot="19010400">
              <a:off x="9695160" y="3789000"/>
              <a:ext cx="167760" cy="44640"/>
            </a:xfrm>
            <a:prstGeom prst="parallelogram">
              <a:avLst>
                <a:gd name="adj" fmla="val 93952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13" descr="Target"/>
          <p:cNvPicPr/>
          <p:nvPr/>
        </p:nvPicPr>
        <p:blipFill>
          <a:blip r:embed="rId3"/>
          <a:stretch/>
        </p:blipFill>
        <p:spPr>
          <a:xfrm>
            <a:off x="9274320" y="1989000"/>
            <a:ext cx="444240" cy="36036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4"/>
          <p:cNvGrpSpPr/>
          <p:nvPr/>
        </p:nvGrpSpPr>
        <p:grpSpPr>
          <a:xfrm>
            <a:off x="9498600" y="1793160"/>
            <a:ext cx="401760" cy="351360"/>
            <a:chOff x="9498600" y="1793160"/>
            <a:chExt cx="401760" cy="351360"/>
          </a:xfrm>
        </p:grpSpPr>
        <p:sp>
          <p:nvSpPr>
            <p:cNvPr id="156" name="AutoShape 15"/>
            <p:cNvSpPr/>
            <p:nvPr/>
          </p:nvSpPr>
          <p:spPr>
            <a:xfrm rot="19298400">
              <a:off x="9465840" y="1981800"/>
              <a:ext cx="412200" cy="38880"/>
            </a:xfrm>
            <a:prstGeom prst="leftArrow">
              <a:avLst>
                <a:gd name="adj1" fmla="val 50000"/>
                <a:gd name="adj2" fmla="val 265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6"/>
            <p:cNvSpPr/>
            <p:nvPr/>
          </p:nvSpPr>
          <p:spPr>
            <a:xfrm flipV="1" rot="19212000">
              <a:off x="9736560" y="1893600"/>
              <a:ext cx="168840" cy="45000"/>
            </a:xfrm>
            <a:prstGeom prst="parallelogram">
              <a:avLst>
                <a:gd name="adj" fmla="val 938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7"/>
            <p:cNvSpPr/>
            <p:nvPr/>
          </p:nvSpPr>
          <p:spPr>
            <a:xfrm rot="19010400">
              <a:off x="9695160" y="1844280"/>
              <a:ext cx="167760" cy="45000"/>
            </a:xfrm>
            <a:prstGeom prst="parallelogram">
              <a:avLst>
                <a:gd name="adj" fmla="val 932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19" descr="Target"/>
          <p:cNvPicPr/>
          <p:nvPr/>
        </p:nvPicPr>
        <p:blipFill>
          <a:blip r:embed="rId4"/>
          <a:stretch/>
        </p:blipFill>
        <p:spPr>
          <a:xfrm>
            <a:off x="9274320" y="4797360"/>
            <a:ext cx="444240" cy="36036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20"/>
          <p:cNvGrpSpPr/>
          <p:nvPr/>
        </p:nvGrpSpPr>
        <p:grpSpPr>
          <a:xfrm>
            <a:off x="9498600" y="4641120"/>
            <a:ext cx="401760" cy="351360"/>
            <a:chOff x="9498600" y="4641120"/>
            <a:chExt cx="401760" cy="351360"/>
          </a:xfrm>
        </p:grpSpPr>
        <p:sp>
          <p:nvSpPr>
            <p:cNvPr id="161" name="AutoShape 21"/>
            <p:cNvSpPr/>
            <p:nvPr/>
          </p:nvSpPr>
          <p:spPr>
            <a:xfrm rot="19298400">
              <a:off x="9465840" y="4829760"/>
              <a:ext cx="412200" cy="38880"/>
            </a:xfrm>
            <a:prstGeom prst="leftArrow">
              <a:avLst>
                <a:gd name="adj1" fmla="val 50000"/>
                <a:gd name="adj2" fmla="val 265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2"/>
            <p:cNvSpPr/>
            <p:nvPr/>
          </p:nvSpPr>
          <p:spPr>
            <a:xfrm flipV="1" rot="19212000">
              <a:off x="9736560" y="4741560"/>
              <a:ext cx="168840" cy="45000"/>
            </a:xfrm>
            <a:prstGeom prst="parallelogram">
              <a:avLst>
                <a:gd name="adj" fmla="val 938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3"/>
            <p:cNvSpPr/>
            <p:nvPr/>
          </p:nvSpPr>
          <p:spPr>
            <a:xfrm rot="19010400">
              <a:off x="9695160" y="4692240"/>
              <a:ext cx="167760" cy="45000"/>
            </a:xfrm>
            <a:prstGeom prst="parallelogram">
              <a:avLst>
                <a:gd name="adj" fmla="val 932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25" descr="Target"/>
          <p:cNvPicPr/>
          <p:nvPr/>
        </p:nvPicPr>
        <p:blipFill>
          <a:blip r:embed="rId5"/>
          <a:stretch/>
        </p:blipFill>
        <p:spPr>
          <a:xfrm>
            <a:off x="9274320" y="5948280"/>
            <a:ext cx="444240" cy="36036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26"/>
          <p:cNvGrpSpPr/>
          <p:nvPr/>
        </p:nvGrpSpPr>
        <p:grpSpPr>
          <a:xfrm>
            <a:off x="9498600" y="5752440"/>
            <a:ext cx="401760" cy="351000"/>
            <a:chOff x="9498600" y="5752440"/>
            <a:chExt cx="401760" cy="351000"/>
          </a:xfrm>
        </p:grpSpPr>
        <p:sp>
          <p:nvSpPr>
            <p:cNvPr id="166" name="AutoShape 27"/>
            <p:cNvSpPr/>
            <p:nvPr/>
          </p:nvSpPr>
          <p:spPr>
            <a:xfrm rot="19298400">
              <a:off x="9465840" y="5940720"/>
              <a:ext cx="412200" cy="38880"/>
            </a:xfrm>
            <a:prstGeom prst="leftArrow">
              <a:avLst>
                <a:gd name="adj1" fmla="val 50000"/>
                <a:gd name="adj2" fmla="val 265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28"/>
            <p:cNvSpPr/>
            <p:nvPr/>
          </p:nvSpPr>
          <p:spPr>
            <a:xfrm flipV="1" rot="19212000">
              <a:off x="9736560" y="5852880"/>
              <a:ext cx="168840" cy="45000"/>
            </a:xfrm>
            <a:prstGeom prst="parallelogram">
              <a:avLst>
                <a:gd name="adj" fmla="val 938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9"/>
            <p:cNvSpPr/>
            <p:nvPr/>
          </p:nvSpPr>
          <p:spPr>
            <a:xfrm rot="19010400">
              <a:off x="9695160" y="5803560"/>
              <a:ext cx="167760" cy="44640"/>
            </a:xfrm>
            <a:prstGeom prst="parallelogram">
              <a:avLst>
                <a:gd name="adj" fmla="val 93952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31" descr="Target"/>
          <p:cNvPicPr/>
          <p:nvPr/>
        </p:nvPicPr>
        <p:blipFill>
          <a:blip r:embed="rId6"/>
          <a:stretch/>
        </p:blipFill>
        <p:spPr>
          <a:xfrm>
            <a:off x="9274320" y="2924280"/>
            <a:ext cx="444240" cy="36036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32"/>
          <p:cNvGrpSpPr/>
          <p:nvPr/>
        </p:nvGrpSpPr>
        <p:grpSpPr>
          <a:xfrm>
            <a:off x="9498600" y="2769480"/>
            <a:ext cx="401760" cy="351360"/>
            <a:chOff x="9498600" y="2769480"/>
            <a:chExt cx="401760" cy="351360"/>
          </a:xfrm>
        </p:grpSpPr>
        <p:sp>
          <p:nvSpPr>
            <p:cNvPr id="171" name="AutoShape 33"/>
            <p:cNvSpPr/>
            <p:nvPr/>
          </p:nvSpPr>
          <p:spPr>
            <a:xfrm rot="19298400">
              <a:off x="9465840" y="2958120"/>
              <a:ext cx="412200" cy="38880"/>
            </a:xfrm>
            <a:prstGeom prst="leftArrow">
              <a:avLst>
                <a:gd name="adj1" fmla="val 50000"/>
                <a:gd name="adj2" fmla="val 2650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34"/>
            <p:cNvSpPr/>
            <p:nvPr/>
          </p:nvSpPr>
          <p:spPr>
            <a:xfrm flipV="1" rot="19212000">
              <a:off x="9736560" y="2869920"/>
              <a:ext cx="168840" cy="45000"/>
            </a:xfrm>
            <a:prstGeom prst="parallelogram">
              <a:avLst>
                <a:gd name="adj" fmla="val 938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5"/>
            <p:cNvSpPr/>
            <p:nvPr/>
          </p:nvSpPr>
          <p:spPr>
            <a:xfrm rot="19010400">
              <a:off x="9695160" y="2820600"/>
              <a:ext cx="167760" cy="45000"/>
            </a:xfrm>
            <a:prstGeom prst="parallelogram">
              <a:avLst>
                <a:gd name="adj" fmla="val 932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7"/>
          <p:cNvSpPr/>
          <p:nvPr/>
        </p:nvSpPr>
        <p:spPr>
          <a:xfrm>
            <a:off x="57240" y="1660680"/>
            <a:ext cx="900108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buClr>
                <a:srgbClr val="009900"/>
              </a:buClr>
              <a:buFont typeface="Calibri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fornite circa 12.000 </a:t>
            </a:r>
            <a:r>
              <a:rPr b="1" lang="it-IT" sz="1800" spc="-1" strike="noStrike" u="sng">
                <a:solidFill>
                  <a:srgbClr val="1f497d"/>
                </a:solidFill>
                <a:uFillTx/>
                <a:latin typeface="Calibri"/>
                <a:ea typeface="宋体"/>
              </a:rPr>
              <a:t>Lavagne digitali</a:t>
            </a: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(utilizzate da oltre 200.000 studenti e 30.000 docent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  </a:t>
            </a: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Entro il 2010 saranno fornite circa altre 20.000 lavagne digitali, finanziate interamente dal    </a:t>
            </a:r>
            <a:br>
              <a:rPr sz="1800"/>
            </a:b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  MI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57240" y="2708280"/>
            <a:ext cx="907236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95000"/>
              </a:lnSpc>
              <a:buClr>
                <a:srgbClr val="009900"/>
              </a:buClr>
              <a:buFont typeface="Calibri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finanziate 550 scuole per progetti di “</a:t>
            </a:r>
            <a:r>
              <a:rPr b="1" lang="it-IT" sz="1800" spc="-1" strike="noStrike" u="sng">
                <a:solidFill>
                  <a:srgbClr val="1f497d"/>
                </a:solidFill>
                <a:uFillTx/>
                <a:latin typeface="Calibri"/>
                <a:ea typeface="宋体"/>
              </a:rPr>
              <a:t>didattica digitale</a:t>
            </a: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” dal Ministero della P.A. ed   </a:t>
            </a:r>
            <a:br>
              <a:rPr sz="1800"/>
            </a:b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  Innovazione, su tutto il territorio nazionale (l’iniziativa coinvolge 1.700 classi, oltre 35.000   </a:t>
            </a:r>
            <a:br>
              <a:rPr sz="1800"/>
            </a:b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  studenti, 5.000 docenti), che si aggiungono alle 156 scuole finanziate dal MIUR con il </a:t>
            </a:r>
            <a:br>
              <a:rPr sz="1800"/>
            </a:b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  progetto Classi 2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1"/>
          <p:cNvSpPr/>
          <p:nvPr/>
        </p:nvSpPr>
        <p:spPr>
          <a:xfrm>
            <a:off x="57240" y="3789360"/>
            <a:ext cx="9072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95000"/>
              </a:lnSpc>
              <a:buClr>
                <a:srgbClr val="009900"/>
              </a:buClr>
              <a:buFont typeface="Calibri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è stato attivato il portale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InnovaScuola, </a:t>
            </a: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con il quale tutte le scuole potranno scaricare </a:t>
            </a:r>
            <a:br>
              <a:rPr sz="1800"/>
            </a:b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  materiali digitali per la didattica, approfondire l’utilizzo dei nuovi strumenti ed utilizzare gli </a:t>
            </a:r>
            <a:br>
              <a:rPr sz="1800"/>
            </a:b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  strumenti di collaborazione e condivisione presenti in MyIn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7240" y="4581360"/>
            <a:ext cx="94327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95000"/>
              </a:lnSpc>
              <a:buClr>
                <a:srgbClr val="009900"/>
              </a:buClr>
              <a:buFont typeface="Calibri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è stato avviato il progetto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“Smart inclusion”</a:t>
            </a: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: la prima installazione è stata realizzata presso </a:t>
            </a:r>
            <a:br>
              <a:rPr sz="1800"/>
            </a:b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  l’ospedale S.Orsola di Bologna,  successivamente presso il Bambin Gesù di Roma, l’Azienda </a:t>
            </a:r>
            <a:br>
              <a:rPr sz="1800"/>
            </a:b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  ospedaliera di Padova ed il Meyer di Firenze (prossime realizzazioni: Regina Margherita di </a:t>
            </a:r>
            <a:br>
              <a:rPr sz="1800"/>
            </a:b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  Torino; San Matteo di Pavia; Istituto Gaslini di Geno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7240" y="5589720"/>
            <a:ext cx="9289800" cy="13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95000"/>
              </a:lnSpc>
              <a:spcBef>
                <a:spcPts val="224"/>
              </a:spcBef>
              <a:buClr>
                <a:srgbClr val="009900"/>
              </a:buClr>
              <a:buFont typeface="Calibri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è stato attivato il portale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Scuola-famiglia </a:t>
            </a: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http://scuolamia.istruzione.it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 con cui  </a:t>
            </a: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le scuole </a:t>
            </a:r>
            <a:br>
              <a:rPr sz="1800"/>
            </a:b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  potranno erogare servizi digitali alle famiglie: pagella online, notifica delle assenze via SMS, </a:t>
            </a:r>
            <a:br>
              <a:rPr sz="1800"/>
            </a:b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  consultazione del registro,  prenotazione dei colloqui con i docenti e rilascio di certificati </a:t>
            </a:r>
            <a:br>
              <a:rPr sz="1800"/>
            </a:br>
            <a:r>
              <a:rPr b="0" lang="it-IT" sz="1800" spc="-1" strike="noStrike">
                <a:solidFill>
                  <a:srgbClr val="1f497d"/>
                </a:solidFill>
                <a:latin typeface="Calibri"/>
                <a:ea typeface="宋体"/>
              </a:rPr>
              <a:t>  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224"/>
              </a:spcBef>
              <a:buClr>
                <a:srgbClr val="009900"/>
              </a:buClr>
              <a:buFont typeface="Calibri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4CD2-FAC4-4219-A3EB-17AEDEDEE50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5800" y="33300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Nuove inizi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00160" y="836640"/>
            <a:ext cx="94042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>
              <a:lnSpc>
                <a:spcPct val="95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Compagno di classe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: fornire dei  mini-PC agli studenti,  da utilizzare in classe ed a casa per fini didattici.  L’iniziativa, sarà attuata tramite l’erogazione di un contributo governativo per l’acquisto e servirà per sperimentare l’utilizzo di contenuti didattici digitali, ebooks e nuovi ambienti di apprendimento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>
              <a:lnSpc>
                <a:spcPct val="95000"/>
              </a:lnSpc>
              <a:spcBef>
                <a:spcPts val="249"/>
              </a:spcBef>
              <a:buClr>
                <a:srgbClr val="009900"/>
              </a:buClr>
              <a:buFont typeface="Calibri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Internet nelle aule: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è prevista la pubblicazione di un Avviso per l’erogazione di un finanziamento destinato alle scuole che vogliono rendere disponibile, nelle aule, Internet a tutti gli stu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>
              <a:lnSpc>
                <a:spcPct val="95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Innovascuola 2.0: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è previsto il rilascio di una nuova piattaforma di contenuti digitali per la scuola. La nuova versione sarà arricchita nei contenuti e offrirà nuovi strumenti di collaborazione tra docenti e stu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>
              <a:lnSpc>
                <a:spcPct val="95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Premiare l’innovazione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: saranno premiati nell’ambito del prossimo ForumPA, 17-20 maggio 2010, le scuole che hanno prodotto i migliori contenuti didattici digitali nell’ambito del premio “A scuola di innovazio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binocolo"/>
          <p:cNvPicPr/>
          <p:nvPr/>
        </p:nvPicPr>
        <p:blipFill>
          <a:blip r:embed="rId2"/>
          <a:stretch/>
        </p:blipFill>
        <p:spPr>
          <a:xfrm>
            <a:off x="0" y="1628640"/>
            <a:ext cx="631800" cy="587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inocolo"/>
          <p:cNvPicPr/>
          <p:nvPr/>
        </p:nvPicPr>
        <p:blipFill>
          <a:blip r:embed="rId3"/>
          <a:stretch/>
        </p:blipFill>
        <p:spPr>
          <a:xfrm>
            <a:off x="0" y="2770200"/>
            <a:ext cx="631800" cy="58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binocolo"/>
          <p:cNvPicPr/>
          <p:nvPr/>
        </p:nvPicPr>
        <p:blipFill>
          <a:blip r:embed="rId4"/>
          <a:stretch/>
        </p:blipFill>
        <p:spPr>
          <a:xfrm>
            <a:off x="0" y="3789360"/>
            <a:ext cx="631800" cy="587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binocolo"/>
          <p:cNvPicPr/>
          <p:nvPr/>
        </p:nvPicPr>
        <p:blipFill>
          <a:blip r:embed="rId5"/>
          <a:stretch/>
        </p:blipFill>
        <p:spPr>
          <a:xfrm>
            <a:off x="0" y="4724280"/>
            <a:ext cx="63180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540F-2566-4792-96E2-717AE40C409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  <a:ea typeface="Arial"/>
              </a:rPr>
              <a:t>DM 41 dell’8 aprile 200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849240" y="2060640"/>
            <a:ext cx="8209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“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Il libro di testo, nella sua versione a stampa, on line e mista, costituisce uno degli strumenti didattici per la realizzazione dei </a:t>
            </a:r>
            <a:r>
              <a:rPr b="1" lang="it-IT" sz="2000" spc="-1" strike="noStrike">
                <a:solidFill>
                  <a:srgbClr val="ff3300"/>
                </a:solidFill>
                <a:latin typeface="Calibri"/>
                <a:ea typeface="宋体"/>
              </a:rPr>
              <a:t>processi di apprendimento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 definiti dagli ordinamenti scolastici dei diversi ordini e gradi di istruzione. L’assunto appare tanto più vero in una fase della storia della scuola italiana in cui si mira – anche attraverso </a:t>
            </a:r>
            <a:r>
              <a:rPr b="1" lang="it-IT" sz="2000" spc="-1" strike="noStrike">
                <a:solidFill>
                  <a:srgbClr val="ff3300"/>
                </a:solidFill>
                <a:latin typeface="Calibri"/>
                <a:ea typeface="宋体"/>
              </a:rPr>
              <a:t>un’articolata personalizzazione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 dei percorsi e dei curricoli – sia a valorizzare al meglio il conseguimento di conoscenze e competenze durature, sia a perseguire </a:t>
            </a:r>
            <a:r>
              <a:rPr b="1" lang="it-IT" sz="2000" spc="-1" strike="noStrike">
                <a:solidFill>
                  <a:srgbClr val="ff3300"/>
                </a:solidFill>
                <a:latin typeface="Calibri"/>
                <a:ea typeface="宋体"/>
              </a:rPr>
              <a:t>azioni di recupero in itinere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 delle carenze formative e di </a:t>
            </a:r>
            <a:r>
              <a:rPr b="1" lang="it-IT" sz="2000" spc="-1" strike="noStrike">
                <a:solidFill>
                  <a:srgbClr val="ff3300"/>
                </a:solidFill>
                <a:latin typeface="Calibri"/>
                <a:ea typeface="宋体"/>
              </a:rPr>
              <a:t>valorizzazione delle eccellenze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  <a:ea typeface="宋体"/>
              </a:rPr>
              <a:t>. In tale contesto, si rende pertanto necessario l’uso di strumenti didattici componibili e integrabi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9022-94E5-4596-9BF5-CAE85CD6017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  <a:ea typeface="Arial"/>
              </a:rPr>
              <a:t>- Piattaforma InnovaScuola -</a:t>
            </a: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0" y="260280"/>
            <a:ext cx="9677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Verdana"/>
                <a:ea typeface="Times New Roman"/>
              </a:rPr>
              <a:t>Il Portale </a:t>
            </a:r>
            <a:r>
              <a:rPr b="0" lang="it-IT" sz="20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  <a:hlinkClick r:id="rId2"/>
              </a:rPr>
              <a:t>www.innovascuola.gov.it</a:t>
            </a:r>
            <a:r>
              <a:rPr b="0" lang="it-IT" sz="2000" spc="-1" strike="noStrike">
                <a:solidFill>
                  <a:srgbClr val="1f497d"/>
                </a:solidFill>
                <a:latin typeface="Verdana"/>
                <a:ea typeface="Times New Roman"/>
              </a:rPr>
              <a:t> è il risultato di un lungo percorso di progettazione e sperimentazione, realizzato con 560 scuole superiori nel corso degli anni scolastici 2006/07 e 2007/08 nell’ambito del progetto Digi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Verdana"/>
                <a:ea typeface="Times New Roman"/>
              </a:rPr>
              <a:t>E’ una piattaforma collaborativa di nuova generazione, che affianca una libreria di </a:t>
            </a:r>
            <a:r>
              <a:rPr b="1" lang="it-IT" sz="2000" spc="-1" strike="noStrike">
                <a:solidFill>
                  <a:srgbClr val="1f497d"/>
                </a:solidFill>
                <a:latin typeface="Verdana"/>
                <a:ea typeface="Times New Roman"/>
              </a:rPr>
              <a:t>contenuti didattici digitali</a:t>
            </a:r>
            <a:r>
              <a:rPr b="0" lang="it-IT" sz="2000" spc="-1" strike="noStrike">
                <a:solidFill>
                  <a:srgbClr val="1f497d"/>
                </a:solidFill>
                <a:latin typeface="Verdana"/>
                <a:ea typeface="Times New Roman"/>
              </a:rPr>
              <a:t> (gratuiti con licenze </a:t>
            </a:r>
            <a:r>
              <a:rPr b="0" i="1" lang="it-IT" sz="2000" spc="-1" strike="noStrike">
                <a:solidFill>
                  <a:srgbClr val="1f497d"/>
                </a:solidFill>
                <a:latin typeface="Verdana"/>
                <a:ea typeface="Times New Roman"/>
              </a:rPr>
              <a:t>creative commons</a:t>
            </a:r>
            <a:r>
              <a:rPr b="0" lang="it-IT" sz="2000" spc="-1" strike="noStrike">
                <a:solidFill>
                  <a:srgbClr val="1f497d"/>
                </a:solidFill>
                <a:latin typeface="Verdana"/>
                <a:ea typeface="Times New Roman"/>
              </a:rPr>
              <a:t> e a pagamento) a strumenti di </a:t>
            </a:r>
            <a:r>
              <a:rPr b="1" i="1" lang="it-IT" sz="2000" spc="-1" strike="noStrike">
                <a:solidFill>
                  <a:srgbClr val="1f497d"/>
                </a:solidFill>
                <a:latin typeface="Verdana"/>
                <a:ea typeface="Times New Roman"/>
              </a:rPr>
              <a:t>social networking</a:t>
            </a:r>
            <a:r>
              <a:rPr b="0" lang="it-IT" sz="2000" spc="-1" strike="noStrike">
                <a:solidFill>
                  <a:srgbClr val="1f497d"/>
                </a:solidFill>
                <a:latin typeface="Verdana"/>
                <a:ea typeface="Times New Roman"/>
              </a:rPr>
              <a:t> per la condivisione, lo sviluppo collaborativo (tra docenti e tra docenti e studenti) e la fruizione di contenuti digit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logo"/>
          <p:cNvPicPr/>
          <p:nvPr/>
        </p:nvPicPr>
        <p:blipFill>
          <a:blip r:embed="rId3"/>
          <a:stretch/>
        </p:blipFill>
        <p:spPr>
          <a:xfrm>
            <a:off x="631800" y="4437000"/>
            <a:ext cx="822960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55"/>
          <p:cNvGrpSpPr/>
          <p:nvPr/>
        </p:nvGrpSpPr>
        <p:grpSpPr>
          <a:xfrm>
            <a:off x="77760" y="1370160"/>
            <a:ext cx="7180200" cy="5290920"/>
            <a:chOff x="77760" y="1370160"/>
            <a:chExt cx="7180200" cy="5290920"/>
          </a:xfrm>
        </p:grpSpPr>
        <p:pic>
          <p:nvPicPr>
            <p:cNvPr id="200" name="Picture 11" descr="home page"/>
            <p:cNvPicPr/>
            <p:nvPr/>
          </p:nvPicPr>
          <p:blipFill>
            <a:blip r:embed="rId1"/>
            <a:srcRect l="0" t="0" r="0" b="35467"/>
            <a:stretch/>
          </p:blipFill>
          <p:spPr>
            <a:xfrm>
              <a:off x="77760" y="1370160"/>
              <a:ext cx="7180200" cy="52909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01" name="Rectangle 54"/>
            <p:cNvSpPr/>
            <p:nvPr/>
          </p:nvSpPr>
          <p:spPr>
            <a:xfrm>
              <a:off x="992160" y="1413000"/>
              <a:ext cx="504720" cy="21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6"/>
          <p:cNvGrpSpPr/>
          <p:nvPr/>
        </p:nvGrpSpPr>
        <p:grpSpPr>
          <a:xfrm>
            <a:off x="4604760" y="2773440"/>
            <a:ext cx="1042200" cy="902160"/>
            <a:chOff x="4604760" y="2773440"/>
            <a:chExt cx="1042200" cy="902160"/>
          </a:xfrm>
        </p:grpSpPr>
        <p:sp>
          <p:nvSpPr>
            <p:cNvPr id="203" name="AutoShape 37"/>
            <p:cNvSpPr/>
            <p:nvPr/>
          </p:nvSpPr>
          <p:spPr>
            <a:xfrm rot="2187600">
              <a:off x="5135040" y="3434760"/>
              <a:ext cx="538200" cy="8928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8"/>
            <p:cNvSpPr/>
            <p:nvPr/>
          </p:nvSpPr>
          <p:spPr>
            <a:xfrm rot="2224800">
              <a:off x="4665240" y="2923920"/>
              <a:ext cx="639360" cy="415440"/>
            </a:xfrm>
            <a:prstGeom prst="pie">
              <a:avLst/>
            </a:pr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39"/>
          <p:cNvGrpSpPr/>
          <p:nvPr/>
        </p:nvGrpSpPr>
        <p:grpSpPr>
          <a:xfrm>
            <a:off x="4399200" y="3680280"/>
            <a:ext cx="2221560" cy="1897200"/>
            <a:chOff x="4399200" y="3680280"/>
            <a:chExt cx="2221560" cy="1897200"/>
          </a:xfrm>
        </p:grpSpPr>
        <p:sp>
          <p:nvSpPr>
            <p:cNvPr id="206" name="AutoShape 40"/>
            <p:cNvSpPr/>
            <p:nvPr/>
          </p:nvSpPr>
          <p:spPr>
            <a:xfrm rot="2187600">
              <a:off x="5526000" y="5067360"/>
              <a:ext cx="1152360" cy="18576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1"/>
            <p:cNvSpPr/>
            <p:nvPr/>
          </p:nvSpPr>
          <p:spPr>
            <a:xfrm rot="2224800">
              <a:off x="4520880" y="4005360"/>
              <a:ext cx="1368360" cy="863640"/>
            </a:xfrm>
            <a:prstGeom prst="pie">
              <a:avLst/>
            </a:prstGeom>
            <a:noFill/>
            <a:ln w="158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AutoShape 45"/>
          <p:cNvSpPr/>
          <p:nvPr/>
        </p:nvSpPr>
        <p:spPr>
          <a:xfrm>
            <a:off x="7473960" y="1378080"/>
            <a:ext cx="2432160" cy="18604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Libreria Digitale</a:t>
            </a:r>
            <a:r>
              <a:rPr b="0" lang="it-IT" sz="1200" spc="-1" strike="noStrike">
                <a:solidFill>
                  <a:srgbClr val="1f497d"/>
                </a:solidFill>
                <a:latin typeface="Verdana"/>
              </a:rPr>
              <a:t>: </a:t>
            </a: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contiene una</a:t>
            </a:r>
            <a:r>
              <a:rPr b="0" lang="it-IT" sz="1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vasta collezione   di materiale didattico multimedia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gratuito o a pagament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catalogato per ordine di stu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su tutte le mate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6"/>
          <p:cNvSpPr/>
          <p:nvPr/>
        </p:nvSpPr>
        <p:spPr>
          <a:xfrm>
            <a:off x="7473960" y="3906720"/>
            <a:ext cx="2432160" cy="20163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Approfondimenti,</a:t>
            </a: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un’area per i Docenti con Canali tematici, “per conoscere tutto su …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e Pillole formative sulle nuove tecnologie per la didatt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7"/>
          <p:cNvSpPr/>
          <p:nvPr/>
        </p:nvSpPr>
        <p:spPr>
          <a:xfrm>
            <a:off x="7473960" y="3429000"/>
            <a:ext cx="2432160" cy="3603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MyInn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48"/>
          <p:cNvGrpSpPr/>
          <p:nvPr/>
        </p:nvGrpSpPr>
        <p:grpSpPr>
          <a:xfrm>
            <a:off x="-236880" y="5191920"/>
            <a:ext cx="1806120" cy="1614240"/>
            <a:chOff x="-236880" y="5191920"/>
            <a:chExt cx="1806120" cy="1614240"/>
          </a:xfrm>
        </p:grpSpPr>
        <p:sp>
          <p:nvSpPr>
            <p:cNvPr id="212" name="AutoShape 49"/>
            <p:cNvSpPr/>
            <p:nvPr/>
          </p:nvSpPr>
          <p:spPr>
            <a:xfrm rot="2187600">
              <a:off x="687600" y="6383880"/>
              <a:ext cx="923040" cy="16416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34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50"/>
            <p:cNvSpPr/>
            <p:nvPr/>
          </p:nvSpPr>
          <p:spPr>
            <a:xfrm rot="2224800">
              <a:off x="-117360" y="5445000"/>
              <a:ext cx="1096200" cy="763560"/>
            </a:xfrm>
            <a:prstGeom prst="pie">
              <a:avLst/>
            </a:prstGeom>
            <a:noFill/>
            <a:ln w="15840">
              <a:solidFill>
                <a:srgbClr val="3489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AutoShape 51"/>
          <p:cNvSpPr/>
          <p:nvPr/>
        </p:nvSpPr>
        <p:spPr>
          <a:xfrm>
            <a:off x="7473960" y="6046920"/>
            <a:ext cx="2432160" cy="647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34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Esperie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Per condividere tutto il know-h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3" descr="Segue.jpg"/>
          <p:cNvPicPr/>
          <p:nvPr/>
        </p:nvPicPr>
        <p:blipFill>
          <a:blip r:embed="rId2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2"/>
          <p:cNvSpPr/>
          <p:nvPr/>
        </p:nvSpPr>
        <p:spPr>
          <a:xfrm>
            <a:off x="3368520" y="-50760"/>
            <a:ext cx="29368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Home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42"/>
          <p:cNvGrpSpPr/>
          <p:nvPr/>
        </p:nvGrpSpPr>
        <p:grpSpPr>
          <a:xfrm>
            <a:off x="-162360" y="969120"/>
            <a:ext cx="2571840" cy="1375560"/>
            <a:chOff x="-162360" y="969120"/>
            <a:chExt cx="2571840" cy="1375560"/>
          </a:xfrm>
        </p:grpSpPr>
        <p:sp>
          <p:nvSpPr>
            <p:cNvPr id="218" name="AutoShape 43"/>
            <p:cNvSpPr/>
            <p:nvPr/>
          </p:nvSpPr>
          <p:spPr>
            <a:xfrm rot="916200">
              <a:off x="1218240" y="1978200"/>
              <a:ext cx="1183680" cy="21420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44"/>
            <p:cNvSpPr/>
            <p:nvPr/>
          </p:nvSpPr>
          <p:spPr>
            <a:xfrm rot="953400">
              <a:off x="-52560" y="1142280"/>
              <a:ext cx="1405440" cy="996480"/>
            </a:xfrm>
            <a:prstGeom prst="pie">
              <a:avLst/>
            </a:prstGeom>
            <a:noFill/>
            <a:ln w="158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Object 21"/>
          <p:cNvGraphicFramePr/>
          <p:nvPr/>
        </p:nvGraphicFramePr>
        <p:xfrm>
          <a:off x="1568520" y="1297080"/>
          <a:ext cx="6624720" cy="54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1297080"/>
                    <a:ext cx="6624720" cy="54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Picture 13" descr="Segue.jpg"/>
          <p:cNvPicPr/>
          <p:nvPr/>
        </p:nvPicPr>
        <p:blipFill>
          <a:blip r:embed="rId3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7"/>
          <p:cNvSpPr/>
          <p:nvPr/>
        </p:nvSpPr>
        <p:spPr>
          <a:xfrm>
            <a:off x="3368520" y="-50760"/>
            <a:ext cx="29368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Nuova Home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BFEB-208C-4B2C-B54B-D6E3811380D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  <a:ea typeface="Arial"/>
              </a:rPr>
              <a:t>Spazio collaboraz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0" y="1341360"/>
            <a:ext cx="41580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272880" y="1341360"/>
            <a:ext cx="4319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032520" y="1268280"/>
            <a:ext cx="38736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2" descr="cooperazione"/>
          <p:cNvPicPr/>
          <p:nvPr/>
        </p:nvPicPr>
        <p:blipFill>
          <a:blip r:embed="rId2"/>
          <a:stretch/>
        </p:blipFill>
        <p:spPr>
          <a:xfrm rot="2233200">
            <a:off x="5239800" y="1988640"/>
            <a:ext cx="3840480" cy="3745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3" descr=""/>
          <p:cNvPicPr/>
          <p:nvPr/>
        </p:nvPicPr>
        <p:blipFill>
          <a:blip r:embed="rId3"/>
          <a:stretch/>
        </p:blipFill>
        <p:spPr>
          <a:xfrm>
            <a:off x="272880" y="5384880"/>
            <a:ext cx="4175280" cy="1428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4" descr=""/>
          <p:cNvPicPr/>
          <p:nvPr/>
        </p:nvPicPr>
        <p:blipFill>
          <a:blip r:embed="rId4"/>
          <a:stretch/>
        </p:blipFill>
        <p:spPr>
          <a:xfrm>
            <a:off x="200160" y="4119480"/>
            <a:ext cx="4248000" cy="1552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5" descr=""/>
          <p:cNvPicPr/>
          <p:nvPr/>
        </p:nvPicPr>
        <p:blipFill>
          <a:blip r:embed="rId5"/>
          <a:stretch/>
        </p:blipFill>
        <p:spPr>
          <a:xfrm>
            <a:off x="200160" y="2720880"/>
            <a:ext cx="4248000" cy="1440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6" descr=""/>
          <p:cNvPicPr/>
          <p:nvPr/>
        </p:nvPicPr>
        <p:blipFill>
          <a:blip r:embed="rId6"/>
          <a:stretch/>
        </p:blipFill>
        <p:spPr>
          <a:xfrm>
            <a:off x="200160" y="1136520"/>
            <a:ext cx="42480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DCD9-9975-480F-BA6B-4EB9E2F905A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  <a:ea typeface="Arial"/>
              </a:rPr>
              <a:t>Libreria Digit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1341360"/>
            <a:ext cx="41580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72880" y="1341360"/>
            <a:ext cx="4319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032520" y="1268280"/>
            <a:ext cx="38736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"/>
          <p:cNvPicPr/>
          <p:nvPr/>
        </p:nvPicPr>
        <p:blipFill>
          <a:blip r:embed="rId2"/>
          <a:stretch/>
        </p:blipFill>
        <p:spPr>
          <a:xfrm>
            <a:off x="272880" y="1413000"/>
            <a:ext cx="9012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EAA5-CF2A-4AAE-A828-4448F8B69DA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6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Contenuti  Didattici Gratu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80"/>
                </a:solidFill>
                <a:latin typeface="Arial"/>
              </a:rPr>
              <a:t>Rilasciati sotto licenza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contenuti gratuiti"/>
          <p:cNvPicPr/>
          <p:nvPr/>
        </p:nvPicPr>
        <p:blipFill>
          <a:blip r:embed="rId2"/>
          <a:stretch/>
        </p:blipFill>
        <p:spPr>
          <a:xfrm>
            <a:off x="9360" y="1112760"/>
            <a:ext cx="7040880" cy="578340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19"/>
          <p:cNvGrpSpPr/>
          <p:nvPr/>
        </p:nvGrpSpPr>
        <p:grpSpPr>
          <a:xfrm>
            <a:off x="905040" y="4030200"/>
            <a:ext cx="3604680" cy="1422000"/>
            <a:chOff x="905040" y="4030200"/>
            <a:chExt cx="3604680" cy="1422000"/>
          </a:xfrm>
        </p:grpSpPr>
        <p:sp>
          <p:nvSpPr>
            <p:cNvPr id="249" name="AutoShape 20"/>
            <p:cNvSpPr/>
            <p:nvPr/>
          </p:nvSpPr>
          <p:spPr>
            <a:xfrm rot="21342600">
              <a:off x="2809080" y="4564080"/>
              <a:ext cx="1692360" cy="2786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34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 rot="21379800">
              <a:off x="944280" y="4092840"/>
              <a:ext cx="2009520" cy="1296000"/>
            </a:xfrm>
            <a:prstGeom prst="pie">
              <a:avLst/>
            </a:prstGeom>
            <a:noFill/>
            <a:ln w="15840">
              <a:solidFill>
                <a:srgbClr val="3489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22"/>
          <p:cNvGrpSpPr/>
          <p:nvPr/>
        </p:nvGrpSpPr>
        <p:grpSpPr>
          <a:xfrm>
            <a:off x="-173520" y="1473840"/>
            <a:ext cx="2250000" cy="1354320"/>
            <a:chOff x="-173520" y="1473840"/>
            <a:chExt cx="2250000" cy="1354320"/>
          </a:xfrm>
        </p:grpSpPr>
        <p:sp>
          <p:nvSpPr>
            <p:cNvPr id="252" name="AutoShape 23"/>
            <p:cNvSpPr/>
            <p:nvPr/>
          </p:nvSpPr>
          <p:spPr>
            <a:xfrm rot="20010000">
              <a:off x="1058760" y="1693800"/>
              <a:ext cx="1029960" cy="18576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4"/>
            <p:cNvSpPr/>
            <p:nvPr/>
          </p:nvSpPr>
          <p:spPr>
            <a:xfrm rot="20047200">
              <a:off x="-46080" y="1740600"/>
              <a:ext cx="1223280" cy="863640"/>
            </a:xfrm>
            <a:prstGeom prst="pie">
              <a:avLst/>
            </a:prstGeom>
            <a:noFill/>
            <a:ln w="158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25"/>
          <p:cNvGrpSpPr/>
          <p:nvPr/>
        </p:nvGrpSpPr>
        <p:grpSpPr>
          <a:xfrm>
            <a:off x="6108840" y="997920"/>
            <a:ext cx="1134360" cy="2041920"/>
            <a:chOff x="6108840" y="997920"/>
            <a:chExt cx="1134360" cy="2041920"/>
          </a:xfrm>
        </p:grpSpPr>
        <p:sp>
          <p:nvSpPr>
            <p:cNvPr id="255" name="AutoShape 26"/>
            <p:cNvSpPr/>
            <p:nvPr/>
          </p:nvSpPr>
          <p:spPr>
            <a:xfrm rot="17050800">
              <a:off x="6580080" y="1376640"/>
              <a:ext cx="923040" cy="18216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a23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7"/>
            <p:cNvSpPr/>
            <p:nvPr/>
          </p:nvSpPr>
          <p:spPr>
            <a:xfrm rot="17088000">
              <a:off x="6109920" y="1978200"/>
              <a:ext cx="1096200" cy="846720"/>
            </a:xfrm>
            <a:prstGeom prst="pie">
              <a:avLst/>
            </a:prstGeom>
            <a:noFill/>
            <a:ln w="15840">
              <a:solidFill>
                <a:srgbClr val="fa23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8"/>
          <p:cNvGrpSpPr/>
          <p:nvPr/>
        </p:nvGrpSpPr>
        <p:grpSpPr>
          <a:xfrm>
            <a:off x="4981320" y="3846600"/>
            <a:ext cx="2078640" cy="1782000"/>
            <a:chOff x="4981320" y="3846600"/>
            <a:chExt cx="2078640" cy="1782000"/>
          </a:xfrm>
        </p:grpSpPr>
        <p:sp>
          <p:nvSpPr>
            <p:cNvPr id="258" name="AutoShape 29"/>
            <p:cNvSpPr/>
            <p:nvPr/>
          </p:nvSpPr>
          <p:spPr>
            <a:xfrm rot="2187600">
              <a:off x="6036120" y="5150880"/>
              <a:ext cx="1076760" cy="17496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30"/>
            <p:cNvSpPr/>
            <p:nvPr/>
          </p:nvSpPr>
          <p:spPr>
            <a:xfrm rot="2224800">
              <a:off x="5097240" y="4149360"/>
              <a:ext cx="1278360" cy="813960"/>
            </a:xfrm>
            <a:prstGeom prst="pie">
              <a:avLst/>
            </a:prstGeom>
            <a:noFill/>
            <a:ln w="158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AutoShape 31"/>
          <p:cNvSpPr/>
          <p:nvPr/>
        </p:nvSpPr>
        <p:spPr>
          <a:xfrm>
            <a:off x="7473960" y="1341360"/>
            <a:ext cx="2432160" cy="1079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a2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Di cui consultare la scheda di</a:t>
            </a: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 dettagli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2"/>
          <p:cNvSpPr/>
          <p:nvPr/>
        </p:nvSpPr>
        <p:spPr>
          <a:xfrm>
            <a:off x="7473960" y="2908440"/>
            <a:ext cx="2432160" cy="1008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…</a:t>
            </a: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prima di effettuarne il</a:t>
            </a: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 downloa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3"/>
          <p:cNvSpPr/>
          <p:nvPr/>
        </p:nvSpPr>
        <p:spPr>
          <a:xfrm>
            <a:off x="7473960" y="4302000"/>
            <a:ext cx="2432160" cy="10083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…</a:t>
            </a: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rilasciando un</a:t>
            </a: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 feedbac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34"/>
          <p:cNvSpPr/>
          <p:nvPr/>
        </p:nvSpPr>
        <p:spPr>
          <a:xfrm>
            <a:off x="7473960" y="5695920"/>
            <a:ext cx="2432160" cy="934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34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…</a:t>
            </a: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e condividendolo sul</a:t>
            </a: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 web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5"/>
          <p:cNvSpPr/>
          <p:nvPr/>
        </p:nvSpPr>
        <p:spPr>
          <a:xfrm>
            <a:off x="0" y="2060640"/>
            <a:ext cx="287280" cy="2872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6"/>
          <p:cNvSpPr/>
          <p:nvPr/>
        </p:nvSpPr>
        <p:spPr>
          <a:xfrm>
            <a:off x="162000" y="2060640"/>
            <a:ext cx="287280" cy="2872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7"/>
          <p:cNvSpPr/>
          <p:nvPr/>
        </p:nvSpPr>
        <p:spPr>
          <a:xfrm>
            <a:off x="345960" y="2060640"/>
            <a:ext cx="287280" cy="2872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8"/>
          <p:cNvSpPr/>
          <p:nvPr/>
        </p:nvSpPr>
        <p:spPr>
          <a:xfrm>
            <a:off x="530280" y="2060640"/>
            <a:ext cx="287280" cy="2872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9"/>
          <p:cNvSpPr/>
          <p:nvPr/>
        </p:nvSpPr>
        <p:spPr>
          <a:xfrm>
            <a:off x="716040" y="2060640"/>
            <a:ext cx="287280" cy="2872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75 -0.09422 L 0.00577 0.00023 E">
                                      <p:cBhvr>
                                        <p:cTn id="235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71 -0.07338 L 0.00016 0.00023 E">
                                      <p:cBhvr>
                                        <p:cTn id="241" dur="5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34 -0.06274 L 0.00016 0.00023 E">
                                      <p:cBhvr>
                                        <p:cTn id="247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91 -0.0419 L 0.00016 0.00023 E">
                                      <p:cBhvr>
                                        <p:cTn id="253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96 -0.0419 L -2.5641E-007 0.00023 E">
                                      <p:cBhvr>
                                        <p:cTn id="259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8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3838-7BC1-4562-8D7E-ABF0850C394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1" descr="contenuti a pagamento"/>
          <p:cNvPicPr/>
          <p:nvPr/>
        </p:nvPicPr>
        <p:blipFill>
          <a:blip r:embed="rId1"/>
          <a:stretch/>
        </p:blipFill>
        <p:spPr>
          <a:xfrm>
            <a:off x="0" y="1279440"/>
            <a:ext cx="6897600" cy="5553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3" descr="Segue.jpg"/>
          <p:cNvPicPr/>
          <p:nvPr/>
        </p:nvPicPr>
        <p:blipFill>
          <a:blip r:embed="rId2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Contenuti  Didattici a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80"/>
                </a:solidFill>
                <a:latin typeface="Arial"/>
              </a:rPr>
              <a:t>Rilasciati da Editori autorizz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905040" y="4030200"/>
            <a:ext cx="3604680" cy="1422000"/>
            <a:chOff x="905040" y="4030200"/>
            <a:chExt cx="3604680" cy="1422000"/>
          </a:xfrm>
        </p:grpSpPr>
        <p:sp>
          <p:nvSpPr>
            <p:cNvPr id="274" name="AutoShape 6"/>
            <p:cNvSpPr/>
            <p:nvPr/>
          </p:nvSpPr>
          <p:spPr>
            <a:xfrm rot="21342600">
              <a:off x="2809080" y="4564080"/>
              <a:ext cx="1692360" cy="27864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34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7"/>
            <p:cNvSpPr/>
            <p:nvPr/>
          </p:nvSpPr>
          <p:spPr>
            <a:xfrm rot="21379800">
              <a:off x="944280" y="4092840"/>
              <a:ext cx="2009520" cy="1296000"/>
            </a:xfrm>
            <a:prstGeom prst="pie">
              <a:avLst/>
            </a:prstGeom>
            <a:noFill/>
            <a:ln w="15840">
              <a:solidFill>
                <a:srgbClr val="3489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8"/>
          <p:cNvGrpSpPr/>
          <p:nvPr/>
        </p:nvGrpSpPr>
        <p:grpSpPr>
          <a:xfrm>
            <a:off x="-101880" y="1761120"/>
            <a:ext cx="2250000" cy="1354320"/>
            <a:chOff x="-101880" y="1761120"/>
            <a:chExt cx="2250000" cy="1354320"/>
          </a:xfrm>
        </p:grpSpPr>
        <p:sp>
          <p:nvSpPr>
            <p:cNvPr id="277" name="AutoShape 9"/>
            <p:cNvSpPr/>
            <p:nvPr/>
          </p:nvSpPr>
          <p:spPr>
            <a:xfrm rot="20010000">
              <a:off x="1130400" y="1981080"/>
              <a:ext cx="1029960" cy="18576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0"/>
            <p:cNvSpPr/>
            <p:nvPr/>
          </p:nvSpPr>
          <p:spPr>
            <a:xfrm rot="20047200">
              <a:off x="25200" y="2027880"/>
              <a:ext cx="1223280" cy="863640"/>
            </a:xfrm>
            <a:prstGeom prst="pie">
              <a:avLst/>
            </a:prstGeom>
            <a:noFill/>
            <a:ln w="158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1"/>
          <p:cNvGrpSpPr/>
          <p:nvPr/>
        </p:nvGrpSpPr>
        <p:grpSpPr>
          <a:xfrm>
            <a:off x="4753800" y="1713960"/>
            <a:ext cx="1987560" cy="737280"/>
            <a:chOff x="4753800" y="1713960"/>
            <a:chExt cx="1987560" cy="737280"/>
          </a:xfrm>
        </p:grpSpPr>
        <p:sp>
          <p:nvSpPr>
            <p:cNvPr id="280" name="AutoShape 12"/>
            <p:cNvSpPr/>
            <p:nvPr/>
          </p:nvSpPr>
          <p:spPr>
            <a:xfrm rot="11275200">
              <a:off x="4757400" y="1958760"/>
              <a:ext cx="966600" cy="1231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a23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3"/>
            <p:cNvSpPr/>
            <p:nvPr/>
          </p:nvSpPr>
          <p:spPr>
            <a:xfrm rot="11312400">
              <a:off x="5557320" y="1796040"/>
              <a:ext cx="1147680" cy="573120"/>
            </a:xfrm>
            <a:prstGeom prst="pie">
              <a:avLst/>
            </a:prstGeom>
            <a:noFill/>
            <a:ln w="15840">
              <a:solidFill>
                <a:srgbClr val="fa23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AutoShape 17"/>
          <p:cNvSpPr/>
          <p:nvPr/>
        </p:nvSpPr>
        <p:spPr>
          <a:xfrm>
            <a:off x="7473960" y="1341360"/>
            <a:ext cx="2432160" cy="1079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a2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Visionando l’anteprima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7473960" y="3429000"/>
            <a:ext cx="2432160" cy="1008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… </a:t>
            </a: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prima di rilasciare un</a:t>
            </a: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 feedbac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0"/>
          <p:cNvSpPr/>
          <p:nvPr/>
        </p:nvSpPr>
        <p:spPr>
          <a:xfrm>
            <a:off x="7473960" y="5373720"/>
            <a:ext cx="2432160" cy="934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34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…</a:t>
            </a: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condividendolo sul</a:t>
            </a: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 web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2"/>
          <p:cNvSpPr/>
          <p:nvPr/>
        </p:nvSpPr>
        <p:spPr>
          <a:xfrm>
            <a:off x="25560" y="2330280"/>
            <a:ext cx="287280" cy="2876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3"/>
          <p:cNvSpPr/>
          <p:nvPr/>
        </p:nvSpPr>
        <p:spPr>
          <a:xfrm>
            <a:off x="187200" y="2330280"/>
            <a:ext cx="287640" cy="2876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4"/>
          <p:cNvSpPr/>
          <p:nvPr/>
        </p:nvSpPr>
        <p:spPr>
          <a:xfrm>
            <a:off x="378000" y="2333520"/>
            <a:ext cx="287280" cy="28728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5"/>
          <p:cNvSpPr/>
          <p:nvPr/>
        </p:nvSpPr>
        <p:spPr>
          <a:xfrm>
            <a:off x="568440" y="2330280"/>
            <a:ext cx="287280" cy="2876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6"/>
          <p:cNvSpPr/>
          <p:nvPr/>
        </p:nvSpPr>
        <p:spPr>
          <a:xfrm>
            <a:off x="754200" y="2330280"/>
            <a:ext cx="287280" cy="2876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75 -0.09422 L 0.00577 0.00023 E">
                                      <p:cBhvr>
                                        <p:cTn id="292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71 -0.07338 L 0.00016 0.00023 E">
                                      <p:cBhvr>
                                        <p:cTn id="298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34 -0.06274 L 0.00016 0.00023 E">
                                      <p:cBhvr>
                                        <p:cTn id="304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91 -0.0419 L 0.00016 0.00023 E">
                                      <p:cBhvr>
                                        <p:cTn id="310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96 -0.0419 L -2.5641E-007 0.00023 E">
                                      <p:cBhvr>
                                        <p:cTn id="316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2D37-D781-4646-B59C-5B27308ADAD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8584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  <a:ea typeface="Arial"/>
              </a:rPr>
              <a:t>Homo sapiens digit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144360" y="1341360"/>
            <a:ext cx="9417240" cy="4637160"/>
            <a:chOff x="144360" y="1341360"/>
            <a:chExt cx="9417240" cy="4637160"/>
          </a:xfrm>
        </p:grpSpPr>
        <p:pic>
          <p:nvPicPr>
            <p:cNvPr id="52" name="Picture 5" descr=""/>
            <p:cNvPicPr/>
            <p:nvPr/>
          </p:nvPicPr>
          <p:blipFill>
            <a:blip r:embed="rId2"/>
            <a:stretch/>
          </p:blipFill>
          <p:spPr>
            <a:xfrm>
              <a:off x="144360" y="1341360"/>
              <a:ext cx="9417240" cy="46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"/>
            <p:cNvPicPr/>
            <p:nvPr/>
          </p:nvPicPr>
          <p:blipFill>
            <a:blip r:embed="rId3"/>
            <a:stretch/>
          </p:blipFill>
          <p:spPr>
            <a:xfrm>
              <a:off x="7061040" y="1506600"/>
              <a:ext cx="250056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2990-55F0-403C-A9CA-4E4EA8E2482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  <a:ea typeface="Arial"/>
              </a:rPr>
              <a:t>Nuova Libreria Digita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1341360"/>
            <a:ext cx="41580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272880" y="1341360"/>
            <a:ext cx="4319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6032520" y="1268280"/>
            <a:ext cx="38736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"/>
          <p:cNvPicPr/>
          <p:nvPr/>
        </p:nvPicPr>
        <p:blipFill>
          <a:blip r:embed="rId2"/>
          <a:stretch/>
        </p:blipFill>
        <p:spPr>
          <a:xfrm>
            <a:off x="992160" y="1268280"/>
            <a:ext cx="78487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E086-F279-4997-BEA4-77B2A851092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1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La Vetrina della Libreria Digi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3"/>
          <p:cNvSpPr/>
          <p:nvPr/>
        </p:nvSpPr>
        <p:spPr>
          <a:xfrm>
            <a:off x="7431120" y="1916280"/>
            <a:ext cx="2432160" cy="10792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a2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Nella vetrina LDA è possibile consultare </a:t>
            </a: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Recensioni</a:t>
            </a: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 per ogni contenut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4"/>
          <p:cNvSpPr/>
          <p:nvPr/>
        </p:nvSpPr>
        <p:spPr>
          <a:xfrm>
            <a:off x="7431120" y="4508640"/>
            <a:ext cx="2432160" cy="10792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… </a:t>
            </a:r>
            <a:r>
              <a:rPr b="0" lang="it-IT" sz="1400" spc="-1" strike="noStrike">
                <a:solidFill>
                  <a:srgbClr val="1f497d"/>
                </a:solidFill>
                <a:latin typeface="Verdana"/>
              </a:rPr>
              <a:t>da approfondire con le </a:t>
            </a: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schede di dettag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6" descr="recensioni"/>
          <p:cNvPicPr/>
          <p:nvPr/>
        </p:nvPicPr>
        <p:blipFill>
          <a:blip r:embed="rId2"/>
          <a:srcRect l="0" t="0" r="1913" b="0"/>
          <a:stretch/>
        </p:blipFill>
        <p:spPr>
          <a:xfrm>
            <a:off x="0" y="1341360"/>
            <a:ext cx="7400880" cy="508968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7"/>
          <p:cNvGrpSpPr/>
          <p:nvPr/>
        </p:nvGrpSpPr>
        <p:grpSpPr>
          <a:xfrm>
            <a:off x="-446400" y="5650560"/>
            <a:ext cx="2250000" cy="1354320"/>
            <a:chOff x="-446400" y="5650560"/>
            <a:chExt cx="2250000" cy="1354320"/>
          </a:xfrm>
        </p:grpSpPr>
        <p:sp>
          <p:nvSpPr>
            <p:cNvPr id="305" name="AutoShape 18"/>
            <p:cNvSpPr/>
            <p:nvPr/>
          </p:nvSpPr>
          <p:spPr>
            <a:xfrm rot="20010000">
              <a:off x="785880" y="5870520"/>
              <a:ext cx="1029960" cy="18576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a23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9"/>
            <p:cNvSpPr/>
            <p:nvPr/>
          </p:nvSpPr>
          <p:spPr>
            <a:xfrm rot="20047200">
              <a:off x="-318960" y="5917320"/>
              <a:ext cx="1223280" cy="863640"/>
            </a:xfrm>
            <a:prstGeom prst="pie">
              <a:avLst/>
            </a:prstGeom>
            <a:noFill/>
            <a:ln w="15840">
              <a:solidFill>
                <a:srgbClr val="fa23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20"/>
          <p:cNvGrpSpPr/>
          <p:nvPr/>
        </p:nvGrpSpPr>
        <p:grpSpPr>
          <a:xfrm>
            <a:off x="-246240" y="2337480"/>
            <a:ext cx="2250000" cy="1354320"/>
            <a:chOff x="-246240" y="2337480"/>
            <a:chExt cx="2250000" cy="1354320"/>
          </a:xfrm>
        </p:grpSpPr>
        <p:sp>
          <p:nvSpPr>
            <p:cNvPr id="308" name="AutoShape 21"/>
            <p:cNvSpPr/>
            <p:nvPr/>
          </p:nvSpPr>
          <p:spPr>
            <a:xfrm rot="20010000">
              <a:off x="986040" y="2557440"/>
              <a:ext cx="1029960" cy="18576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a23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22"/>
            <p:cNvSpPr/>
            <p:nvPr/>
          </p:nvSpPr>
          <p:spPr>
            <a:xfrm rot="20047200">
              <a:off x="-118800" y="2604240"/>
              <a:ext cx="1223280" cy="863640"/>
            </a:xfrm>
            <a:prstGeom prst="pie">
              <a:avLst/>
            </a:prstGeom>
            <a:noFill/>
            <a:ln w="15840">
              <a:solidFill>
                <a:srgbClr val="fa23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23"/>
          <p:cNvGrpSpPr/>
          <p:nvPr/>
        </p:nvGrpSpPr>
        <p:grpSpPr>
          <a:xfrm>
            <a:off x="-246240" y="4569480"/>
            <a:ext cx="2250000" cy="1354320"/>
            <a:chOff x="-246240" y="4569480"/>
            <a:chExt cx="2250000" cy="1354320"/>
          </a:xfrm>
        </p:grpSpPr>
        <p:sp>
          <p:nvSpPr>
            <p:cNvPr id="311" name="AutoShape 24"/>
            <p:cNvSpPr/>
            <p:nvPr/>
          </p:nvSpPr>
          <p:spPr>
            <a:xfrm rot="20010000">
              <a:off x="986040" y="4789440"/>
              <a:ext cx="1029960" cy="18576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a23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25"/>
            <p:cNvSpPr/>
            <p:nvPr/>
          </p:nvSpPr>
          <p:spPr>
            <a:xfrm rot="20047200">
              <a:off x="-118800" y="4836240"/>
              <a:ext cx="1223280" cy="863640"/>
            </a:xfrm>
            <a:prstGeom prst="pie">
              <a:avLst/>
            </a:prstGeom>
            <a:noFill/>
            <a:ln w="15840">
              <a:solidFill>
                <a:srgbClr val="fa23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26"/>
          <p:cNvGrpSpPr/>
          <p:nvPr/>
        </p:nvGrpSpPr>
        <p:grpSpPr>
          <a:xfrm>
            <a:off x="-245880" y="3489840"/>
            <a:ext cx="2249640" cy="1353960"/>
            <a:chOff x="-245880" y="3489840"/>
            <a:chExt cx="2249640" cy="1353960"/>
          </a:xfrm>
        </p:grpSpPr>
        <p:sp>
          <p:nvSpPr>
            <p:cNvPr id="314" name="AutoShape 27"/>
            <p:cNvSpPr/>
            <p:nvPr/>
          </p:nvSpPr>
          <p:spPr>
            <a:xfrm rot="20010000">
              <a:off x="986040" y="3709800"/>
              <a:ext cx="1029960" cy="18576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a23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28"/>
            <p:cNvSpPr/>
            <p:nvPr/>
          </p:nvSpPr>
          <p:spPr>
            <a:xfrm rot="20047200">
              <a:off x="-118440" y="3756240"/>
              <a:ext cx="1222920" cy="863640"/>
            </a:xfrm>
            <a:prstGeom prst="pie">
              <a:avLst/>
            </a:prstGeom>
            <a:noFill/>
            <a:ln w="15840">
              <a:solidFill>
                <a:srgbClr val="fa23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29"/>
          <p:cNvSpPr/>
          <p:nvPr/>
        </p:nvSpPr>
        <p:spPr>
          <a:xfrm>
            <a:off x="0" y="1341360"/>
            <a:ext cx="7400880" cy="5516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5" descr="dettaglio descrizione"/>
          <p:cNvPicPr/>
          <p:nvPr/>
        </p:nvPicPr>
        <p:blipFill>
          <a:blip r:embed="rId3"/>
          <a:stretch/>
        </p:blipFill>
        <p:spPr>
          <a:xfrm>
            <a:off x="1281240" y="1989000"/>
            <a:ext cx="5689440" cy="3767400"/>
          </a:xfrm>
          <a:prstGeom prst="rect">
            <a:avLst/>
          </a:prstGeom>
          <a:ln w="54000">
            <a:solidFill>
              <a:srgbClr val="00cc00"/>
            </a:solidFill>
            <a:miter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4DC0-5481-48F4-BB1A-D511EBCB92E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approfondimenti"/>
          <p:cNvPicPr/>
          <p:nvPr/>
        </p:nvPicPr>
        <p:blipFill>
          <a:blip r:embed="rId1"/>
          <a:srcRect l="0" t="45713" r="52024" b="39094"/>
          <a:stretch/>
        </p:blipFill>
        <p:spPr>
          <a:xfrm>
            <a:off x="6176880" y="1268280"/>
            <a:ext cx="3532320" cy="2749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approfondimenti"/>
          <p:cNvPicPr/>
          <p:nvPr/>
        </p:nvPicPr>
        <p:blipFill>
          <a:blip r:embed="rId2"/>
          <a:srcRect l="0" t="0" r="0" b="56250"/>
          <a:stretch/>
        </p:blipFill>
        <p:spPr>
          <a:xfrm>
            <a:off x="254160" y="1336680"/>
            <a:ext cx="5889600" cy="5326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Segue.jpg"/>
          <p:cNvPicPr/>
          <p:nvPr/>
        </p:nvPicPr>
        <p:blipFill>
          <a:blip r:embed="rId3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8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Approfond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2" descr="approfondimenti"/>
          <p:cNvPicPr/>
          <p:nvPr/>
        </p:nvPicPr>
        <p:blipFill>
          <a:blip r:embed="rId4"/>
          <a:srcRect l="0" t="79707" r="62967" b="0"/>
          <a:stretch/>
        </p:blipFill>
        <p:spPr>
          <a:xfrm>
            <a:off x="6176880" y="4068720"/>
            <a:ext cx="352908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icons_preview"/>
          <p:cNvPicPr/>
          <p:nvPr/>
        </p:nvPicPr>
        <p:blipFill>
          <a:blip r:embed="rId1"/>
          <a:stretch/>
        </p:blipFill>
        <p:spPr>
          <a:xfrm rot="20108400">
            <a:off x="6392880" y="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innovascuola"/>
          <p:cNvPicPr/>
          <p:nvPr/>
        </p:nvPicPr>
        <p:blipFill>
          <a:blip r:embed="rId2"/>
          <a:stretch/>
        </p:blipFill>
        <p:spPr>
          <a:xfrm>
            <a:off x="507960" y="404640"/>
            <a:ext cx="3274920" cy="172116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6"/>
          <p:cNvSpPr/>
          <p:nvPr/>
        </p:nvSpPr>
        <p:spPr>
          <a:xfrm>
            <a:off x="704880" y="2781360"/>
            <a:ext cx="798336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MyInnova: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il Social network destinato al mondo dell'istru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con l’obiettivo è avere un confronto continuo e stimolante tra docenti e tra docenti e stu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una piazza virtuale dove è possibile scambiarsi idee, esperienze, contenuti e informazioni attraverso i tanti strumenti offerti dalla piattaforma: forum, chat, wiki, risorse ed altro anc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uno spazio per organizzare il materiale didattico e per creare o partecipare a community per la condivisione di esperienze e contenuti sull’uso della tecnologia digitale nella didat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49"/>
          <p:cNvGrpSpPr/>
          <p:nvPr/>
        </p:nvGrpSpPr>
        <p:grpSpPr>
          <a:xfrm>
            <a:off x="0" y="1341360"/>
            <a:ext cx="9906120" cy="5516640"/>
            <a:chOff x="0" y="1341360"/>
            <a:chExt cx="9906120" cy="5516640"/>
          </a:xfrm>
        </p:grpSpPr>
        <p:grpSp>
          <p:nvGrpSpPr>
            <p:cNvPr id="328" name="Group 46"/>
            <p:cNvGrpSpPr/>
            <p:nvPr/>
          </p:nvGrpSpPr>
          <p:grpSpPr>
            <a:xfrm>
              <a:off x="12600" y="1341360"/>
              <a:ext cx="7545600" cy="5516640"/>
              <a:chOff x="12600" y="1341360"/>
              <a:chExt cx="7545600" cy="5516640"/>
            </a:xfrm>
          </p:grpSpPr>
          <p:pic>
            <p:nvPicPr>
              <p:cNvPr id="329" name="Picture 22" descr="my innova"/>
              <p:cNvPicPr/>
              <p:nvPr/>
            </p:nvPicPr>
            <p:blipFill>
              <a:blip r:embed="rId1"/>
              <a:stretch/>
            </p:blipFill>
            <p:spPr>
              <a:xfrm>
                <a:off x="12600" y="1341360"/>
                <a:ext cx="7545600" cy="55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Rectangle 45"/>
              <p:cNvSpPr/>
              <p:nvPr/>
            </p:nvSpPr>
            <p:spPr>
              <a:xfrm>
                <a:off x="2865600" y="1413000"/>
                <a:ext cx="502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48"/>
            <p:cNvGrpSpPr/>
            <p:nvPr/>
          </p:nvGrpSpPr>
          <p:grpSpPr>
            <a:xfrm>
              <a:off x="0" y="3905280"/>
              <a:ext cx="9906120" cy="2908440"/>
              <a:chOff x="0" y="3905280"/>
              <a:chExt cx="9906120" cy="2908440"/>
            </a:xfrm>
          </p:grpSpPr>
          <p:sp>
            <p:nvSpPr>
              <p:cNvPr id="332" name="Rectangle 9"/>
              <p:cNvSpPr/>
              <p:nvPr/>
            </p:nvSpPr>
            <p:spPr>
              <a:xfrm>
                <a:off x="0" y="3905280"/>
                <a:ext cx="9906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3" name="Picture 47" descr=""/>
              <p:cNvPicPr/>
              <p:nvPr/>
            </p:nvPicPr>
            <p:blipFill>
              <a:blip r:embed="rId2"/>
              <a:stretch/>
            </p:blipFill>
            <p:spPr>
              <a:xfrm>
                <a:off x="1496880" y="5192640"/>
                <a:ext cx="4392720" cy="1621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4" name="Rectangle 6"/>
          <p:cNvSpPr/>
          <p:nvPr/>
        </p:nvSpPr>
        <p:spPr>
          <a:xfrm>
            <a:off x="0" y="533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33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0" y="2103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3" descr="Segue.jpg"/>
          <p:cNvPicPr/>
          <p:nvPr/>
        </p:nvPicPr>
        <p:blipFill>
          <a:blip r:embed="rId3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4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MyIn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5"/>
          <p:cNvSpPr/>
          <p:nvPr/>
        </p:nvSpPr>
        <p:spPr>
          <a:xfrm>
            <a:off x="8400960" y="3780000"/>
            <a:ext cx="1424160" cy="11523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Strumenti di produttività pers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6"/>
          <p:cNvSpPr/>
          <p:nvPr/>
        </p:nvSpPr>
        <p:spPr>
          <a:xfrm>
            <a:off x="7540560" y="1306440"/>
            <a:ext cx="2289240" cy="21607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a2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La mia librer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Verdana"/>
              </a:rPr>
              <a:t>spazio in cui l’utente può organizzare proprio materia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f49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1f497d"/>
                </a:solidFill>
                <a:latin typeface="Verdana"/>
              </a:rPr>
              <a:t>oggetti importati dalla Libreria Digita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f49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Verdana"/>
              </a:rPr>
              <a:t>oggetti propri caricati (uploa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f49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Verdana"/>
              </a:rPr>
              <a:t>oggetti disponibili e condivisi nelle libreria di altri ut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7"/>
          <p:cNvSpPr/>
          <p:nvPr/>
        </p:nvSpPr>
        <p:spPr>
          <a:xfrm>
            <a:off x="7423200" y="5445000"/>
            <a:ext cx="2432160" cy="1079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Le community attive in MyInn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8"/>
          <p:cNvSpPr/>
          <p:nvPr/>
        </p:nvSpPr>
        <p:spPr>
          <a:xfrm>
            <a:off x="5834160" y="3801960"/>
            <a:ext cx="2431800" cy="1079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Le Community cui l’utente è iscri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9"/>
          <p:cNvSpPr/>
          <p:nvPr/>
        </p:nvSpPr>
        <p:spPr>
          <a:xfrm>
            <a:off x="5864400" y="5445000"/>
            <a:ext cx="1407960" cy="1079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34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800080"/>
                </a:solidFill>
                <a:latin typeface="Verdana"/>
              </a:rPr>
              <a:t>Tutorial step-by-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30"/>
          <p:cNvGrpSpPr/>
          <p:nvPr/>
        </p:nvGrpSpPr>
        <p:grpSpPr>
          <a:xfrm>
            <a:off x="-234000" y="1776240"/>
            <a:ext cx="1899720" cy="803880"/>
            <a:chOff x="-234000" y="1776240"/>
            <a:chExt cx="1899720" cy="803880"/>
          </a:xfrm>
        </p:grpSpPr>
        <p:sp>
          <p:nvSpPr>
            <p:cNvPr id="345" name="AutoShape 31"/>
            <p:cNvSpPr/>
            <p:nvPr/>
          </p:nvSpPr>
          <p:spPr>
            <a:xfrm rot="829800">
              <a:off x="742320" y="2266560"/>
              <a:ext cx="922320" cy="117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34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32"/>
            <p:cNvSpPr/>
            <p:nvPr/>
          </p:nvSpPr>
          <p:spPr>
            <a:xfrm rot="867000">
              <a:off x="-182880" y="1904040"/>
              <a:ext cx="1095120" cy="547920"/>
            </a:xfrm>
            <a:prstGeom prst="pie">
              <a:avLst/>
            </a:prstGeom>
            <a:noFill/>
            <a:ln w="15840">
              <a:solidFill>
                <a:srgbClr val="3489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33"/>
          <p:cNvGrpSpPr/>
          <p:nvPr/>
        </p:nvGrpSpPr>
        <p:grpSpPr>
          <a:xfrm>
            <a:off x="1305360" y="4506120"/>
            <a:ext cx="2709360" cy="989280"/>
            <a:chOff x="1305360" y="4506120"/>
            <a:chExt cx="2709360" cy="989280"/>
          </a:xfrm>
        </p:grpSpPr>
        <p:sp>
          <p:nvSpPr>
            <p:cNvPr id="348" name="AutoShape 34"/>
            <p:cNvSpPr/>
            <p:nvPr/>
          </p:nvSpPr>
          <p:spPr>
            <a:xfrm rot="21277800">
              <a:off x="2701800" y="4767480"/>
              <a:ext cx="1307160" cy="18576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35"/>
            <p:cNvSpPr/>
            <p:nvPr/>
          </p:nvSpPr>
          <p:spPr>
            <a:xfrm rot="21315000">
              <a:off x="1338120" y="4568760"/>
              <a:ext cx="1552320" cy="863640"/>
            </a:xfrm>
            <a:prstGeom prst="pie">
              <a:avLst/>
            </a:prstGeom>
            <a:noFill/>
            <a:ln w="1584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36"/>
          <p:cNvGrpSpPr/>
          <p:nvPr/>
        </p:nvGrpSpPr>
        <p:grpSpPr>
          <a:xfrm>
            <a:off x="-884880" y="4483440"/>
            <a:ext cx="2453400" cy="1432080"/>
            <a:chOff x="-884880" y="4483440"/>
            <a:chExt cx="2453400" cy="1432080"/>
          </a:xfrm>
        </p:grpSpPr>
        <p:sp>
          <p:nvSpPr>
            <p:cNvPr id="351" name="AutoShape 37"/>
            <p:cNvSpPr/>
            <p:nvPr/>
          </p:nvSpPr>
          <p:spPr>
            <a:xfrm rot="9352200">
              <a:off x="-897840" y="5499360"/>
              <a:ext cx="1167480" cy="18540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38"/>
            <p:cNvSpPr/>
            <p:nvPr/>
          </p:nvSpPr>
          <p:spPr>
            <a:xfrm rot="9389400">
              <a:off x="67680" y="4723920"/>
              <a:ext cx="1386360" cy="862200"/>
            </a:xfrm>
            <a:prstGeom prst="pie">
              <a:avLst/>
            </a:prstGeom>
            <a:noFill/>
            <a:ln w="158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39"/>
          <p:cNvGrpSpPr/>
          <p:nvPr/>
        </p:nvGrpSpPr>
        <p:grpSpPr>
          <a:xfrm>
            <a:off x="22680" y="1105560"/>
            <a:ext cx="1959840" cy="779040"/>
            <a:chOff x="22680" y="1105560"/>
            <a:chExt cx="1959840" cy="779040"/>
          </a:xfrm>
        </p:grpSpPr>
        <p:sp>
          <p:nvSpPr>
            <p:cNvPr id="354" name="AutoShape 40"/>
            <p:cNvSpPr/>
            <p:nvPr/>
          </p:nvSpPr>
          <p:spPr>
            <a:xfrm rot="21250200">
              <a:off x="1054080" y="1360440"/>
              <a:ext cx="923400" cy="1465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a23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41"/>
            <p:cNvSpPr/>
            <p:nvPr/>
          </p:nvSpPr>
          <p:spPr>
            <a:xfrm rot="21287400">
              <a:off x="51120" y="1153800"/>
              <a:ext cx="1096560" cy="682200"/>
            </a:xfrm>
            <a:prstGeom prst="pie">
              <a:avLst/>
            </a:prstGeom>
            <a:noFill/>
            <a:ln w="15840">
              <a:solidFill>
                <a:srgbClr val="fa23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42"/>
          <p:cNvGrpSpPr/>
          <p:nvPr/>
        </p:nvGrpSpPr>
        <p:grpSpPr>
          <a:xfrm>
            <a:off x="5443200" y="826200"/>
            <a:ext cx="2250000" cy="1354320"/>
            <a:chOff x="5443200" y="826200"/>
            <a:chExt cx="2250000" cy="1354320"/>
          </a:xfrm>
        </p:grpSpPr>
        <p:sp>
          <p:nvSpPr>
            <p:cNvPr id="357" name="AutoShape 43"/>
            <p:cNvSpPr/>
            <p:nvPr/>
          </p:nvSpPr>
          <p:spPr>
            <a:xfrm rot="20010000">
              <a:off x="6675480" y="1046160"/>
              <a:ext cx="1029960" cy="18576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44"/>
            <p:cNvSpPr/>
            <p:nvPr/>
          </p:nvSpPr>
          <p:spPr>
            <a:xfrm rot="20047200">
              <a:off x="5570280" y="1092960"/>
              <a:ext cx="1223280" cy="863640"/>
            </a:xfrm>
            <a:prstGeom prst="pie">
              <a:avLst/>
            </a:prstGeom>
            <a:noFill/>
            <a:ln w="158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533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0" y="33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2103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3905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8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MyIn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9"/>
          <p:cNvGrpSpPr/>
          <p:nvPr/>
        </p:nvGrpSpPr>
        <p:grpSpPr>
          <a:xfrm>
            <a:off x="539640" y="1413000"/>
            <a:ext cx="6770160" cy="3816000"/>
            <a:chOff x="539640" y="1413000"/>
            <a:chExt cx="6770160" cy="3816000"/>
          </a:xfrm>
        </p:grpSpPr>
        <p:grpSp>
          <p:nvGrpSpPr>
            <p:cNvPr id="366" name="Group 30"/>
            <p:cNvGrpSpPr/>
            <p:nvPr/>
          </p:nvGrpSpPr>
          <p:grpSpPr>
            <a:xfrm>
              <a:off x="684000" y="1413000"/>
              <a:ext cx="6625800" cy="3816000"/>
              <a:chOff x="684000" y="1413000"/>
              <a:chExt cx="6625800" cy="3816000"/>
            </a:xfrm>
          </p:grpSpPr>
          <p:pic>
            <p:nvPicPr>
              <p:cNvPr id="367" name="Picture 31" descr=""/>
              <p:cNvPicPr/>
              <p:nvPr/>
            </p:nvPicPr>
            <p:blipFill>
              <a:blip r:embed="rId2"/>
              <a:srcRect l="1115" t="0" r="0" b="-480"/>
              <a:stretch/>
            </p:blipFill>
            <p:spPr>
              <a:xfrm>
                <a:off x="684000" y="1413000"/>
                <a:ext cx="6625800" cy="38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Rectangle 32"/>
              <p:cNvSpPr/>
              <p:nvPr/>
            </p:nvSpPr>
            <p:spPr>
              <a:xfrm>
                <a:off x="684000" y="2938680"/>
                <a:ext cx="1204920" cy="9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Rectangle 33"/>
            <p:cNvSpPr/>
            <p:nvPr/>
          </p:nvSpPr>
          <p:spPr>
            <a:xfrm>
              <a:off x="539640" y="2637000"/>
              <a:ext cx="1439640" cy="503280"/>
            </a:xfrm>
            <a:prstGeom prst="rect">
              <a:avLst/>
            </a:pr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4"/>
            <p:cNvSpPr/>
            <p:nvPr/>
          </p:nvSpPr>
          <p:spPr>
            <a:xfrm>
              <a:off x="1979280" y="2853000"/>
              <a:ext cx="1079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35"/>
          <p:cNvSpPr/>
          <p:nvPr/>
        </p:nvSpPr>
        <p:spPr>
          <a:xfrm>
            <a:off x="3274920" y="2492280"/>
            <a:ext cx="5473800" cy="286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Il mio profilo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Permette all’utente di “caratterizzare” il proprio profilo, inserendo una serie di  informazioni che lo qualificano: età, sesso, origini, istituto scolastico di appartenenza, ecc. Tale profilo può essere continuamente aggiornato e reso visibile, o meno, agli utenti del netwo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533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0" y="33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0" y="2103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0" y="3905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7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MyIn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684360" y="1268280"/>
            <a:ext cx="7416360" cy="4464000"/>
            <a:chOff x="684360" y="1268280"/>
            <a:chExt cx="7416360" cy="4464000"/>
          </a:xfrm>
        </p:grpSpPr>
        <p:pic>
          <p:nvPicPr>
            <p:cNvPr id="379" name="Picture 16" descr=""/>
            <p:cNvPicPr/>
            <p:nvPr/>
          </p:nvPicPr>
          <p:blipFill>
            <a:blip r:embed="rId2"/>
            <a:srcRect l="1115" t="0" r="0" b="-480"/>
            <a:stretch/>
          </p:blipFill>
          <p:spPr>
            <a:xfrm>
              <a:off x="684360" y="1268280"/>
              <a:ext cx="7416360" cy="44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17"/>
            <p:cNvSpPr/>
            <p:nvPr/>
          </p:nvSpPr>
          <p:spPr>
            <a:xfrm>
              <a:off x="684360" y="3053160"/>
              <a:ext cx="1348920" cy="10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8"/>
          <p:cNvSpPr/>
          <p:nvPr/>
        </p:nvSpPr>
        <p:spPr>
          <a:xfrm>
            <a:off x="3635280" y="2060640"/>
            <a:ext cx="5184720" cy="204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Tuto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Mette a disposizione di tutti gli utenti delle mini guide informative sulle principali procedure e/o gli strumenti disponibili nell’ambiente.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9"/>
          <p:cNvSpPr/>
          <p:nvPr/>
        </p:nvSpPr>
        <p:spPr>
          <a:xfrm>
            <a:off x="561960" y="4221000"/>
            <a:ext cx="1584360" cy="4320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0"/>
          <p:cNvSpPr/>
          <p:nvPr/>
        </p:nvSpPr>
        <p:spPr>
          <a:xfrm flipV="1">
            <a:off x="2146320" y="3499920"/>
            <a:ext cx="1511280" cy="79236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533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0" y="33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2103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0" y="3905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7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MyIn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8"/>
          <p:cNvGrpSpPr/>
          <p:nvPr/>
        </p:nvGrpSpPr>
        <p:grpSpPr>
          <a:xfrm>
            <a:off x="684360" y="1197000"/>
            <a:ext cx="7416360" cy="4463640"/>
            <a:chOff x="684360" y="1197000"/>
            <a:chExt cx="7416360" cy="4463640"/>
          </a:xfrm>
        </p:grpSpPr>
        <p:pic>
          <p:nvPicPr>
            <p:cNvPr id="391" name="Picture 9" descr=""/>
            <p:cNvPicPr/>
            <p:nvPr/>
          </p:nvPicPr>
          <p:blipFill>
            <a:blip r:embed="rId2"/>
            <a:srcRect l="1115" t="0" r="0" b="-480"/>
            <a:stretch/>
          </p:blipFill>
          <p:spPr>
            <a:xfrm>
              <a:off x="684360" y="1197000"/>
              <a:ext cx="7416360" cy="44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10"/>
            <p:cNvSpPr/>
            <p:nvPr/>
          </p:nvSpPr>
          <p:spPr>
            <a:xfrm>
              <a:off x="684360" y="2981880"/>
              <a:ext cx="1348920" cy="10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11"/>
          <p:cNvSpPr/>
          <p:nvPr/>
        </p:nvSpPr>
        <p:spPr>
          <a:xfrm>
            <a:off x="3635280" y="1916280"/>
            <a:ext cx="5184720" cy="3264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La mia libre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Consente di archiviare materiale didattico (link esterni a siti di interesse, file, …) e di organizzarlo in una serie di direc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Tutte le risorse possono essere messe in condivisione, sia ai membri della propria community che ad utenti esterni.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2"/>
          <p:cNvGrpSpPr/>
          <p:nvPr/>
        </p:nvGrpSpPr>
        <p:grpSpPr>
          <a:xfrm>
            <a:off x="561960" y="3932280"/>
            <a:ext cx="3095640" cy="1152000"/>
            <a:chOff x="561960" y="3932280"/>
            <a:chExt cx="3095640" cy="1152000"/>
          </a:xfrm>
        </p:grpSpPr>
        <p:sp>
          <p:nvSpPr>
            <p:cNvPr id="395" name="Rectangle 13"/>
            <p:cNvSpPr/>
            <p:nvPr/>
          </p:nvSpPr>
          <p:spPr>
            <a:xfrm>
              <a:off x="561960" y="4652640"/>
              <a:ext cx="1584000" cy="431640"/>
            </a:xfrm>
            <a:prstGeom prst="rect">
              <a:avLst/>
            </a:pr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 flipV="1">
              <a:off x="2145960" y="3932280"/>
              <a:ext cx="1511640" cy="79200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533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0" y="33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2103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0" y="3905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7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MyIn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8"/>
          <p:cNvGrpSpPr/>
          <p:nvPr/>
        </p:nvGrpSpPr>
        <p:grpSpPr>
          <a:xfrm>
            <a:off x="611280" y="1557360"/>
            <a:ext cx="7416360" cy="4463640"/>
            <a:chOff x="611280" y="1557360"/>
            <a:chExt cx="7416360" cy="4463640"/>
          </a:xfrm>
        </p:grpSpPr>
        <p:pic>
          <p:nvPicPr>
            <p:cNvPr id="404" name="Picture 9" descr=""/>
            <p:cNvPicPr/>
            <p:nvPr/>
          </p:nvPicPr>
          <p:blipFill>
            <a:blip r:embed="rId2"/>
            <a:srcRect l="1115" t="0" r="0" b="-480"/>
            <a:stretch/>
          </p:blipFill>
          <p:spPr>
            <a:xfrm>
              <a:off x="611280" y="1557360"/>
              <a:ext cx="7416360" cy="44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Rectangle 10"/>
            <p:cNvSpPr/>
            <p:nvPr/>
          </p:nvSpPr>
          <p:spPr>
            <a:xfrm>
              <a:off x="611280" y="3342240"/>
              <a:ext cx="1348920" cy="10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1"/>
          <p:cNvSpPr/>
          <p:nvPr/>
        </p:nvSpPr>
        <p:spPr>
          <a:xfrm>
            <a:off x="2771640" y="1916280"/>
            <a:ext cx="6048360" cy="311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Le mie communit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Presenta l’elenco delle communities di MyInnova a cui si è iscritt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Ogni iscritto è libero di consultare le risorse condivise, di utilizzare gli strumenti messi a disposizione, di aggiungere risorse e di interagire con gli altri membri iscritti, mediante forum e ch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560520" y="5445000"/>
            <a:ext cx="1473120" cy="4320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3"/>
          <p:cNvSpPr/>
          <p:nvPr/>
        </p:nvSpPr>
        <p:spPr>
          <a:xfrm flipV="1">
            <a:off x="2033640" y="5011200"/>
            <a:ext cx="903240" cy="50508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4"/>
          <p:cNvSpPr/>
          <p:nvPr/>
        </p:nvSpPr>
        <p:spPr>
          <a:xfrm>
            <a:off x="2144880" y="5734080"/>
            <a:ext cx="20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0" descr=""/>
          <p:cNvPicPr/>
          <p:nvPr/>
        </p:nvPicPr>
        <p:blipFill>
          <a:blip r:embed="rId1"/>
          <a:srcRect l="1115" t="0" r="0" b="-480"/>
          <a:stretch/>
        </p:blipFill>
        <p:spPr>
          <a:xfrm>
            <a:off x="272880" y="1757520"/>
            <a:ext cx="8087040" cy="49114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0" y="533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33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0" y="2103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0" y="3905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3" descr="Segue.jpg"/>
          <p:cNvPicPr/>
          <p:nvPr/>
        </p:nvPicPr>
        <p:blipFill>
          <a:blip r:embed="rId2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7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MyIn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8" descr=""/>
          <p:cNvPicPr/>
          <p:nvPr/>
        </p:nvPicPr>
        <p:blipFill>
          <a:blip r:embed="rId3"/>
          <a:srcRect l="0" t="0" r="838" b="-756"/>
          <a:stretch/>
        </p:blipFill>
        <p:spPr>
          <a:xfrm>
            <a:off x="6033960" y="1700280"/>
            <a:ext cx="2664000" cy="154764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9"/>
          <p:cNvSpPr/>
          <p:nvPr/>
        </p:nvSpPr>
        <p:spPr>
          <a:xfrm>
            <a:off x="631800" y="1413000"/>
            <a:ext cx="4969080" cy="3416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I miei studenti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Permette d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1.   censire studen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2.   associarli a una o più community con studen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3.   iscrivere altri docenti a community con studen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4. creare gruppi di utenti all’interno di community con stu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6105600" y="1700280"/>
            <a:ext cx="2592360" cy="151128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2"/>
          <p:cNvSpPr/>
          <p:nvPr/>
        </p:nvSpPr>
        <p:spPr>
          <a:xfrm flipH="1" flipV="1">
            <a:off x="5600880" y="2204640"/>
            <a:ext cx="542880" cy="35892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2000160" y="6381720"/>
            <a:ext cx="201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B798-E1BF-42EA-B7FC-6D3D65296F7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8584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Tecnologia e sape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9800" y="1915920"/>
            <a:ext cx="9327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8040" indent="-60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la pervasivit</a:t>
            </a:r>
            <a:r>
              <a:rPr b="0" lang="it-IT" sz="2400" spc="-1" strike="noStrike">
                <a:solidFill>
                  <a:srgbClr val="1f497d"/>
                </a:solidFill>
                <a:latin typeface="Calibri"/>
                <a:ea typeface="Times New Roman"/>
              </a:rPr>
              <a:t>à</a:t>
            </a: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 di nuovi </a:t>
            </a:r>
            <a:r>
              <a:rPr b="1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device</a:t>
            </a: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, sempre pi</a:t>
            </a:r>
            <a:r>
              <a:rPr b="0" lang="it-IT" sz="2400" spc="-1" strike="noStrike">
                <a:solidFill>
                  <a:srgbClr val="1f497d"/>
                </a:solidFill>
                <a:latin typeface="Calibri"/>
                <a:ea typeface="Times New Roman"/>
              </a:rPr>
              <a:t>ù</a:t>
            </a: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 piccoli ed accessibil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780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780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l</a:t>
            </a:r>
            <a:r>
              <a:rPr b="0" lang="it-IT" sz="2400" spc="-1" strike="noStrike">
                <a:solidFill>
                  <a:srgbClr val="1f497d"/>
                </a:solidFill>
                <a:latin typeface="Calibri"/>
                <a:ea typeface="Times New Roman"/>
              </a:rPr>
              <a:t>’</a:t>
            </a: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opportunit</a:t>
            </a:r>
            <a:r>
              <a:rPr b="0" lang="it-IT" sz="2400" spc="-1" strike="noStrike">
                <a:solidFill>
                  <a:srgbClr val="1f497d"/>
                </a:solidFill>
                <a:latin typeface="Calibri"/>
                <a:ea typeface="Times New Roman"/>
              </a:rPr>
              <a:t>à</a:t>
            </a: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 di sfruttarne il potenziale ovunque ed in qualsiasi momento, connettendosi in </a:t>
            </a:r>
            <a:r>
              <a:rPr b="1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mobilita</a:t>
            </a:r>
            <a:r>
              <a:rPr b="1" lang="it-IT" sz="2400" spc="-1" strike="noStrike">
                <a:solidFill>
                  <a:srgbClr val="1f497d"/>
                </a:solidFill>
                <a:latin typeface="Calibri"/>
                <a:ea typeface="Times New Roman"/>
              </a:rPr>
              <a:t>’</a:t>
            </a: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780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780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il rapporto strettissimo </a:t>
            </a:r>
            <a:r>
              <a:rPr b="0" lang="it-IT" sz="2400" spc="-1" strike="noStrike">
                <a:solidFill>
                  <a:srgbClr val="1f497d"/>
                </a:solidFill>
                <a:latin typeface="Calibri"/>
                <a:ea typeface="Times New Roman"/>
              </a:rPr>
              <a:t>–</a:t>
            </a: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 con tutte le sue potenzialit</a:t>
            </a:r>
            <a:r>
              <a:rPr b="0" lang="it-IT" sz="2400" spc="-1" strike="noStrike">
                <a:solidFill>
                  <a:srgbClr val="1f497d"/>
                </a:solidFill>
                <a:latin typeface="Calibri"/>
                <a:ea typeface="Times New Roman"/>
              </a:rPr>
              <a:t>à</a:t>
            </a: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 ed i suoi rischi </a:t>
            </a:r>
            <a:r>
              <a:rPr b="0" lang="it-IT" sz="2400" spc="-1" strike="noStrike">
                <a:solidFill>
                  <a:srgbClr val="1f497d"/>
                </a:solidFill>
                <a:latin typeface="Calibri"/>
                <a:ea typeface="Times New Roman"/>
              </a:rPr>
              <a:t>–</a:t>
            </a: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 di tali tecnologie con la </a:t>
            </a:r>
            <a:r>
              <a:rPr b="1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persona</a:t>
            </a:r>
            <a:r>
              <a:rPr b="0" lang="it-IT" sz="2400" spc="-1" strike="noStrike">
                <a:solidFill>
                  <a:srgbClr val="1f497d"/>
                </a:solidFill>
                <a:latin typeface="Verdana"/>
                <a:ea typeface="Times New Roman"/>
              </a:rPr>
              <a:t> ed il suo modo di essere, pensare ed ag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8" descr="loading"/>
          <p:cNvPicPr/>
          <p:nvPr/>
        </p:nvPicPr>
        <p:blipFill>
          <a:blip r:embed="rId2"/>
          <a:stretch/>
        </p:blipFill>
        <p:spPr>
          <a:xfrm>
            <a:off x="631800" y="220500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loading"/>
          <p:cNvPicPr/>
          <p:nvPr/>
        </p:nvPicPr>
        <p:blipFill>
          <a:blip r:embed="rId3"/>
          <a:stretch/>
        </p:blipFill>
        <p:spPr>
          <a:xfrm>
            <a:off x="631800" y="350028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loading"/>
          <p:cNvPicPr/>
          <p:nvPr/>
        </p:nvPicPr>
        <p:blipFill>
          <a:blip r:embed="rId4"/>
          <a:stretch/>
        </p:blipFill>
        <p:spPr>
          <a:xfrm>
            <a:off x="631800" y="4941720"/>
            <a:ext cx="35892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533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0" y="33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2103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3905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7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MyIn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"/>
          <p:cNvPicPr/>
          <p:nvPr/>
        </p:nvPicPr>
        <p:blipFill>
          <a:blip r:embed="rId2"/>
          <a:srcRect l="1115" t="0" r="0" b="-480"/>
          <a:stretch/>
        </p:blipFill>
        <p:spPr>
          <a:xfrm>
            <a:off x="395280" y="1341360"/>
            <a:ext cx="7705800" cy="468000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9"/>
          <p:cNvSpPr/>
          <p:nvPr/>
        </p:nvSpPr>
        <p:spPr>
          <a:xfrm>
            <a:off x="488880" y="1341360"/>
            <a:ext cx="4969080" cy="305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I miei contatti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Permette d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1. gestire una rubrica personale di contat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2. inviare e ricevere messagg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3. visualizzare l’elenco di tutti gli utenti del si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4. cercare una persona e/o un particolare mess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6216480" y="2854440"/>
            <a:ext cx="2049480" cy="50328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1"/>
          <p:cNvSpPr/>
          <p:nvPr/>
        </p:nvSpPr>
        <p:spPr>
          <a:xfrm flipH="1" flipV="1">
            <a:off x="5457960" y="2709720"/>
            <a:ext cx="720720" cy="21600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2073240" y="5734080"/>
            <a:ext cx="20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0" y="533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0" y="33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0" y="2103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0" y="3905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7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MyIn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8" descr=""/>
          <p:cNvPicPr/>
          <p:nvPr/>
        </p:nvPicPr>
        <p:blipFill>
          <a:blip r:embed="rId2"/>
          <a:srcRect l="1115" t="0" r="0" b="-480"/>
          <a:stretch/>
        </p:blipFill>
        <p:spPr>
          <a:xfrm>
            <a:off x="776160" y="1486080"/>
            <a:ext cx="7705800" cy="46796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9"/>
          <p:cNvSpPr/>
          <p:nvPr/>
        </p:nvSpPr>
        <p:spPr>
          <a:xfrm>
            <a:off x="6504120" y="3502080"/>
            <a:ext cx="2120760" cy="50328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0"/>
          <p:cNvSpPr/>
          <p:nvPr/>
        </p:nvSpPr>
        <p:spPr>
          <a:xfrm flipH="1" flipV="1">
            <a:off x="5889240" y="3286080"/>
            <a:ext cx="576360" cy="21600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776160" y="1630440"/>
            <a:ext cx="5040360" cy="436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Calenda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Permette di personalizzare un calendario con appuntamenti o date da ricordare. Gli eventi inseriti possono essere di tip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- globale o general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- di una singola commun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- di uno specifico grupp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- dell’ut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In quest’ultima modalità il calendario funge da vera e propria agenda persona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533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33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0" y="2103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7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MyIn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2"/>
          <p:cNvGrpSpPr/>
          <p:nvPr/>
        </p:nvGrpSpPr>
        <p:grpSpPr>
          <a:xfrm>
            <a:off x="2268360" y="2781360"/>
            <a:ext cx="6335640" cy="3455640"/>
            <a:chOff x="2268360" y="2781360"/>
            <a:chExt cx="6335640" cy="3455640"/>
          </a:xfrm>
        </p:grpSpPr>
        <p:pic>
          <p:nvPicPr>
            <p:cNvPr id="449" name="Picture 13" descr=""/>
            <p:cNvPicPr/>
            <p:nvPr/>
          </p:nvPicPr>
          <p:blipFill>
            <a:blip r:embed="rId2"/>
            <a:srcRect l="0" t="0" r="0" b="18771"/>
            <a:stretch/>
          </p:blipFill>
          <p:spPr>
            <a:xfrm>
              <a:off x="2511360" y="2781360"/>
              <a:ext cx="5972040" cy="340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14"/>
            <p:cNvGrpSpPr/>
            <p:nvPr/>
          </p:nvGrpSpPr>
          <p:grpSpPr>
            <a:xfrm>
              <a:off x="2268360" y="2782440"/>
              <a:ext cx="6335640" cy="3454560"/>
              <a:chOff x="2268360" y="2782440"/>
              <a:chExt cx="6335640" cy="3454560"/>
            </a:xfrm>
          </p:grpSpPr>
          <p:sp>
            <p:nvSpPr>
              <p:cNvPr id="451" name="Rectangle 15"/>
              <p:cNvSpPr/>
              <p:nvPr/>
            </p:nvSpPr>
            <p:spPr>
              <a:xfrm>
                <a:off x="7080840" y="2836440"/>
                <a:ext cx="1523160" cy="329040"/>
              </a:xfrm>
              <a:prstGeom prst="rect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6"/>
              <p:cNvSpPr/>
              <p:nvPr/>
            </p:nvSpPr>
            <p:spPr>
              <a:xfrm>
                <a:off x="3731040" y="2782440"/>
                <a:ext cx="3289680" cy="1974600"/>
              </a:xfrm>
              <a:prstGeom prst="rect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7"/>
              <p:cNvSpPr/>
              <p:nvPr/>
            </p:nvSpPr>
            <p:spPr>
              <a:xfrm>
                <a:off x="2268360" y="4317840"/>
                <a:ext cx="1400760" cy="1919160"/>
              </a:xfrm>
              <a:prstGeom prst="rect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8"/>
              <p:cNvSpPr/>
              <p:nvPr/>
            </p:nvSpPr>
            <p:spPr>
              <a:xfrm>
                <a:off x="7080840" y="3221280"/>
                <a:ext cx="1523160" cy="2193480"/>
              </a:xfrm>
              <a:prstGeom prst="rect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9"/>
          <p:cNvSpPr/>
          <p:nvPr/>
        </p:nvSpPr>
        <p:spPr>
          <a:xfrm>
            <a:off x="631800" y="1268280"/>
            <a:ext cx="5977080" cy="1679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In MyInnova è inoltre disponibile un link diretto alla 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Libreria digitale di InnovaScuola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, alle 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Pillole Formative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, ai 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Canali Tematici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e agli ultimi aggiornamenti sul mondo della scuo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0" y="533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0" y="33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2103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3905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7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MyIn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395280" y="1544760"/>
            <a:ext cx="835344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Abbiamo visto che in MyInnova ogni docente pu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a) 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personalizzare il proprio profilo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) creare una propria 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libreria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/un archivio di materiali utili alla didattica, da condividere con altri docenti/colleghi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c) creare, iscriversi e partecipare a 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communities pubbliche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d) gestire una propria 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rubrica di contatti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, inviando e ricevendo messagg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e) organizzare un 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calendario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personale con date e appuntamenti da ricorda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f) 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censire studenti e iscriverli a community con studenti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g) consultare continuamente gli aggiornamenti del </a:t>
            </a:r>
            <a:r>
              <a:rPr b="1" lang="it-IT" sz="2000" spc="-1" strike="noStrike">
                <a:solidFill>
                  <a:srgbClr val="1f497d"/>
                </a:solidFill>
                <a:latin typeface="Calibri"/>
              </a:rPr>
              <a:t>portale InnovaScuola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, accedendo con un link diretto alla LDA o agli strumenti per l’autoformazione.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D8ED-ED8F-48C8-8E36-3BFD2EDECCE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itle 1"/>
          <p:cNvSpPr/>
          <p:nvPr/>
        </p:nvSpPr>
        <p:spPr>
          <a:xfrm>
            <a:off x="5745240" y="2205000"/>
            <a:ext cx="316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libro è </a:t>
            </a:r>
            <a:br>
              <a:rPr sz="3200"/>
            </a:b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come la ruota:</a:t>
            </a:r>
            <a:br>
              <a:rPr sz="3200"/>
            </a:b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un’invenzione </a:t>
            </a:r>
            <a:br>
              <a:rPr sz="3200"/>
            </a:b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perfet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0" descr="Umberto%2520Ec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76520" y="2060640"/>
            <a:ext cx="3166920" cy="212544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2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Il li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2398-09D8-418A-B18B-8ABF5B1AB28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1352520" y="0"/>
            <a:ext cx="68407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</a:rPr>
              <a:t>Gra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2"/>
          <a:stretch/>
        </p:blipFill>
        <p:spPr>
          <a:xfrm>
            <a:off x="5938920" y="4941720"/>
            <a:ext cx="1390680" cy="9432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8"/>
          <p:cNvSpPr/>
          <p:nvPr/>
        </p:nvSpPr>
        <p:spPr>
          <a:xfrm>
            <a:off x="2216160" y="2060640"/>
            <a:ext cx="571500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Dott.ssa Maria Letizia Me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Tahoma"/>
              </a:rPr>
              <a:t>Dirigente</a:t>
            </a:r>
            <a:r>
              <a:rPr b="0" i="1" lang="it-IT" sz="1600" spc="-1" strike="noStrike">
                <a:solidFill>
                  <a:srgbClr val="345a88"/>
                </a:solidFill>
                <a:latin typeface="Tahoma"/>
              </a:rPr>
              <a:t> Servizio Studi e Ricerche per l’innovazione dig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Verdana"/>
                <a:ea typeface="Times New Roman"/>
              </a:rPr>
              <a:t>Dipartimento per la digitalizzazione della Pubblica Amministrazione e l'innovazione tecnologica</a:t>
            </a:r>
            <a:r>
              <a:rPr b="0" lang="it-IT" sz="1600" spc="-1" strike="noStrike">
                <a:solidFill>
                  <a:srgbClr val="345a8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Tahoma"/>
              </a:rPr>
              <a:t>e-mail: l.melina@governo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9" descr=""/>
          <p:cNvPicPr/>
          <p:nvPr/>
        </p:nvPicPr>
        <p:blipFill>
          <a:blip r:embed="rId3"/>
          <a:stretch/>
        </p:blipFill>
        <p:spPr>
          <a:xfrm>
            <a:off x="2971800" y="5038560"/>
            <a:ext cx="262908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40FF-6811-493F-B851-E2B9C4E79F5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socialnetwork"/>
          <p:cNvPicPr/>
          <p:nvPr/>
        </p:nvPicPr>
        <p:blipFill>
          <a:blip r:embed="rId1"/>
          <a:stretch/>
        </p:blipFill>
        <p:spPr>
          <a:xfrm rot="19496400">
            <a:off x="5097600" y="1268280"/>
            <a:ext cx="3224160" cy="241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lg-xnote-mini-netbook_01"/>
          <p:cNvPicPr/>
          <p:nvPr/>
        </p:nvPicPr>
        <p:blipFill>
          <a:blip r:embed="rId2"/>
          <a:stretch/>
        </p:blipFill>
        <p:spPr>
          <a:xfrm rot="2470200">
            <a:off x="4736880" y="4652640"/>
            <a:ext cx="4232160" cy="2762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2523267847_be07c7def6_o"/>
          <p:cNvPicPr/>
          <p:nvPr/>
        </p:nvPicPr>
        <p:blipFill>
          <a:blip r:embed="rId3"/>
          <a:stretch/>
        </p:blipFill>
        <p:spPr>
          <a:xfrm>
            <a:off x="0" y="907920"/>
            <a:ext cx="5256360" cy="449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ipod"/>
          <p:cNvPicPr/>
          <p:nvPr/>
        </p:nvPicPr>
        <p:blipFill>
          <a:blip r:embed="rId4"/>
          <a:stretch/>
        </p:blipFill>
        <p:spPr>
          <a:xfrm rot="3612600">
            <a:off x="1536840" y="4181040"/>
            <a:ext cx="3048120" cy="384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300px-wiki-black"/>
          <p:cNvPicPr/>
          <p:nvPr/>
        </p:nvPicPr>
        <p:blipFill>
          <a:blip r:embed="rId5"/>
          <a:stretch/>
        </p:blipFill>
        <p:spPr>
          <a:xfrm rot="1543200">
            <a:off x="920520" y="2420640"/>
            <a:ext cx="3562200" cy="3562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egue.jpg"/>
          <p:cNvPicPr/>
          <p:nvPr/>
        </p:nvPicPr>
        <p:blipFill>
          <a:blip r:embed="rId6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8584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Da ieri ad oggi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 rot="7662000">
            <a:off x="6537600" y="2724480"/>
            <a:ext cx="4464360" cy="22719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954000"/>
            <a:ext cx="9906120" cy="5904000"/>
          </a:xfrm>
          <a:prstGeom prst="rect">
            <a:avLst/>
          </a:prstGeom>
          <a:solidFill>
            <a:srgbClr val="eeece1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tent Placeholder 2"/>
          <p:cNvSpPr/>
          <p:nvPr/>
        </p:nvSpPr>
        <p:spPr>
          <a:xfrm>
            <a:off x="488880" y="14130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1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tas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tent Placeholder 2"/>
          <p:cNvSpPr/>
          <p:nvPr/>
        </p:nvSpPr>
        <p:spPr>
          <a:xfrm rot="1185000">
            <a:off x="415800" y="321300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126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ew millennium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457600" y="1628640"/>
            <a:ext cx="3276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11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ocia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tent Placeholder 2"/>
          <p:cNvSpPr/>
          <p:nvPr/>
        </p:nvSpPr>
        <p:spPr>
          <a:xfrm rot="19870200">
            <a:off x="6321600" y="4292280"/>
            <a:ext cx="3276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1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e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ntent Placeholder 2"/>
          <p:cNvSpPr/>
          <p:nvPr/>
        </p:nvSpPr>
        <p:spPr>
          <a:xfrm rot="441600">
            <a:off x="6392880" y="270828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1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ativi digi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tent Placeholder 2"/>
          <p:cNvSpPr/>
          <p:nvPr/>
        </p:nvSpPr>
        <p:spPr>
          <a:xfrm rot="19726800">
            <a:off x="5457960" y="5444640"/>
            <a:ext cx="327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1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et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4232160" y="400536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1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Web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 rot="20470800">
            <a:off x="1064880" y="50130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126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2"/>
          <p:cNvSpPr/>
          <p:nvPr/>
        </p:nvSpPr>
        <p:spPr>
          <a:xfrm>
            <a:off x="2505240" y="58770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12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-pod</a:t>
            </a:r>
            <a:r>
              <a:rPr b="0" lang="it-IT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9929-408E-421C-AED1-3239CEF5FB6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8584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Ieri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2880" y="1557000"/>
            <a:ext cx="93283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8040" indent="-609840">
              <a:lnSpc>
                <a:spcPct val="8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e477a"/>
                </a:solidFill>
                <a:latin typeface="Verdana"/>
                <a:ea typeface="Times New Roman"/>
              </a:rPr>
              <a:t>	</a:t>
            </a:r>
            <a:r>
              <a:rPr b="1" lang="it-IT" sz="3200" spc="-1" strike="noStrike">
                <a:solidFill>
                  <a:srgbClr val="1e477a"/>
                </a:solidFill>
                <a:latin typeface="Verdana"/>
                <a:ea typeface="Times New Roman"/>
              </a:rPr>
              <a:t>introduzione di hardware, macchine, </a:t>
            </a:r>
            <a:r>
              <a:rPr b="1" lang="it-IT" sz="3200" spc="-1" strike="noStrike">
                <a:solidFill>
                  <a:srgbClr val="1e477a"/>
                </a:solidFill>
                <a:latin typeface="Calibri"/>
                <a:ea typeface="Times New Roman"/>
              </a:rPr>
              <a:t>“</a:t>
            </a:r>
            <a:r>
              <a:rPr b="1" lang="it-IT" sz="3200" spc="-1" strike="noStrike">
                <a:solidFill>
                  <a:srgbClr val="1e477a"/>
                </a:solidFill>
                <a:latin typeface="Verdana"/>
                <a:ea typeface="Times New Roman"/>
              </a:rPr>
              <a:t>ferro</a:t>
            </a:r>
            <a:r>
              <a:rPr b="1" lang="it-IT" sz="3200" spc="-1" strike="noStrike">
                <a:solidFill>
                  <a:srgbClr val="1e477a"/>
                </a:solidFill>
                <a:latin typeface="Calibri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78040" indent="-609840">
              <a:lnSpc>
                <a:spcPct val="8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e477a"/>
                </a:solidFill>
                <a:latin typeface="Verdana"/>
                <a:ea typeface="Times New Roman"/>
              </a:rPr>
              <a:t>	</a:t>
            </a:r>
            <a:r>
              <a:rPr b="1" lang="it-IT" sz="3200" spc="-1" strike="noStrike">
                <a:solidFill>
                  <a:srgbClr val="1e477a"/>
                </a:solidFill>
                <a:latin typeface="Verdana"/>
                <a:ea typeface="Times New Roman"/>
              </a:rPr>
              <a:t>focus su laboratori e re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78040" indent="-609840">
              <a:lnSpc>
                <a:spcPct val="8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e477a"/>
                </a:solidFill>
                <a:latin typeface="Verdana"/>
                <a:ea typeface="Times New Roman"/>
              </a:rPr>
              <a:t>	</a:t>
            </a:r>
            <a:r>
              <a:rPr b="1" lang="it-IT" sz="3200" spc="-1" strike="noStrike">
                <a:solidFill>
                  <a:srgbClr val="1e477a"/>
                </a:solidFill>
                <a:latin typeface="Verdana"/>
                <a:ea typeface="Times New Roman"/>
              </a:rPr>
              <a:t>alfabetizzazione informatica dei doce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78040" indent="-609840">
              <a:lnSpc>
                <a:spcPct val="8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e477a"/>
                </a:solidFill>
                <a:latin typeface="Verdana"/>
                <a:ea typeface="Times New Roman"/>
              </a:rPr>
              <a:t>	</a:t>
            </a:r>
            <a:r>
              <a:rPr b="1" lang="it-IT" sz="3200" spc="-1" strike="noStrike">
                <a:solidFill>
                  <a:srgbClr val="1e477a"/>
                </a:solidFill>
                <a:latin typeface="Verdana"/>
                <a:ea typeface="Times New Roman"/>
              </a:rPr>
              <a:t>creazione di poli di eccellenza che realizzassero e diffondessero buone prat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clessidra passato"/>
          <p:cNvPicPr/>
          <p:nvPr/>
        </p:nvPicPr>
        <p:blipFill>
          <a:blip r:embed="rId2"/>
          <a:stretch/>
        </p:blipFill>
        <p:spPr>
          <a:xfrm>
            <a:off x="488880" y="1628640"/>
            <a:ext cx="631800" cy="63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lessidra passato"/>
          <p:cNvPicPr/>
          <p:nvPr/>
        </p:nvPicPr>
        <p:blipFill>
          <a:blip r:embed="rId3"/>
          <a:stretch/>
        </p:blipFill>
        <p:spPr>
          <a:xfrm>
            <a:off x="488880" y="2637000"/>
            <a:ext cx="631800" cy="63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lessidra passato"/>
          <p:cNvPicPr/>
          <p:nvPr/>
        </p:nvPicPr>
        <p:blipFill>
          <a:blip r:embed="rId4"/>
          <a:stretch/>
        </p:blipFill>
        <p:spPr>
          <a:xfrm>
            <a:off x="488880" y="3645000"/>
            <a:ext cx="631800" cy="63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lessidra passato"/>
          <p:cNvPicPr/>
          <p:nvPr/>
        </p:nvPicPr>
        <p:blipFill>
          <a:blip r:embed="rId5"/>
          <a:stretch/>
        </p:blipFill>
        <p:spPr>
          <a:xfrm>
            <a:off x="488880" y="4869000"/>
            <a:ext cx="631800" cy="63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lessidra-futuro"/>
          <p:cNvPicPr/>
          <p:nvPr/>
        </p:nvPicPr>
        <p:blipFill>
          <a:blip r:embed="rId6"/>
          <a:stretch/>
        </p:blipFill>
        <p:spPr>
          <a:xfrm>
            <a:off x="488880" y="162864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lessidra-futuro"/>
          <p:cNvPicPr/>
          <p:nvPr/>
        </p:nvPicPr>
        <p:blipFill>
          <a:blip r:embed="rId7"/>
          <a:stretch/>
        </p:blipFill>
        <p:spPr>
          <a:xfrm>
            <a:off x="488880" y="486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lessidra-futuro"/>
          <p:cNvPicPr/>
          <p:nvPr/>
        </p:nvPicPr>
        <p:blipFill>
          <a:blip r:embed="rId8"/>
          <a:stretch/>
        </p:blipFill>
        <p:spPr>
          <a:xfrm>
            <a:off x="488880" y="364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clessidra-futuro"/>
          <p:cNvPicPr/>
          <p:nvPr/>
        </p:nvPicPr>
        <p:blipFill>
          <a:blip r:embed="rId9"/>
          <a:stretch/>
        </p:blipFill>
        <p:spPr>
          <a:xfrm>
            <a:off x="488880" y="2637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B339-B041-4649-902C-7C201855DDC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8584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…</a:t>
            </a: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ogg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208160" y="162864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tecnologie sempre pi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ù</a:t>
            </a:r>
            <a:r>
              <a:rPr b="0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user friendly</a:t>
            </a:r>
            <a:r>
              <a:rPr b="0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 ed in ev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device</a:t>
            </a:r>
            <a:r>
              <a:rPr b="0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 che riproducono molteplici funzioni: smartphone che filmano, PC che interagiscono con mani e co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l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’</a:t>
            </a:r>
            <a:r>
              <a:rPr b="0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idea della </a:t>
            </a:r>
            <a:r>
              <a:rPr b="1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black box</a:t>
            </a:r>
            <a:r>
              <a:rPr b="0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 di Jenkins: macchine-terminali di altri e molteplici media, per cui il PC diventa radio, televisione, giornale, e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reti wireless</a:t>
            </a:r>
            <a:r>
              <a:rPr b="0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 che consentono una vita sempre on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moltiplicazione dei </a:t>
            </a:r>
            <a:r>
              <a:rPr b="1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contenuti digitali</a:t>
            </a:r>
            <a:r>
              <a:rPr b="0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, proposti da agenzie o realizzati da noi stessi, con l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’</a:t>
            </a:r>
            <a:r>
              <a:rPr b="0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affermazione della figura del </a:t>
            </a:r>
            <a:r>
              <a:rPr b="0" i="1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prosumer</a:t>
            </a:r>
            <a:r>
              <a:rPr b="0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, utente produttore-consumatore di conten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servizi web-based</a:t>
            </a:r>
            <a:r>
              <a:rPr b="0" lang="it-IT" sz="1800" spc="-1" strike="noStrike">
                <a:solidFill>
                  <a:srgbClr val="1f497d"/>
                </a:solidFill>
                <a:latin typeface="Verdana"/>
                <a:ea typeface="Times New Roman"/>
              </a:rPr>
              <a:t>, tra cui il network relazionale che si sviluppa nei soci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clessidra-futuro"/>
          <p:cNvPicPr/>
          <p:nvPr/>
        </p:nvPicPr>
        <p:blipFill>
          <a:blip r:embed="rId2"/>
          <a:stretch/>
        </p:blipFill>
        <p:spPr>
          <a:xfrm>
            <a:off x="631800" y="14130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3" descr="clessidra-futuro"/>
          <p:cNvPicPr/>
          <p:nvPr/>
        </p:nvPicPr>
        <p:blipFill>
          <a:blip r:embed="rId3"/>
          <a:stretch/>
        </p:blipFill>
        <p:spPr>
          <a:xfrm>
            <a:off x="631800" y="54450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clessidra-futuro"/>
          <p:cNvPicPr/>
          <p:nvPr/>
        </p:nvPicPr>
        <p:blipFill>
          <a:blip r:embed="rId4"/>
          <a:stretch/>
        </p:blipFill>
        <p:spPr>
          <a:xfrm>
            <a:off x="631800" y="448308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" descr="clessidra-futuro"/>
          <p:cNvPicPr/>
          <p:nvPr/>
        </p:nvPicPr>
        <p:blipFill>
          <a:blip r:embed="rId5"/>
          <a:stretch/>
        </p:blipFill>
        <p:spPr>
          <a:xfrm>
            <a:off x="631800" y="213372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6" descr="clessidra-futuro"/>
          <p:cNvPicPr/>
          <p:nvPr/>
        </p:nvPicPr>
        <p:blipFill>
          <a:blip r:embed="rId6"/>
          <a:stretch/>
        </p:blipFill>
        <p:spPr>
          <a:xfrm>
            <a:off x="631800" y="292428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7" descr="clessidra-futuro"/>
          <p:cNvPicPr/>
          <p:nvPr/>
        </p:nvPicPr>
        <p:blipFill>
          <a:blip r:embed="rId7"/>
          <a:stretch/>
        </p:blipFill>
        <p:spPr>
          <a:xfrm>
            <a:off x="631800" y="36450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clessidra-futuro"/>
          <p:cNvPicPr/>
          <p:nvPr/>
        </p:nvPicPr>
        <p:blipFill>
          <a:blip r:embed="rId8"/>
          <a:stretch/>
        </p:blipFill>
        <p:spPr>
          <a:xfrm>
            <a:off x="631800" y="1413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lessidra-futuro"/>
          <p:cNvPicPr/>
          <p:nvPr/>
        </p:nvPicPr>
        <p:blipFill>
          <a:blip r:embed="rId9"/>
          <a:stretch/>
        </p:blipFill>
        <p:spPr>
          <a:xfrm>
            <a:off x="631800" y="2133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clessidra-futuro"/>
          <p:cNvPicPr/>
          <p:nvPr/>
        </p:nvPicPr>
        <p:blipFill>
          <a:blip r:embed="rId10"/>
          <a:stretch/>
        </p:blipFill>
        <p:spPr>
          <a:xfrm>
            <a:off x="631800" y="2924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clessidra-futuro"/>
          <p:cNvPicPr/>
          <p:nvPr/>
        </p:nvPicPr>
        <p:blipFill>
          <a:blip r:embed="rId11"/>
          <a:stretch/>
        </p:blipFill>
        <p:spPr>
          <a:xfrm>
            <a:off x="631800" y="3645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clessidra-futuro"/>
          <p:cNvPicPr/>
          <p:nvPr/>
        </p:nvPicPr>
        <p:blipFill>
          <a:blip r:embed="rId12"/>
          <a:stretch/>
        </p:blipFill>
        <p:spPr>
          <a:xfrm>
            <a:off x="611280" y="44830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clessidra-futuro"/>
          <p:cNvPicPr/>
          <p:nvPr/>
        </p:nvPicPr>
        <p:blipFill>
          <a:blip r:embed="rId13"/>
          <a:stretch/>
        </p:blipFill>
        <p:spPr>
          <a:xfrm>
            <a:off x="631800" y="544500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82D2-076A-4577-952D-DC7143FFC56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Un nuovo modello della conosc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4"/>
          <p:cNvSpPr/>
          <p:nvPr/>
        </p:nvSpPr>
        <p:spPr>
          <a:xfrm rot="1099200">
            <a:off x="2288880" y="3284280"/>
            <a:ext cx="1368360" cy="647640"/>
          </a:xfrm>
          <a:prstGeom prst="ellipse">
            <a:avLst/>
          </a:prstGeom>
          <a:gradFill rotWithShape="0">
            <a:gsLst>
              <a:gs pos="0">
                <a:srgbClr val="f3fd77"/>
              </a:gs>
              <a:gs pos="100000">
                <a:srgbClr val="ffffff"/>
              </a:gs>
            </a:gsLst>
            <a:lin ang="43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"/>
          <p:cNvSpPr/>
          <p:nvPr/>
        </p:nvSpPr>
        <p:spPr>
          <a:xfrm rot="20785800">
            <a:off x="344160" y="4868640"/>
            <a:ext cx="2305080" cy="647640"/>
          </a:xfrm>
          <a:prstGeom prst="ellipse">
            <a:avLst/>
          </a:prstGeom>
          <a:gradFill rotWithShape="0">
            <a:gsLst>
              <a:gs pos="0">
                <a:srgbClr val="f3fd77"/>
              </a:gs>
              <a:gs pos="100000">
                <a:srgbClr val="ffffff"/>
              </a:gs>
            </a:gsLst>
            <a:lin ang="62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aric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6"/>
          <p:cNvSpPr/>
          <p:nvPr/>
        </p:nvSpPr>
        <p:spPr>
          <a:xfrm rot="586200">
            <a:off x="0" y="3860280"/>
            <a:ext cx="2449440" cy="576360"/>
          </a:xfrm>
          <a:prstGeom prst="ellipse">
            <a:avLst/>
          </a:prstGeom>
          <a:gradFill rotWithShape="0">
            <a:gsLst>
              <a:gs pos="0">
                <a:srgbClr val="f3fd77"/>
              </a:gs>
              <a:gs pos="100000">
                <a:srgbClr val="ffffff"/>
              </a:gs>
            </a:gsLst>
            <a:lin ang="48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rasform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 rot="1132200">
            <a:off x="0" y="2924280"/>
            <a:ext cx="2232000" cy="647640"/>
          </a:xfrm>
          <a:prstGeom prst="ellipse">
            <a:avLst/>
          </a:prstGeom>
          <a:gradFill rotWithShape="0">
            <a:gsLst>
              <a:gs pos="0">
                <a:srgbClr val="f3fd77"/>
              </a:gs>
              <a:gs pos="100000">
                <a:srgbClr val="ffffff"/>
              </a:gs>
            </a:gsLst>
            <a:lin ang="42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avig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"/>
          <p:cNvSpPr/>
          <p:nvPr/>
        </p:nvSpPr>
        <p:spPr>
          <a:xfrm rot="1895400">
            <a:off x="353520" y="1949400"/>
            <a:ext cx="3168720" cy="719280"/>
          </a:xfrm>
          <a:prstGeom prst="ellipse">
            <a:avLst/>
          </a:prstGeom>
          <a:gradFill rotWithShape="0">
            <a:gsLst>
              <a:gs pos="0">
                <a:srgbClr val="f3fd77"/>
              </a:gs>
              <a:gs pos="100000">
                <a:srgbClr val="ffffff"/>
              </a:gs>
            </a:gsLst>
            <a:lin ang="35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sonalizz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9"/>
          <p:cNvSpPr/>
          <p:nvPr/>
        </p:nvSpPr>
        <p:spPr>
          <a:xfrm rot="20749200">
            <a:off x="7095600" y="3573360"/>
            <a:ext cx="2810160" cy="792360"/>
          </a:xfrm>
          <a:prstGeom prst="ellipse">
            <a:avLst/>
          </a:prstGeom>
          <a:gradFill rotWithShape="0">
            <a:gsLst>
              <a:gs pos="0">
                <a:srgbClr val="b0e2c1"/>
              </a:gs>
              <a:gs pos="100000">
                <a:srgbClr val="ffffff"/>
              </a:gs>
            </a:gsLst>
            <a:lin ang="62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er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"/>
          <p:cNvSpPr/>
          <p:nvPr/>
        </p:nvSpPr>
        <p:spPr>
          <a:xfrm rot="1256400">
            <a:off x="6392880" y="4869000"/>
            <a:ext cx="2519280" cy="691920"/>
          </a:xfrm>
          <a:prstGeom prst="ellipse">
            <a:avLst/>
          </a:prstGeom>
          <a:gradFill rotWithShape="0">
            <a:gsLst>
              <a:gs pos="0">
                <a:srgbClr val="b0e2c1"/>
              </a:gs>
              <a:gs pos="100000">
                <a:srgbClr val="ffffff"/>
              </a:gs>
            </a:gsLst>
            <a:lin ang="414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1"/>
          <p:cNvSpPr/>
          <p:nvPr/>
        </p:nvSpPr>
        <p:spPr>
          <a:xfrm rot="20200200">
            <a:off x="5168880" y="1844640"/>
            <a:ext cx="4968720" cy="792360"/>
          </a:xfrm>
          <a:prstGeom prst="ellipse">
            <a:avLst/>
          </a:prstGeom>
          <a:gradFill rotWithShape="0">
            <a:gsLst>
              <a:gs pos="0">
                <a:srgbClr val="b0e2c1"/>
              </a:gs>
              <a:gs pos="100000">
                <a:srgbClr val="ffffff"/>
              </a:gs>
            </a:gsLst>
            <a:lin ang="67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uovi canali di comun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 rot="20012400">
            <a:off x="6388200" y="2906280"/>
            <a:ext cx="2592360" cy="576360"/>
          </a:xfrm>
          <a:prstGeom prst="ellipse">
            <a:avLst/>
          </a:prstGeom>
          <a:gradFill rotWithShape="0">
            <a:gsLst>
              <a:gs pos="0">
                <a:srgbClr val="b0e2c1"/>
              </a:gs>
              <a:gs pos="100000">
                <a:srgbClr val="ffffff"/>
              </a:gs>
            </a:gsLst>
            <a:lin ang="69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3"/>
          <p:cNvSpPr/>
          <p:nvPr/>
        </p:nvSpPr>
        <p:spPr>
          <a:xfrm>
            <a:off x="3440160" y="3500280"/>
            <a:ext cx="2952720" cy="1800360"/>
          </a:xfrm>
          <a:prstGeom prst="ellipse">
            <a:avLst/>
          </a:prstGeom>
          <a:blipFill rotWithShape="0">
            <a:blip r:embed="rId2">
              <a:alphaModFix amt="83000"/>
            </a:blip>
            <a:srcRect/>
            <a:stretch/>
          </a:blipFill>
          <a:ln w="0">
            <a:noFill/>
          </a:ln>
          <a:effectLst>
            <a:outerShdw dist="71785" dir="2700000" blurRad="0" rotWithShape="0">
              <a:srgbClr val="fa231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8"/>
          <p:cNvSpPr txBox="1"/>
          <p:nvPr/>
        </p:nvSpPr>
        <p:spPr>
          <a:xfrm>
            <a:off x="3297240" y="5445000"/>
            <a:ext cx="32385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Sapere_flusso</a:t>
            </a:r>
            <a:endParaRPr b="0" lang="en-US" sz="2800" spc="1" strike="noStrike">
              <a:ln w="64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2BB7-AB74-4956-A5C0-79B0ECFE292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8584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80"/>
                </a:solidFill>
                <a:latin typeface="Arial"/>
                <a:ea typeface="Arial"/>
              </a:rPr>
              <a:t>Ebook a scu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432440" y="5013360"/>
            <a:ext cx="80218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f497d"/>
                </a:solidFill>
                <a:latin typeface="Arial"/>
              </a:rPr>
              <a:t>1) valore dei contenuti didattici digi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f497d"/>
                </a:solidFill>
                <a:latin typeface="Arial"/>
              </a:rPr>
              <a:t>2) presenza nell’insegnamento/app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f497d"/>
                </a:solidFill>
                <a:latin typeface="Arial"/>
              </a:rPr>
              <a:t>3) modalità di utiliz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0" y="1197000"/>
            <a:ext cx="9705960" cy="3714840"/>
            <a:chOff x="0" y="1197000"/>
            <a:chExt cx="9705960" cy="3714840"/>
          </a:xfrm>
        </p:grpSpPr>
        <p:pic>
          <p:nvPicPr>
            <p:cNvPr id="132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1197000"/>
              <a:ext cx="9705960" cy="37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9" descr=""/>
            <p:cNvPicPr/>
            <p:nvPr/>
          </p:nvPicPr>
          <p:blipFill>
            <a:blip r:embed="rId3"/>
            <a:stretch/>
          </p:blipFill>
          <p:spPr>
            <a:xfrm>
              <a:off x="7566120" y="1341360"/>
              <a:ext cx="2139840" cy="598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E185-A7C9-4E8B-BFE7-0854D79EC0F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Il Piano </a:t>
            </a:r>
            <a:r>
              <a:rPr b="0" i="1" lang="it-IT" sz="3200" spc="-1" strike="noStrike">
                <a:solidFill>
                  <a:srgbClr val="1f497d"/>
                </a:solidFill>
                <a:latin typeface="Calibri"/>
              </a:rPr>
              <a:t>e-Gov 2012</a:t>
            </a: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 – obiettivo scu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88880" y="1773360"/>
            <a:ext cx="8685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45a88"/>
                </a:solidFill>
                <a:latin typeface="Calibri"/>
                <a:ea typeface="宋体"/>
              </a:rPr>
              <a:t>La </a:t>
            </a:r>
            <a:r>
              <a:rPr b="1" lang="it-IT" sz="2400" spc="-1" strike="noStrike">
                <a:solidFill>
                  <a:srgbClr val="345a88"/>
                </a:solidFill>
                <a:latin typeface="Calibri"/>
                <a:ea typeface="宋体"/>
              </a:rPr>
              <a:t>Scuola</a:t>
            </a:r>
            <a:r>
              <a:rPr b="0" lang="it-IT" sz="2400" spc="-1" strike="noStrike">
                <a:solidFill>
                  <a:srgbClr val="345a88"/>
                </a:solidFill>
                <a:latin typeface="Calibri"/>
                <a:ea typeface="宋体"/>
              </a:rPr>
              <a:t> è tra gli obiettivi primari del piano </a:t>
            </a:r>
            <a:r>
              <a:rPr b="0" i="1" lang="it-IT" sz="2400" spc="-1" strike="noStrike">
                <a:solidFill>
                  <a:srgbClr val="345a88"/>
                </a:solidFill>
                <a:latin typeface="Calibri"/>
                <a:ea typeface="宋体"/>
              </a:rPr>
              <a:t>e-Gov 2012</a:t>
            </a:r>
            <a:r>
              <a:rPr b="0" lang="it-IT" sz="2400" spc="-1" strike="noStrike">
                <a:solidFill>
                  <a:srgbClr val="345a88"/>
                </a:solidFill>
                <a:latin typeface="Calibri"/>
                <a:ea typeface="宋体"/>
              </a:rPr>
              <a:t>: entro il termine della legislatura tutte le scuole dovranno essere dotate di strumenti e servizi tecnologici avanzati per la didattica e le relazioni con le famigl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45a88"/>
                </a:solidFill>
                <a:latin typeface="Calibri"/>
                <a:ea typeface="宋体"/>
              </a:rPr>
              <a:t>Il </a:t>
            </a:r>
            <a:r>
              <a:rPr b="1" lang="it-IT" sz="2400" spc="-1" strike="noStrike">
                <a:solidFill>
                  <a:srgbClr val="345a88"/>
                </a:solidFill>
                <a:latin typeface="Calibri"/>
                <a:ea typeface="宋体"/>
              </a:rPr>
              <a:t>Piano per l’innovazione della scuola</a:t>
            </a:r>
            <a:r>
              <a:rPr b="0" lang="it-IT" sz="2400" spc="-1" strike="noStrike">
                <a:solidFill>
                  <a:srgbClr val="345a88"/>
                </a:solidFill>
                <a:latin typeface="Calibri"/>
                <a:ea typeface="宋体"/>
              </a:rPr>
              <a:t> è stato attivato con il protocollo di intesa del 30 ottobre 2008 con il MI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45a88"/>
                </a:solidFill>
                <a:latin typeface="Calibri"/>
                <a:ea typeface="宋体"/>
              </a:rPr>
              <a:t>Il </a:t>
            </a:r>
            <a:r>
              <a:rPr b="1" lang="it-IT" sz="2400" spc="-1" strike="noStrike">
                <a:solidFill>
                  <a:srgbClr val="345a88"/>
                </a:solidFill>
                <a:latin typeface="Calibri"/>
                <a:ea typeface="宋体"/>
              </a:rPr>
              <a:t>Piano</a:t>
            </a:r>
            <a:r>
              <a:rPr b="0" lang="it-IT" sz="2400" spc="-1" strike="noStrike">
                <a:solidFill>
                  <a:srgbClr val="345a88"/>
                </a:solidFill>
                <a:latin typeface="Calibri"/>
                <a:ea typeface="宋体"/>
              </a:rPr>
              <a:t> prevede interventi per semplificare i servizi per le famiglie, </a:t>
            </a:r>
            <a:r>
              <a:rPr b="0" lang="it-IT" sz="2400" spc="-1" strike="noStrike">
                <a:solidFill>
                  <a:srgbClr val="345a88"/>
                </a:solidFill>
                <a:latin typeface="Calibri"/>
              </a:rPr>
              <a:t>migliorare la dotazione tecnologica delle scuole, favorire l’adozione di contenuti digitali e di metodologie didattiche innov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Target"/>
          <p:cNvPicPr/>
          <p:nvPr/>
        </p:nvPicPr>
        <p:blipFill>
          <a:blip r:embed="rId2"/>
          <a:stretch/>
        </p:blipFill>
        <p:spPr>
          <a:xfrm>
            <a:off x="8697960" y="3860640"/>
            <a:ext cx="762120" cy="5716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2"/>
          <p:cNvGrpSpPr/>
          <p:nvPr/>
        </p:nvGrpSpPr>
        <p:grpSpPr>
          <a:xfrm>
            <a:off x="9080280" y="3556440"/>
            <a:ext cx="684720" cy="579960"/>
            <a:chOff x="9080280" y="3556440"/>
            <a:chExt cx="684720" cy="579960"/>
          </a:xfrm>
        </p:grpSpPr>
        <p:sp>
          <p:nvSpPr>
            <p:cNvPr id="141" name="AutoShape 9"/>
            <p:cNvSpPr/>
            <p:nvPr/>
          </p:nvSpPr>
          <p:spPr>
            <a:xfrm rot="19298400">
              <a:off x="9023400" y="3862080"/>
              <a:ext cx="704880" cy="61920"/>
            </a:xfrm>
            <a:prstGeom prst="leftArrow">
              <a:avLst>
                <a:gd name="adj1" fmla="val 50000"/>
                <a:gd name="adj2" fmla="val 28459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0"/>
            <p:cNvSpPr/>
            <p:nvPr/>
          </p:nvSpPr>
          <p:spPr>
            <a:xfrm flipV="1" rot="19212000">
              <a:off x="9486360" y="3721680"/>
              <a:ext cx="289080" cy="71640"/>
            </a:xfrm>
            <a:prstGeom prst="parallelogram">
              <a:avLst>
                <a:gd name="adj" fmla="val 100879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1"/>
            <p:cNvSpPr/>
            <p:nvPr/>
          </p:nvSpPr>
          <p:spPr>
            <a:xfrm rot="19010400">
              <a:off x="9415080" y="3645000"/>
              <a:ext cx="287280" cy="71280"/>
            </a:xfrm>
            <a:prstGeom prst="parallelogram">
              <a:avLst>
                <a:gd name="adj" fmla="val 100758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Motion origin="layout" path="M 0.06634 -0.08403 L 0.00256 -1.85185E-006 E">
                                      <p:cBhvr>
                                        <p:cTn id="91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2:42:30Z</dcterms:created>
  <dc:creator>pd</dc:creator>
  <dc:description/>
  <dc:language>en-US</dc:language>
  <cp:lastModifiedBy>Root</cp:lastModifiedBy>
  <dcterms:modified xsi:type="dcterms:W3CDTF">2010-03-24T19:11:26Z</dcterms:modified>
  <cp:revision>286</cp:revision>
  <dc:subject/>
  <dc:title>eHealth forum milano</dc:title>
</cp:coreProperties>
</file>