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4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ldImg"/>
          </p:nvPr>
        </p:nvSpPr>
        <p:spPr>
          <a:xfrm>
            <a:off x="907920" y="74268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body"/>
          </p:nvPr>
        </p:nvSpPr>
        <p:spPr>
          <a:xfrm>
            <a:off x="903240" y="4714560"/>
            <a:ext cx="49752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dt" idx="10"/>
          </p:nvPr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2"/>
          </p:nvPr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A296-FA4A-44F4-9EB1-179A00C9E8E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6"/>
          <p:cNvSpPr/>
          <p:nvPr/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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Rectangle 10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244B-6E62-4B1D-9D5D-975CE3D1CE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1"/>
          <p:cNvSpPr/>
          <p:nvPr/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677520" y="4714920"/>
            <a:ext cx="54212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6"/>
          <p:cNvSpPr/>
          <p:nvPr/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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Rectangle 10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1089-855F-4A3A-B55D-F5D463A385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Text Box 1"/>
          <p:cNvSpPr/>
          <p:nvPr/>
        </p:nvSpPr>
        <p:spPr>
          <a:xfrm>
            <a:off x="90972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677520" y="4714920"/>
            <a:ext cx="54212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3841920" y="943128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8FE84271-69C6-4B53-BF3E-F2B35A1033D5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6"/>
          <p:cNvSpPr/>
          <p:nvPr/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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Rectangle 10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D7D0-2BF5-4DF2-B8A3-169EEA9BE4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Text Box 1"/>
          <p:cNvSpPr/>
          <p:nvPr/>
        </p:nvSpPr>
        <p:spPr>
          <a:xfrm>
            <a:off x="90972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677520" y="4714920"/>
            <a:ext cx="54212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3841920" y="943128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1DF34F9C-36FA-48B7-80BB-68387C6E04B7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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22BD-318C-4CAC-8EA2-F05F1C7299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Text Box 1"/>
          <p:cNvSpPr/>
          <p:nvPr/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677520" y="4714920"/>
            <a:ext cx="54212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6"/>
          <p:cNvSpPr/>
          <p:nvPr/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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Rectangle 10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839C-2644-4ECC-9A57-248C9F98E6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Text Box 1"/>
          <p:cNvSpPr/>
          <p:nvPr/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677520" y="4714920"/>
            <a:ext cx="54212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6"/>
          <p:cNvSpPr/>
          <p:nvPr/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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10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1FA3-6A1F-482B-8DC3-5B634F8557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Text Box 1"/>
          <p:cNvSpPr/>
          <p:nvPr/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677520" y="4714920"/>
            <a:ext cx="54212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6AA9-A24A-4D35-9E8B-13393E14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4ADF-DF61-4758-9263-2E5314D5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64AE-C86D-4936-B996-43A8317E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737E-82C2-41E0-9EA6-A938B371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B41D-1A60-4681-B1AB-797653AA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0A93-79A0-449B-9DDF-D2860D10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A117-3B35-446D-BDCE-6E41644E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92B4-599C-40FB-BE88-BB64649E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2E85-39F1-4F5F-825F-26B6E46E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B28B-1234-48A5-BEF7-2F172628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611C-DE80-4371-B902-E2B07BC4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6042-1E63-4BAA-BA33-D95D9814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AB49-C92B-4B66-B872-B8358724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E9F4-302B-4D0B-9BE2-B17B01AA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6130-868C-4E38-8A8D-6A09283C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AEB3-25E8-418C-AD56-E894CDA8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E183-F32D-44CF-8F2C-5BECE100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FEA9AB-B322-4C05-8F2D-A571CFF7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27C68F-B9BE-4814-B4CD-835BFE7A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D1C331-1CBB-4CE9-A262-5DFA0587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EADA78-1296-4BEB-BAA8-BDC05908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8B1E20-F0FF-4CB1-ACE6-1FB21E82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A20F-01CF-4877-8583-775389A7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388763-2B70-4604-A23C-C2C3A430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8C7247-9AD8-417D-9C78-CBD9F540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EC1738-EE16-4892-A925-48871417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56F697-8CA7-43F1-94D1-8AD6E434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9F29BC-F00D-4CC3-9A47-93410ABE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5ADCC9-EFB2-4CAD-890F-56A1E278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CCB2F-8B88-4327-99F2-E08FEDAF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63CD-48D7-47CB-93B8-290E02E6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4DA3-34D9-4D86-8D88-35DF0451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9243-FF5F-4CF0-AAB2-AF4C9974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AA86-92FC-45F4-ACA5-1C8A1D4E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764B-328B-4357-81E4-4F589098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1C8C-53C5-4220-B11D-F0C0FB38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1985-FB72-4EAC-B583-6731FD783107}" type="datetime">
              <a:rPr b="0" lang="it-IT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97DA-EFAA-4FE4-BC7E-4E134F9A2B3A}" type="slidenum"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B417-DEB6-443F-B165-37F5C3EF87F9}" type="datetime">
              <a:rPr b="0" lang="it-IT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0B63-4535-4E23-993F-0D483E4E10DF}" type="slidenum"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42CD-DA4D-4BE6-8247-18A6C501BE37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dt" idx="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0261-59AE-4E9E-9098-C7B2D5EE1AB4}" type="datetime">
              <a:rPr b="0" lang="it-IT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19/11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971800" y="2362320"/>
            <a:ext cx="6019920" cy="358128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2800"/>
            </a:br>
            <a:r>
              <a:rPr b="1" lang="it-IT" sz="2800" spc="-1" strike="noStrike">
                <a:solidFill>
                  <a:srgbClr val="ff0000"/>
                </a:solidFill>
                <a:latin typeface="Verdana"/>
              </a:rPr>
              <a:t>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ff0000"/>
                </a:solidFill>
                <a:latin typeface="Verdana"/>
              </a:rPr>
              <a:t>L’ALTERNANZA </a:t>
            </a:r>
            <a:br>
              <a:rPr sz="2800"/>
            </a:br>
            <a:r>
              <a:rPr b="1" lang="it-IT" sz="2800" spc="-1" strike="noStrike">
                <a:solidFill>
                  <a:srgbClr val="ff0000"/>
                </a:solidFill>
                <a:latin typeface="Verdana"/>
              </a:rPr>
              <a:t>SCUOLA LAVORO </a:t>
            </a:r>
            <a:br>
              <a:rPr sz="2800"/>
            </a:br>
            <a:r>
              <a:rPr b="1" lang="it-IT" sz="2800" spc="-1" strike="noStrike">
                <a:solidFill>
                  <a:srgbClr val="ff0000"/>
                </a:solidFill>
                <a:latin typeface="Verdana"/>
              </a:rPr>
              <a:t>NEI NUOVI ORDINAMENTI DELLA SCUOLA SECONDARIA SUPERIORE</a:t>
            </a:r>
            <a:br>
              <a:rPr sz="2800"/>
            </a:br>
            <a:br>
              <a:rPr sz="36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676160" y="4800600"/>
            <a:ext cx="60195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CasellaDiTesto 6"/>
          <p:cNvSpPr/>
          <p:nvPr/>
        </p:nvSpPr>
        <p:spPr>
          <a:xfrm>
            <a:off x="2819520" y="533520"/>
            <a:ext cx="609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7545ff"/>
                </a:solidFill>
                <a:latin typeface="Verdana"/>
              </a:rPr>
              <a:t>NUOVI LICEI</a:t>
            </a:r>
            <a:br>
              <a:rPr sz="2800"/>
            </a:br>
            <a:r>
              <a:rPr b="1" lang="it-IT" sz="2800" spc="-1" strike="noStrike">
                <a:solidFill>
                  <a:srgbClr val="7545ff"/>
                </a:solidFill>
                <a:latin typeface="Verdana"/>
              </a:rPr>
              <a:t> NUOVI ISTITUTI TECNIC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7545ff"/>
                </a:solidFill>
                <a:latin typeface="Verdana"/>
              </a:rPr>
              <a:t>NUOVI ISTITUTI PROFESSIONAL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468360" y="1052640"/>
            <a:ext cx="7294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Verdana"/>
              </a:rPr>
              <a:t>OBIETTIVI della RIFOR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533520" y="228600"/>
            <a:ext cx="734364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90"/>
                </a:solidFill>
                <a:latin typeface="Verdana"/>
              </a:rPr>
              <a:t>Secondo ciclo del sistema educativo di istruzione e formazi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24000" y="1989000"/>
            <a:ext cx="822960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97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0" lang="en-GB" sz="28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Eliminare duplicazioni e sovrapposizioni tra i percorsi educativi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7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0" lang="en-GB" sz="24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valorizzare l’identità dei diversi ordinamenti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7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0" lang="en-GB" sz="24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facilitare le scelte degli studenti e delle famigli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7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0" lang="en-GB" sz="24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contrastare la dispersione scolastic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7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0" lang="en-GB" sz="24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favorire il raccordo tra scuola, mondo del lavoro e delle professioni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08200" indent="-336600">
              <a:lnSpc>
                <a:spcPct val="97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0" lang="en-GB" sz="24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garantire una equilibrata distribuzione territorial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08200" indent="-336600">
              <a:lnSpc>
                <a:spcPct val="97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0" lang="en-GB" sz="24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CasellaDiTesto 1"/>
          <p:cNvSpPr/>
          <p:nvPr/>
        </p:nvSpPr>
        <p:spPr>
          <a:xfrm>
            <a:off x="1143000" y="533520"/>
            <a:ext cx="6858000" cy="53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50021"/>
                </a:solidFill>
                <a:latin typeface="Verdana"/>
              </a:rPr>
              <a:t>d.P.R. N.89/2010 Regolamento LICEI, art.1, c.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0"/>
                </a:solidFill>
                <a:latin typeface="Verdana"/>
              </a:rPr>
              <a:t>A partire dal secondo biennio, anche d’intesa con le università, le istituzioni di alta formazione artistica, gli istituti tecnici superiori ecc., i licei stabiliscono specifiche modalità per approfondire le conoscenze, le abilità e le conoscenze richieste per accedere ai corsi di studio post secondari e per l’inserimento nel mondo del lavo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0"/>
                </a:solidFill>
                <a:latin typeface="Verdana"/>
              </a:rPr>
              <a:t>L’approfondimento può essere realizzato anche attraverso </a:t>
            </a:r>
            <a:r>
              <a:rPr b="1" i="1" lang="it-IT" sz="2000" spc="-1" strike="noStrike">
                <a:solidFill>
                  <a:srgbClr val="da0000"/>
                </a:solidFill>
                <a:latin typeface="Verdana"/>
              </a:rPr>
              <a:t>percorsi di alternanza scuola lavoro</a:t>
            </a:r>
            <a:r>
              <a:rPr b="1" i="1" lang="it-IT" sz="20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lang="it-IT" sz="2000" spc="-1" strike="noStrike">
                <a:solidFill>
                  <a:srgbClr val="000090"/>
                </a:solidFill>
                <a:latin typeface="Verdana"/>
              </a:rPr>
              <a:t> nonché attraverso attivazione di </a:t>
            </a:r>
            <a:r>
              <a:rPr b="1" i="1" lang="it-IT" sz="2000" spc="-1" strike="noStrike">
                <a:solidFill>
                  <a:srgbClr val="da0000"/>
                </a:solidFill>
                <a:latin typeface="Verdana"/>
              </a:rPr>
              <a:t>moduli e di iniziative di studio-lavoro per progetti, di esperienze pratiche e di tirocinio</a:t>
            </a:r>
            <a:r>
              <a:rPr b="1" lang="it-IT" sz="2000" spc="-1" strike="noStrike">
                <a:solidFill>
                  <a:srgbClr val="00009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egnaposto numero diapositiva 1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B3473BF7-4018-4058-999E-40043E3FC589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B183042D-3AA4-4668-AD44-18A637A7672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476360" y="260280"/>
            <a:ext cx="597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545ff"/>
                </a:solidFill>
                <a:latin typeface="Verdana"/>
              </a:rPr>
              <a:t>PIÙ AUTONOMIA P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545ff"/>
                </a:solidFill>
                <a:latin typeface="Verdana"/>
              </a:rPr>
              <a:t>I LICE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304920" y="1676520"/>
            <a:ext cx="7924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4240" indent="-84240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84240"/>
                <a:tab algn="l" pos="866880"/>
                <a:tab algn="l" pos="1743120"/>
                <a:tab algn="l" pos="2619360"/>
                <a:tab algn="l" pos="3495600"/>
                <a:tab algn="l" pos="4371840"/>
                <a:tab algn="l" pos="5248440"/>
                <a:tab algn="l" pos="6124680"/>
                <a:tab algn="l" pos="7000920"/>
                <a:tab algn="l" pos="7877160"/>
                <a:tab algn="l" pos="8753400"/>
                <a:tab algn="l" pos="9629640"/>
                <a:tab algn="l" pos="10506240"/>
                <a:tab algn="l" pos="10775880"/>
                <a:tab algn="l" pos="10779120"/>
              </a:tabLst>
            </a:pPr>
            <a:r>
              <a:rPr b="0" lang="en-GB" sz="2400" spc="-1" strike="noStrike">
                <a:solidFill>
                  <a:srgbClr val="22228b"/>
                </a:solidFill>
                <a:latin typeface="Verdana"/>
              </a:rPr>
              <a:t>Quote di</a:t>
            </a:r>
            <a:r>
              <a:rPr b="1" lang="en-GB" sz="2400" spc="-1" strike="noStrike">
                <a:solidFill>
                  <a:srgbClr val="22228b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cc0000"/>
                </a:solidFill>
                <a:latin typeface="Verdana"/>
              </a:rPr>
              <a:t>AUTONOMIA </a:t>
            </a:r>
            <a:r>
              <a:rPr b="0" lang="en-GB" sz="2400" spc="-1" strike="noStrike">
                <a:solidFill>
                  <a:srgbClr val="000090"/>
                </a:solidFill>
                <a:latin typeface="Verdana"/>
              </a:rPr>
              <a:t>nei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LICEI: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608040">
              <a:lnSpc>
                <a:spcPct val="97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84240"/>
                <a:tab algn="l" pos="866880"/>
                <a:tab algn="l" pos="1743120"/>
                <a:tab algn="l" pos="2619360"/>
                <a:tab algn="l" pos="3495600"/>
                <a:tab algn="l" pos="4371840"/>
                <a:tab algn="l" pos="5248440"/>
                <a:tab algn="l" pos="6124680"/>
                <a:tab algn="l" pos="7000920"/>
                <a:tab algn="l" pos="7877160"/>
                <a:tab algn="l" pos="8753400"/>
                <a:tab algn="l" pos="9629640"/>
                <a:tab algn="l" pos="10506240"/>
                <a:tab algn="l" pos="10775880"/>
                <a:tab algn="l" pos="10779120"/>
              </a:tabLst>
            </a:pPr>
            <a:r>
              <a:rPr b="1" lang="en-GB" sz="2400" spc="-1" strike="noStrike">
                <a:solidFill>
                  <a:srgbClr val="c10311"/>
                </a:solidFill>
                <a:latin typeface="Verdana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in relazione all’orario complessivo delle lezioni </a:t>
            </a:r>
            <a:r>
              <a:rPr b="1" lang="en-GB" sz="2400" spc="-1" strike="noStrike">
                <a:solidFill>
                  <a:srgbClr val="cc0000"/>
                </a:solidFill>
                <a:latin typeface="Verdana"/>
                <a:ea typeface="ＭＳ Ｐゴシック"/>
              </a:rPr>
              <a:t>20%</a:t>
            </a: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nel </a:t>
            </a:r>
            <a:r>
              <a:rPr b="1" lang="en-GB" sz="2400" spc="-1" strike="noStrike">
                <a:solidFill>
                  <a:srgbClr val="da0000"/>
                </a:solidFill>
                <a:latin typeface="Verdana"/>
                <a:ea typeface="ＭＳ Ｐゴシック"/>
              </a:rPr>
              <a:t>primo biennio</a:t>
            </a: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, </a:t>
            </a:r>
            <a:r>
              <a:rPr b="1" lang="en-GB" sz="2400" spc="-1" strike="noStrike">
                <a:solidFill>
                  <a:srgbClr val="da0000"/>
                </a:solidFill>
                <a:latin typeface="Verdana"/>
                <a:ea typeface="ＭＳ Ｐゴシック"/>
              </a:rPr>
              <a:t>30%</a:t>
            </a:r>
            <a:r>
              <a:rPr b="1" lang="en-GB" sz="2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per il </a:t>
            </a:r>
            <a:r>
              <a:rPr b="1" lang="en-GB" sz="2400" spc="-1" strike="noStrike">
                <a:solidFill>
                  <a:srgbClr val="da0000"/>
                </a:solidFill>
                <a:latin typeface="Verdana"/>
                <a:ea typeface="ＭＳ Ｐゴシック"/>
              </a:rPr>
              <a:t>secondo biennio</a:t>
            </a: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, </a:t>
            </a:r>
            <a:r>
              <a:rPr b="1" lang="en-GB" sz="2400" spc="-1" strike="noStrike">
                <a:solidFill>
                  <a:srgbClr val="da0000"/>
                </a:solidFill>
                <a:latin typeface="Verdana"/>
                <a:ea typeface="ＭＳ Ｐゴシック"/>
              </a:rPr>
              <a:t>20%</a:t>
            </a: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 nel </a:t>
            </a:r>
            <a:r>
              <a:rPr b="1" lang="en-GB" sz="2400" spc="-1" strike="noStrike">
                <a:solidFill>
                  <a:srgbClr val="da0000"/>
                </a:solidFill>
                <a:latin typeface="Verdana"/>
                <a:ea typeface="ＭＳ Ｐゴシック"/>
              </a:rPr>
              <a:t>quinto anno</a:t>
            </a: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, fermo restando che l’orario di ciascuna disciplina prevista nel piano di studio  non può essere ridotta in misura maggiore di un terzo nell’arco del quinquennio e che non possono essere soppresse le discipline previste nell’ultimo anno di corso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CasellaDiTesto 1"/>
          <p:cNvSpPr/>
          <p:nvPr/>
        </p:nvSpPr>
        <p:spPr>
          <a:xfrm>
            <a:off x="971640" y="765000"/>
            <a:ext cx="727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0"/>
                </a:solidFill>
                <a:latin typeface="Verdana"/>
              </a:rPr>
              <a:t>I licei possono dotarsi di  un </a:t>
            </a:r>
            <a:r>
              <a:rPr b="1" lang="it-IT" sz="2800" spc="-1" strike="noStrike">
                <a:solidFill>
                  <a:srgbClr val="a50021"/>
                </a:solidFill>
                <a:latin typeface="Verdana"/>
              </a:rPr>
              <a:t>COMITATO SCIENTIFICO</a:t>
            </a:r>
            <a:r>
              <a:rPr b="0" lang="it-IT" sz="28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000090"/>
                </a:solidFill>
                <a:latin typeface="Verdana"/>
              </a:rPr>
              <a:t>composto di docenti e di esperti del mondo del lavoro, delle professioni, della ricerca scientifica e tecnologica, delle università e delle istituzioni di alta formazione artistica, musicale e coreutica, con funzioni consultive e di proposta per l’organizzazione e l’utilizzazione degli spazi di autonomia e flessibilità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egnaposto numero diapositiva 1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09116D0C-A36E-43BC-9611-B20492B9809A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80B6116B-38C0-465E-8CD3-3602E978E22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545ff"/>
                </a:solidFill>
                <a:latin typeface="Verdana"/>
              </a:rPr>
              <a:t>PIÙ AUTONOMIA PER ISTITUTI TECNICI</a:t>
            </a:r>
            <a:r>
              <a:rPr b="1" lang="en-GB" sz="3200" spc="-1" strike="noStrike">
                <a:solidFill>
                  <a:srgbClr val="262699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262699"/>
                </a:solidFill>
                <a:latin typeface="Verdana"/>
              </a:rPr>
              <a:t>(d.P.R. n. 88/201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304920" y="1295280"/>
            <a:ext cx="7829280" cy="521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4240" indent="-84240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84240"/>
                <a:tab algn="l" pos="866880"/>
                <a:tab algn="l" pos="1743120"/>
                <a:tab algn="l" pos="2619360"/>
                <a:tab algn="l" pos="3495600"/>
                <a:tab algn="l" pos="4371840"/>
                <a:tab algn="l" pos="5248440"/>
                <a:tab algn="l" pos="6124680"/>
                <a:tab algn="l" pos="7000920"/>
                <a:tab algn="l" pos="7877160"/>
                <a:tab algn="l" pos="8753400"/>
                <a:tab algn="l" pos="9629640"/>
                <a:tab algn="l" pos="10506240"/>
                <a:tab algn="l" pos="10775880"/>
                <a:tab algn="l" pos="107791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22228b"/>
                </a:solidFill>
                <a:latin typeface="Verdana"/>
              </a:rPr>
              <a:t>Quote di</a:t>
            </a:r>
            <a:r>
              <a:rPr b="1" lang="en-GB" sz="2800" spc="-1" strike="noStrike">
                <a:solidFill>
                  <a:srgbClr val="22228b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cc0000"/>
                </a:solidFill>
                <a:latin typeface="Verdana"/>
              </a:rPr>
              <a:t>AUTONOMIA e FLESSIBILITÀ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99"/>
                </a:solidFill>
                <a:latin typeface="Verdana"/>
              </a:rPr>
              <a:t>Istituti Tecnici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608040">
              <a:lnSpc>
                <a:spcPct val="97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84240"/>
                <a:tab algn="l" pos="866880"/>
                <a:tab algn="l" pos="1743120"/>
                <a:tab algn="l" pos="2619360"/>
                <a:tab algn="l" pos="3495600"/>
                <a:tab algn="l" pos="4371840"/>
                <a:tab algn="l" pos="5248440"/>
                <a:tab algn="l" pos="6124680"/>
                <a:tab algn="l" pos="7000920"/>
                <a:tab algn="l" pos="7877160"/>
                <a:tab algn="l" pos="8753400"/>
                <a:tab algn="l" pos="9629640"/>
                <a:tab algn="l" pos="10506240"/>
                <a:tab algn="l" pos="10775880"/>
                <a:tab algn="l" pos="10779120"/>
              </a:tabLst>
            </a:pPr>
            <a:r>
              <a:rPr b="1" lang="en-GB" sz="2800" spc="-1" strike="noStrike">
                <a:solidFill>
                  <a:srgbClr val="c10311"/>
                </a:solidFill>
                <a:latin typeface="Verdana"/>
                <a:ea typeface="ＭＳ Ｐゴシック"/>
              </a:rPr>
              <a:t> </a:t>
            </a:r>
            <a:r>
              <a:rPr b="1" lang="en-GB" sz="2800" spc="-1" strike="noStrike">
                <a:solidFill>
                  <a:srgbClr val="cc0000"/>
                </a:solidFill>
                <a:latin typeface="Verdana"/>
                <a:ea typeface="ＭＳ Ｐゴシック"/>
              </a:rPr>
              <a:t>20%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di </a:t>
            </a:r>
            <a:r>
              <a:rPr b="0" lang="en-GB" sz="2800" spc="-1" strike="noStrike">
                <a:solidFill>
                  <a:srgbClr val="cc0000"/>
                </a:solidFill>
                <a:latin typeface="Verdana"/>
                <a:ea typeface="ＭＳ Ｐゴシック"/>
              </a:rPr>
              <a:t>autonomia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in relazione all’orario complessivo delle lezioni per il primo biennio e il successivo triennio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608040">
              <a:lnSpc>
                <a:spcPct val="97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84240"/>
                <a:tab algn="l" pos="866880"/>
                <a:tab algn="l" pos="1743120"/>
                <a:tab algn="l" pos="2619360"/>
                <a:tab algn="l" pos="3495600"/>
                <a:tab algn="l" pos="4371840"/>
                <a:tab algn="l" pos="5248440"/>
                <a:tab algn="l" pos="6124680"/>
                <a:tab algn="l" pos="7000920"/>
                <a:tab algn="l" pos="7877160"/>
                <a:tab algn="l" pos="8753400"/>
                <a:tab algn="l" pos="9629640"/>
                <a:tab algn="l" pos="10506240"/>
                <a:tab algn="l" pos="10775880"/>
                <a:tab algn="l" pos="1077912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Verdana"/>
                <a:ea typeface="ＭＳ Ｐゴシック"/>
              </a:rPr>
              <a:t> </a:t>
            </a:r>
            <a:r>
              <a:rPr b="1" lang="en-GB" sz="2800" spc="-1" strike="noStrike">
                <a:solidFill>
                  <a:srgbClr val="cc0000"/>
                </a:solidFill>
                <a:latin typeface="Verdana"/>
                <a:ea typeface="ＭＳ Ｐゴシック"/>
              </a:rPr>
              <a:t>30 %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di flessibilità </a:t>
            </a:r>
            <a:r>
              <a:rPr b="0" lang="en-GB" sz="2800" spc="-1" strike="noStrike">
                <a:solidFill>
                  <a:srgbClr val="c10311"/>
                </a:solidFill>
                <a:latin typeface="Verdana"/>
                <a:ea typeface="ＭＳ Ｐゴシック"/>
              </a:rPr>
              <a:t>(opzioni)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nel secondo biennio e</a:t>
            </a:r>
            <a:r>
              <a:rPr b="1" lang="en-GB" sz="28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en-GB" sz="2800" spc="-1" strike="noStrike">
                <a:solidFill>
                  <a:srgbClr val="cc0000"/>
                </a:solidFill>
                <a:latin typeface="Verdana"/>
                <a:ea typeface="ＭＳ Ｐゴシック"/>
              </a:rPr>
              <a:t>35 %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nel quinto anno</a:t>
            </a:r>
            <a:r>
              <a:rPr b="1" lang="en-GB" sz="28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,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Verdana"/>
                <a:ea typeface="ＭＳ Ｐゴシック"/>
              </a:rPr>
              <a:t>solo</a:t>
            </a:r>
            <a:r>
              <a:rPr b="1" lang="en-GB" sz="2800" spc="-1" strike="noStrike">
                <a:solidFill>
                  <a:srgbClr val="cc0000"/>
                </a:solidFill>
                <a:latin typeface="Verdana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22228b"/>
                </a:solidFill>
                <a:latin typeface="Verdana"/>
                <a:ea typeface="ＭＳ Ｐゴシック"/>
              </a:rPr>
              <a:t>in relazione alle</a:t>
            </a:r>
            <a:r>
              <a:rPr b="0" lang="en-GB" sz="28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c10311"/>
                </a:solidFill>
                <a:latin typeface="Verdana"/>
                <a:ea typeface="ＭＳ Ｐゴシック"/>
              </a:rPr>
              <a:t>AREE di INDIRIZZO</a:t>
            </a:r>
            <a:r>
              <a:rPr b="0" lang="en-GB" sz="2000" spc="-1" strike="noStrike">
                <a:solidFill>
                  <a:srgbClr val="c10311"/>
                </a:solidFill>
                <a:latin typeface="Verdana"/>
                <a:ea typeface="ＭＳ Ｐゴシック"/>
              </a:rPr>
              <a:t> </a:t>
            </a:r>
            <a:r>
              <a:rPr b="0" i="1" lang="en-GB" sz="2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per rispondere a documentate richieste del territorio, del mondo del lavoro e delle professioni</a:t>
            </a:r>
            <a:r>
              <a:rPr b="0" i="1" lang="en-GB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.</a:t>
            </a:r>
            <a:r>
              <a:rPr b="0" lang="en-GB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"/>
          <p:cNvSpPr/>
          <p:nvPr/>
        </p:nvSpPr>
        <p:spPr>
          <a:xfrm>
            <a:off x="6553080" y="6248520"/>
            <a:ext cx="2132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5DE988FD-E29B-4778-9340-33AC994B2CE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2"/>
          <p:cNvSpPr/>
          <p:nvPr/>
        </p:nvSpPr>
        <p:spPr>
          <a:xfrm>
            <a:off x="679320" y="260280"/>
            <a:ext cx="846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Verdana"/>
              </a:rPr>
              <a:t>PIÙ AUTONOMIA PER ISTITUTI PROFESSIONALI </a:t>
            </a:r>
            <a:r>
              <a:rPr b="0" lang="en-GB" sz="2800" spc="-1" strike="noStrike">
                <a:solidFill>
                  <a:srgbClr val="c00000"/>
                </a:solidFill>
                <a:latin typeface="Verdana"/>
              </a:rPr>
              <a:t>d.P.R.n.87/20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762120" y="1413000"/>
            <a:ext cx="754380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Verdana"/>
              </a:rPr>
              <a:t>Quote di </a:t>
            </a: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AUTONOMIA</a:t>
            </a:r>
            <a:r>
              <a:rPr b="0" lang="en-GB" sz="2000" spc="-1" strike="noStrike">
                <a:solidFill>
                  <a:srgbClr val="000099"/>
                </a:solidFill>
                <a:latin typeface="Verdana"/>
              </a:rPr>
              <a:t>  e </a:t>
            </a:r>
            <a:r>
              <a:rPr b="1" lang="en-GB" sz="2000" spc="-1" strike="noStrike">
                <a:solidFill>
                  <a:srgbClr val="000099"/>
                </a:solidFill>
                <a:latin typeface="Verdana"/>
              </a:rPr>
              <a:t>FLESSIBILITÀ ISTITUTI PROFESSIONALI</a:t>
            </a:r>
            <a:r>
              <a:rPr b="0" lang="en-GB" sz="2000" spc="-1" strike="noStrike">
                <a:solidFill>
                  <a:srgbClr val="000099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Verdana"/>
              </a:rPr>
              <a:t>20%</a:t>
            </a:r>
            <a:r>
              <a:rPr b="0" lang="en-GB" sz="2000" spc="-1" strike="noStrike">
                <a:solidFill>
                  <a:srgbClr val="00007d"/>
                </a:solidFill>
                <a:latin typeface="Verdana"/>
              </a:rPr>
              <a:t> di </a:t>
            </a:r>
            <a:r>
              <a:rPr b="1" lang="en-GB" sz="2000" spc="-1" strike="noStrike">
                <a:solidFill>
                  <a:srgbClr val="cc0000"/>
                </a:solidFill>
                <a:latin typeface="Verdana"/>
              </a:rPr>
              <a:t>autonomia</a:t>
            </a:r>
            <a:r>
              <a:rPr b="0" lang="en-GB" sz="2000" spc="-1" strike="noStrike">
                <a:solidFill>
                  <a:srgbClr val="00007d"/>
                </a:solidFill>
                <a:latin typeface="Verdana"/>
              </a:rPr>
              <a:t> in relazione all’orario complessivo delle lezioni per il primo biennio e il successivo triennio 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Verdana"/>
              </a:rPr>
              <a:t>25%</a:t>
            </a:r>
            <a:r>
              <a:rPr b="0" lang="en-GB" sz="2000" spc="-1" strike="noStrike">
                <a:solidFill>
                  <a:srgbClr val="00007d"/>
                </a:solidFill>
                <a:latin typeface="Verdana"/>
              </a:rPr>
              <a:t> di </a:t>
            </a:r>
            <a:r>
              <a:rPr b="1" lang="en-GB" sz="2000" spc="-1" strike="noStrike">
                <a:solidFill>
                  <a:srgbClr val="cc0000"/>
                </a:solidFill>
                <a:latin typeface="Verdana"/>
              </a:rPr>
              <a:t>flessibilità</a:t>
            </a:r>
            <a:r>
              <a:rPr b="1" lang="en-GB" sz="2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7d"/>
                </a:solidFill>
                <a:latin typeface="Verdana"/>
              </a:rPr>
              <a:t>nel primo biennio, calcolata in base  al monte ore dell’</a:t>
            </a:r>
            <a:r>
              <a:rPr b="1" lang="en-GB" sz="2000" spc="-1" strike="noStrike">
                <a:solidFill>
                  <a:srgbClr val="c00000"/>
                </a:solidFill>
                <a:latin typeface="Verdana"/>
              </a:rPr>
              <a:t>area di indirizzo </a:t>
            </a:r>
            <a:r>
              <a:rPr b="0" lang="en-GB" sz="2000" spc="-1" strike="noStrike">
                <a:solidFill>
                  <a:srgbClr val="00007d"/>
                </a:solidFill>
                <a:latin typeface="Verdana"/>
              </a:rPr>
              <a:t>per  organizzare un’offerta formativa  coordinata con il sistema di istruzione e formazione professionale di competenza delle Region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1000" indent="-33660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Verdana"/>
                <a:ea typeface="ＭＳ Ｐゴシック"/>
              </a:rPr>
              <a:t>35 %</a:t>
            </a:r>
            <a:r>
              <a:rPr b="0" lang="en-GB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nel secondo biennio  e </a:t>
            </a:r>
            <a:r>
              <a:rPr b="1" lang="en-GB" sz="2000" spc="-1" strike="noStrike">
                <a:solidFill>
                  <a:srgbClr val="cc0000"/>
                </a:solidFill>
                <a:latin typeface="Verdana"/>
                <a:ea typeface="ＭＳ Ｐゴシック"/>
              </a:rPr>
              <a:t>40 %</a:t>
            </a:r>
            <a:r>
              <a:rPr b="0" lang="en-GB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 di flessibilità nel quinto anno, calcolata in base  al monte ore dell’area di indirizzo, per realizzare </a:t>
            </a:r>
            <a:r>
              <a:rPr b="1" lang="en-GB" sz="2000" spc="-1" strike="noStrike">
                <a:solidFill>
                  <a:srgbClr val="c00000"/>
                </a:solidFill>
                <a:latin typeface="Verdana"/>
                <a:ea typeface="ＭＳ Ｐゴシック"/>
              </a:rPr>
              <a:t>opzioni</a:t>
            </a:r>
            <a:r>
              <a:rPr b="0" lang="en-GB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rispondenti  a documentate  richieste del territorio, del mondo del lavoro e delle profession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323360"/>
                <a:tab algn="l" pos="10772640"/>
                <a:tab algn="l" pos="10775880"/>
                <a:tab algn="l" pos="107791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egnaposto numero diapositiva 3"/>
          <p:cNvSpPr/>
          <p:nvPr/>
        </p:nvSpPr>
        <p:spPr>
          <a:xfrm>
            <a:off x="6553080" y="6248520"/>
            <a:ext cx="2132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29BD-2383-4EAF-AC21-974621441426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684360" y="620640"/>
            <a:ext cx="71593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Verdana"/>
              </a:rPr>
              <a:t>NUOVI MODELLI ORGANIZZATIVI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395280" y="1123920"/>
            <a:ext cx="82184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468360" y="404640"/>
            <a:ext cx="75596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8244000" y="62064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8244000" y="62064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826920" y="331920"/>
            <a:ext cx="1800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468360" y="1684440"/>
          <a:ext cx="8227800" cy="4749840"/>
        </p:xfrm>
        <a:graphic>
          <a:graphicData uri="http://schemas.openxmlformats.org/drawingml/2006/table">
            <a:tbl>
              <a:tblPr/>
              <a:tblGrid>
                <a:gridCol w="3898800"/>
                <a:gridCol w="4329000"/>
              </a:tblGrid>
              <a:tr h="16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2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DIPARTIMEN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e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2400" spc="-1" strike="noStrike">
                          <a:solidFill>
                            <a:srgbClr val="000099"/>
                          </a:solidFill>
                          <a:latin typeface="Arial"/>
                          <a:ea typeface="宋体"/>
                        </a:rPr>
                        <a:t>il </a:t>
                      </a:r>
                      <a:r>
                        <a:rPr b="1" lang="it-IT" sz="24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sostegno alla didattica</a:t>
                      </a:r>
                      <a:r>
                        <a:rPr b="0" lang="it-IT" sz="2400" spc="-1" strike="noStrike">
                          <a:solidFill>
                            <a:srgbClr val="000099"/>
                          </a:solidFill>
                          <a:latin typeface="Arial"/>
                          <a:ea typeface="宋体"/>
                        </a:rPr>
                        <a:t> e alla </a:t>
                      </a:r>
                      <a:r>
                        <a:rPr b="1" lang="it-IT" sz="24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progettazione formativa</a:t>
                      </a:r>
                      <a:r>
                        <a:rPr b="0" lang="it-IT" sz="2400" spc="-1" strike="noStrike">
                          <a:solidFill>
                            <a:srgbClr val="000099"/>
                          </a:solidFill>
                          <a:latin typeface="Arial"/>
                          <a:ea typeface="宋体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it-IT" sz="2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COMITATO TECNICO SCIENTIF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2400" spc="-1" strike="noStrike">
                          <a:solidFill>
                            <a:srgbClr val="000099"/>
                          </a:solidFill>
                          <a:latin typeface="Arial"/>
                          <a:ea typeface="宋体"/>
                        </a:rPr>
                        <a:t>finalizzato a rafforzare il </a:t>
                      </a:r>
                      <a:r>
                        <a:rPr b="1" lang="it-IT" sz="24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raccordo sinergico tra gli obiettivi educativi</a:t>
                      </a:r>
                      <a:r>
                        <a:rPr b="0" lang="it-IT" sz="2400" spc="-1" strike="noStrike">
                          <a:solidFill>
                            <a:srgbClr val="000099"/>
                          </a:solidFill>
                          <a:latin typeface="Arial"/>
                          <a:ea typeface="宋体"/>
                        </a:rPr>
                        <a:t> della scuola, </a:t>
                      </a:r>
                      <a:r>
                        <a:rPr b="1" lang="it-IT" sz="2400" spc="-1" strike="noStrike">
                          <a:solidFill>
                            <a:srgbClr val="cc0000"/>
                          </a:solidFill>
                          <a:latin typeface="Arial"/>
                          <a:ea typeface="宋体"/>
                        </a:rPr>
                        <a:t>le esigenze del territorio e i fabbisogni professionali</a:t>
                      </a:r>
                      <a:r>
                        <a:rPr b="0" lang="it-IT" sz="2400" spc="-1" strike="noStrike">
                          <a:solidFill>
                            <a:srgbClr val="000099"/>
                          </a:solidFill>
                          <a:latin typeface="Arial"/>
                          <a:ea typeface="宋体"/>
                        </a:rPr>
                        <a:t> espressi dal mondo produttivo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"/>
          <p:cNvSpPr/>
          <p:nvPr/>
        </p:nvSpPr>
        <p:spPr>
          <a:xfrm>
            <a:off x="6553080" y="6248520"/>
            <a:ext cx="2132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0372F32D-F11D-4AC0-8D32-FA2ED966F15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"/>
          <p:cNvSpPr/>
          <p:nvPr/>
        </p:nvSpPr>
        <p:spPr>
          <a:xfrm>
            <a:off x="380880" y="533520"/>
            <a:ext cx="822816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Verdana"/>
              </a:rPr>
              <a:t>L’alternanza scuola-lavor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Verdana"/>
              </a:rPr>
              <a:t>negli istituti tecnici e professional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80880" y="1295280"/>
            <a:ext cx="830592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0" lang="en-GB" sz="2400" spc="-1" strike="noStrike">
                <a:solidFill>
                  <a:srgbClr val="22228b"/>
                </a:solidFill>
                <a:latin typeface="Verdana"/>
              </a:rPr>
              <a:t>Fa emergere nello studente la </a:t>
            </a:r>
            <a:r>
              <a:rPr b="1" lang="en-GB" sz="2400" spc="-1" strike="noStrike">
                <a:solidFill>
                  <a:srgbClr val="22228b"/>
                </a:solidFill>
                <a:latin typeface="Verdana"/>
              </a:rPr>
              <a:t>consapevolezza dell’appartenenza ad una comunità professionale</a:t>
            </a:r>
            <a:r>
              <a:rPr b="0" lang="en-GB" sz="2400" spc="-1" strike="noStrike">
                <a:solidFill>
                  <a:srgbClr val="22228b"/>
                </a:solidFill>
                <a:latin typeface="Verdana"/>
              </a:rPr>
              <a:t>, sviluppa una precisa identità quale membro di un’organizzazione e potenzia una nuova cultura del lavor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6600" indent="-336600">
              <a:lnSpc>
                <a:spcPct val="90000"/>
              </a:lnSpc>
              <a:spcBef>
                <a:spcPts val="2001"/>
              </a:spcBef>
              <a:buClr>
                <a:srgbClr val="800000"/>
              </a:buClr>
              <a:buSzPct val="75000"/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0" lang="en-GB" sz="2400" spc="-1" strike="noStrike">
                <a:solidFill>
                  <a:srgbClr val="22228b"/>
                </a:solidFill>
                <a:latin typeface="Verdana"/>
              </a:rPr>
              <a:t>È finalizzata a rispondere alle esigenze specifiche di apprendimento degli studenti in situazione, rendendo più attraente i percorsi e favorendo il </a:t>
            </a:r>
            <a:r>
              <a:rPr b="1" lang="en-GB" sz="2400" spc="-1" strike="noStrike">
                <a:solidFill>
                  <a:srgbClr val="22228b"/>
                </a:solidFill>
                <a:latin typeface="Verdana"/>
              </a:rPr>
              <a:t>collegamento con il territorio, con il mondo del lavoro e delle professioni</a:t>
            </a:r>
            <a:r>
              <a:rPr b="0" lang="en-GB" sz="2400" spc="-1" strike="noStrike">
                <a:solidFill>
                  <a:srgbClr val="22228b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79898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703dff"/>
                </a:solidFill>
                <a:latin typeface="Candara"/>
              </a:rPr>
              <a:t>PROGETTARE L’ALTERNANZ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9" name="Picture 4" descr="j0202070[1]"/>
          <p:cNvPicPr/>
          <p:nvPr/>
        </p:nvPicPr>
        <p:blipFill>
          <a:blip r:embed="rId1"/>
          <a:stretch/>
        </p:blipFill>
        <p:spPr>
          <a:xfrm>
            <a:off x="3708360" y="3933720"/>
            <a:ext cx="4089600" cy="27115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j0399496[1]"/>
          <p:cNvPicPr/>
          <p:nvPr/>
        </p:nvPicPr>
        <p:blipFill>
          <a:blip r:embed="rId2"/>
          <a:stretch/>
        </p:blipFill>
        <p:spPr>
          <a:xfrm>
            <a:off x="611280" y="333360"/>
            <a:ext cx="37447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43000" y="0"/>
            <a:ext cx="68580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Sistema regionale/territoriale: i soggetti coinvol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g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nti local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S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amere commerci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ssociazioni imprenditorial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arti social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nti di ricerc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versit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7620120" cy="505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7545ff"/>
                </a:solidFill>
                <a:latin typeface="Arial"/>
                <a:ea typeface="Times New Roman"/>
              </a:rPr>
              <a:t>COME NASCE L’ALTERNANZ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to legislativo n.77/2005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L’alternanza scuola-lavoro si fonda sull’intreccio tra:</a:t>
            </a:r>
            <a:br>
              <a:rPr sz="2800"/>
            </a:br>
            <a:br>
              <a:rPr sz="1200"/>
            </a:br>
            <a:r>
              <a:rPr b="0" lang="en-US" sz="12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le scelte educative della scuola </a:t>
            </a:r>
            <a:r>
              <a:rPr b="0" lang="en-US" sz="28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indicate nel piano dell’offerta </a:t>
            </a:r>
            <a:r>
              <a:rPr b="0" lang="en-US" sz="28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formativa;</a:t>
            </a:r>
            <a:br>
              <a:rPr sz="2800"/>
            </a:br>
            <a:br>
              <a:rPr sz="1200"/>
            </a:br>
            <a:r>
              <a:rPr b="0" lang="en-US" sz="12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le aspettative delle aziende in termini </a:t>
            </a:r>
            <a:r>
              <a:rPr b="0" lang="en-US" sz="28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di fabbisogni professionali;</a:t>
            </a:r>
            <a:br>
              <a:rPr sz="2800"/>
            </a:br>
            <a:br>
              <a:rPr sz="1200"/>
            </a:br>
            <a:r>
              <a:rPr b="0" lang="en-US" sz="28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-  </a:t>
            </a:r>
            <a:r>
              <a:rPr b="0" lang="en-US" sz="28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0"/>
                </a:solidFill>
                <a:latin typeface="Comic Sans MS"/>
                <a:ea typeface="Times New Roman"/>
              </a:rPr>
              <a:t>le esigenze formative degli studenti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723960" y="0"/>
            <a:ext cx="769608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1936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2600" indent="-1936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7545ff"/>
                </a:solidFill>
                <a:latin typeface="Verdana"/>
              </a:rPr>
              <a:t>Livello operativo locale: i soggetti coinvol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2600" indent="-1936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2600" indent="-193680">
              <a:lnSpc>
                <a:spcPct val="100000"/>
              </a:lnSpc>
              <a:spcBef>
                <a:spcPts val="1500"/>
              </a:spcBef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ngole istituzioni scolastiche e form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600" indent="-193680">
              <a:lnSpc>
                <a:spcPct val="100000"/>
              </a:lnSpc>
              <a:spcBef>
                <a:spcPts val="1500"/>
              </a:spcBef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te istituzioni scolastiche e form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600" indent="-193680">
              <a:lnSpc>
                <a:spcPct val="100000"/>
              </a:lnSpc>
              <a:spcBef>
                <a:spcPts val="1500"/>
              </a:spcBef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mpre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600" indent="-193680">
              <a:lnSpc>
                <a:spcPct val="100000"/>
              </a:lnSpc>
              <a:spcBef>
                <a:spcPts val="1500"/>
              </a:spcBef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nti (e associazioni)  pubblici e privati - compreso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rzo sett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2600" indent="-193680">
              <a:lnSpc>
                <a:spcPct val="100000"/>
              </a:lnSpc>
              <a:spcBef>
                <a:spcPts val="1500"/>
              </a:spcBef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migl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ef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en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042920" y="914400"/>
          <a:ext cx="6272280" cy="5029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914400"/>
                    <a:ext cx="62722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1066680" y="380880"/>
            <a:ext cx="6934320" cy="55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7545ff"/>
                </a:solidFill>
                <a:latin typeface="Verdana"/>
                <a:ea typeface="Times New Roman"/>
              </a:rPr>
              <a:t>I PRINCIPALI FATTORI DI SUCCESS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ccordo tra i soggett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ogettazione del percorso formativo unitario, condiviso e validato congiuntament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Gestione efficace dei flussi formativ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divisione dei criteri e degli strumenti per il controllo, la valutazione e il trattamento di eventuali disfunzion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ilettura dei piani di studio per individuare: </a:t>
            </a:r>
            <a:r>
              <a:rPr b="0" i="1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etenze di base, trasversali e di indirizz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istrutturazione dei piani di studio in moduli autoconsistenti e sequenziali (es. Unità di apprendimento).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762120" y="609480"/>
            <a:ext cx="6705360" cy="44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7545ff"/>
                </a:solidFill>
                <a:latin typeface="Verdana"/>
              </a:rPr>
              <a:t>COMPETENZE DEGLI ORGANI COLLEGIA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)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sigli di clas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       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cquisire le richieste degli alunni e delle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amigli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      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laborare ipotesi di percorsi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dividualizzat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rticolare il percorso formativo in MODUL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edisporre il contratto formativ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ogrammare le attività didattiche a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cuola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 in azien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trollare i processi e valutare i risulta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395280" y="228600"/>
            <a:ext cx="7561440" cy="54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9072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7545ff"/>
                </a:solidFill>
                <a:latin typeface="Verdana"/>
              </a:rPr>
              <a:t>COMPETENZE DEGLI ORGANI COLLEGIALI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99072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990720"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)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Collegio dei docent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90720"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  individuare, sulla base delle proposte avanzate dai singoli Consigli di classe, quantità e tipologia dei percorsi da avviare per inserirli nel POF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90720"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finire le competenze del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619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utor formativ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619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i componenti interni del gruppo di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ogetto.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90720"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valutare i risultat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90720"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…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468360" y="907920"/>
            <a:ext cx="7620120" cy="47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3516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)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7545ff"/>
                </a:solidFill>
                <a:latin typeface="Verdana"/>
                <a:ea typeface="Times New Roman"/>
              </a:rPr>
              <a:t>Consiglio di Istituto (Cd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23516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l CdI definisce le risorse necessarie per la realizzazione dei progetti di alternanza previsti nel POF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23516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)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1" lang="it-IT" sz="2400" spc="-1" strike="noStrike">
                <a:solidFill>
                  <a:srgbClr val="7545ff"/>
                </a:solidFill>
                <a:latin typeface="Verdana"/>
                <a:ea typeface="Times New Roman"/>
              </a:rPr>
              <a:t>Gruppo tecnico di progetto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23516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uò essere costituito un gruppo tecnico costituito da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2351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ocenti discipline coinvolte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2351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utor formativo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2351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utor aziendale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2351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sperti del mondo della produzione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235160"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ltri soggetti.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10920" y="277560"/>
            <a:ext cx="6932520" cy="124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7545ff"/>
                </a:solidFill>
                <a:latin typeface="Comic Sans MS"/>
              </a:rPr>
              <a:t>Le fasi di vita del percorso formativo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0" name="Group 3"/>
          <p:cNvGrpSpPr/>
          <p:nvPr/>
        </p:nvGrpSpPr>
        <p:grpSpPr>
          <a:xfrm>
            <a:off x="4211640" y="2362320"/>
            <a:ext cx="4514400" cy="4495320"/>
            <a:chOff x="4211640" y="2362320"/>
            <a:chExt cx="4514400" cy="4495320"/>
          </a:xfrm>
        </p:grpSpPr>
        <p:sp>
          <p:nvSpPr>
            <p:cNvPr id="331" name="Puzzle3"/>
            <p:cNvSpPr/>
            <p:nvPr/>
          </p:nvSpPr>
          <p:spPr>
            <a:xfrm rot="5400000">
              <a:off x="6643080" y="4235400"/>
              <a:ext cx="1766880" cy="2399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Puzzle2"/>
            <p:cNvSpPr/>
            <p:nvPr/>
          </p:nvSpPr>
          <p:spPr>
            <a:xfrm rot="5400000">
              <a:off x="4475520" y="4354920"/>
              <a:ext cx="2820240" cy="218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Puzzle4"/>
            <p:cNvSpPr/>
            <p:nvPr/>
          </p:nvSpPr>
          <p:spPr>
            <a:xfrm rot="5400000">
              <a:off x="4758120" y="2399040"/>
              <a:ext cx="1700280" cy="2793600"/>
            </a:xfrm>
            <a:prstGeom prst="pie">
              <a:avLst/>
            </a:prstGeom>
            <a:solidFill>
              <a:srgbClr val="33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Puzzle1"/>
            <p:cNvSpPr/>
            <p:nvPr/>
          </p:nvSpPr>
          <p:spPr>
            <a:xfrm rot="5400000">
              <a:off x="5739840" y="2957400"/>
              <a:ext cx="2855520" cy="1665360"/>
            </a:xfrm>
            <a:prstGeom prst="pi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35" name="Group 8"/>
          <p:cNvGrpSpPr/>
          <p:nvPr/>
        </p:nvGrpSpPr>
        <p:grpSpPr>
          <a:xfrm>
            <a:off x="1067040" y="2362320"/>
            <a:ext cx="4514760" cy="4495320"/>
            <a:chOff x="1067040" y="2362320"/>
            <a:chExt cx="4514760" cy="4495320"/>
          </a:xfrm>
        </p:grpSpPr>
        <p:sp>
          <p:nvSpPr>
            <p:cNvPr id="336" name="Puzzle3"/>
            <p:cNvSpPr/>
            <p:nvPr/>
          </p:nvSpPr>
          <p:spPr>
            <a:xfrm rot="5400000">
              <a:off x="3498480" y="4235040"/>
              <a:ext cx="1766880" cy="2399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Puzzle2"/>
            <p:cNvSpPr/>
            <p:nvPr/>
          </p:nvSpPr>
          <p:spPr>
            <a:xfrm rot="5400000">
              <a:off x="1330920" y="4354920"/>
              <a:ext cx="2820240" cy="218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Puzzle4"/>
            <p:cNvSpPr/>
            <p:nvPr/>
          </p:nvSpPr>
          <p:spPr>
            <a:xfrm rot="5400000">
              <a:off x="1613880" y="2398680"/>
              <a:ext cx="1700280" cy="2793960"/>
            </a:xfrm>
            <a:prstGeom prst="pie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Puzzle1"/>
            <p:cNvSpPr/>
            <p:nvPr/>
          </p:nvSpPr>
          <p:spPr>
            <a:xfrm rot="5400000">
              <a:off x="2595240" y="2957400"/>
              <a:ext cx="2855520" cy="1665360"/>
            </a:xfrm>
            <a:prstGeom prst="pie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0" name="WordArt 13"/>
          <p:cNvSpPr txBox="1"/>
          <p:nvPr/>
        </p:nvSpPr>
        <p:spPr>
          <a:xfrm>
            <a:off x="826920" y="1916280"/>
            <a:ext cx="18766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x an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341" name="WordArt 14"/>
          <p:cNvSpPr txBox="1"/>
          <p:nvPr/>
        </p:nvSpPr>
        <p:spPr>
          <a:xfrm>
            <a:off x="3635280" y="2133720"/>
            <a:ext cx="22291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n itin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42" name="WordArt 15"/>
          <p:cNvSpPr txBox="1"/>
          <p:nvPr/>
        </p:nvSpPr>
        <p:spPr>
          <a:xfrm rot="3393000">
            <a:off x="6824520" y="2039760"/>
            <a:ext cx="18478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ex 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457200" y="304920"/>
          <a:ext cx="7543800" cy="6248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754380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468360" y="189000"/>
          <a:ext cx="7819920" cy="5865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9000"/>
                    <a:ext cx="7819920" cy="58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457200" y="343080"/>
          <a:ext cx="8229600" cy="6172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43080"/>
                    <a:ext cx="8229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395280" y="907920"/>
            <a:ext cx="8066160" cy="40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18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272880">
              <a:lnSpc>
                <a:spcPct val="100000"/>
              </a:lnSpc>
              <a:spcAft>
                <a:spcPts val="675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attuare modalità di apprendimento flessibili ed equivalenti - sotto il profilo culturale ed educativo - agli esiti dei percorsi del secondo ciclo, collegando sistematicamente la formazione in aula con l'esperienza pratica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272880">
              <a:lnSpc>
                <a:spcPct val="100000"/>
              </a:lnSpc>
              <a:spcAft>
                <a:spcPts val="675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 </a:t>
            </a:r>
            <a:r>
              <a:rPr b="1" lang="it-IT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arricchire la formazione acquisita nei percorsi scolastici e formativi con l'acquisizione di competenze spendibili anche nel mercato del lavoro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272880">
              <a:lnSpc>
                <a:spcPct val="100000"/>
              </a:lnSpc>
              <a:spcAft>
                <a:spcPts val="675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 </a:t>
            </a:r>
            <a:r>
              <a:rPr b="1" lang="it-IT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favorire l'orientamento dei giovani per valorizzarne le vocazioni personali, gli interessi e gli stili di apprendimento individuali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272880">
              <a:lnSpc>
                <a:spcPct val="100000"/>
              </a:lnSpc>
              <a:spcAft>
                <a:spcPts val="675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 </a:t>
            </a:r>
            <a:r>
              <a:rPr b="1" lang="it-IT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realizzare un organico collegamento delle istituzioni scolastiche con il mondo del lavoro e la società civile, che consenta la loro partecipazione attiva nei processi formativi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539640" y="476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7545ff"/>
                </a:solidFill>
                <a:latin typeface="Verdana"/>
              </a:rPr>
              <a:t>FINALITÀ DELL’ALTERNANZ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4643280" y="5950080"/>
            <a:ext cx="29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1116000" y="5661000"/>
            <a:ext cx="70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714240" indent="-176040">
              <a:lnSpc>
                <a:spcPct val="100000"/>
              </a:lnSpc>
              <a:spcAft>
                <a:spcPts val="675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 </a:t>
            </a:r>
            <a:r>
              <a:rPr b="1" lang="it-IT" sz="1800" spc="-1" strike="noStrike">
                <a:solidFill>
                  <a:srgbClr val="000066"/>
                </a:solidFill>
                <a:latin typeface="Verdana"/>
                <a:ea typeface="ＭＳ Ｐゴシック"/>
              </a:rPr>
              <a:t>correlare l'offerta formativa allo sviluppo culturale, sociale ed economico del territorio.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762120" y="566640"/>
          <a:ext cx="7848360" cy="5702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66640"/>
                    <a:ext cx="78483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487440" y="324000"/>
          <a:ext cx="7788240" cy="5905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440" y="324000"/>
                    <a:ext cx="778824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990720" y="380880"/>
          <a:ext cx="7162560" cy="5410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0880"/>
                    <a:ext cx="716256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"/>
          <p:cNvGraphicFramePr/>
          <p:nvPr/>
        </p:nvGraphicFramePr>
        <p:xfrm>
          <a:off x="833400" y="1031760"/>
          <a:ext cx="6713640" cy="4411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1031760"/>
                    <a:ext cx="671364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533520" y="395280"/>
          <a:ext cx="7238880" cy="53960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95280"/>
                    <a:ext cx="7238880" cy="53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990720" y="838080"/>
          <a:ext cx="7086600" cy="5410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708660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9933ff"/>
                </a:solidFill>
                <a:latin typeface="Arial"/>
              </a:rPr>
              <a:t>La valutazione e la certificazione: </a:t>
            </a:r>
            <a:br>
              <a:rPr sz="3800"/>
            </a:br>
            <a:r>
              <a:rPr b="0" lang="it-IT" sz="3800" spc="-1" strike="noStrike">
                <a:solidFill>
                  <a:srgbClr val="9933ff"/>
                </a:solidFill>
                <a:latin typeface="Arial"/>
              </a:rPr>
              <a:t>i soggetti coinvolti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2133720"/>
          <a:ext cx="8229600" cy="4222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da0000"/>
                          </a:solidFill>
                          <a:latin typeface="Arial"/>
                        </a:rPr>
                        <a:t>LIVELLO REGION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da0000"/>
                          </a:solidFill>
                          <a:latin typeface="Arial"/>
                        </a:rPr>
                        <a:t>TERRITORI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da0000"/>
                          </a:solidFill>
                          <a:latin typeface="Arial"/>
                        </a:rPr>
                        <a:t>PROCESS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da0000"/>
                          </a:solidFill>
                          <a:latin typeface="Arial"/>
                        </a:rPr>
                        <a:t>PRODOT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gione, EE.LL., USR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mere commercio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soci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mprenditoriali, Par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ciali, Enti di ricerca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iversit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toraggio de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perienze di alterna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fronto de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perienze territori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utazione di siste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izione modelli 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rtific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nca dati de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perienze territori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pporti nazionali 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toraggio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ut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ello di certifica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552600" y="0"/>
          <a:ext cx="8037360" cy="6324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0"/>
                    <a:ext cx="803736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237960" y="301680"/>
          <a:ext cx="7959960" cy="5973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301680"/>
                    <a:ext cx="7959960" cy="59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533520" y="533520"/>
            <a:ext cx="7772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Verdana"/>
              </a:rPr>
              <a:t>MONITORAGGIO, VERIFICA E  VALUT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533520" y="990720"/>
          <a:ext cx="7467480" cy="5394240"/>
        </p:xfrm>
        <a:graphic>
          <a:graphicData uri="http://schemas.openxmlformats.org/drawingml/2006/table">
            <a:tbl>
              <a:tblPr/>
              <a:tblGrid>
                <a:gridCol w="3733560"/>
                <a:gridCol w="3733920"/>
              </a:tblGrid>
              <a:tr h="57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545ff"/>
                          </a:solidFill>
                          <a:latin typeface="Verdana"/>
                        </a:rPr>
                        <a:t>VERIFICA EFFICA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levazione coerenza tra obiettivi e risulta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ollo/confronto tra risultati attesi e quelli ottenu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viduazione dei livelli di accettabilità dei risultati (standar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545ff"/>
                          </a:solidFill>
                          <a:latin typeface="Verdana"/>
                        </a:rPr>
                        <a:t>INDICATO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. Allievi che concludono il percorso come programmato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. Presenti alle riunioni di progettazione/numero dei componenti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spetto delle scansioni temporali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idità delle misure di accompagna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mento frequenza scolas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glioramento esiti formati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304920" y="304920"/>
            <a:ext cx="82296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Nell’alternanza le</a:t>
            </a:r>
            <a:r>
              <a:rPr b="1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  esperienze di lavor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- sono parte integrante dei percorsi 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formativi personalizzati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- sono progettate e definite con criteri di 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gradualità e progressività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9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- sono programmate sulla base delle 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possibilità concrete di accoglienza degli 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alunni da parte di imprese e di altre struttur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80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- possono costituire crediti per il  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conseguimento di titoli e di qualifiche  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richiesti per l’accesso al mondo del lavoro 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Times New Roman"/>
              </a:rPr>
              <a:t>(albi professionali, qualifiche regionali, ecc.).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457200" y="380880"/>
            <a:ext cx="73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685800" y="609480"/>
          <a:ext cx="7543800" cy="529920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529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03dff"/>
                          </a:solidFill>
                          <a:latin typeface="Verdana"/>
                          <a:ea typeface="Arial Unicode MS"/>
                        </a:rPr>
                        <a:t>VERIFICA DI EFFICIE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03dff"/>
                          </a:solidFill>
                          <a:latin typeface="Verdana"/>
                          <a:ea typeface="Arial Unicode MS"/>
                        </a:rPr>
                        <a:t>INDICATORI DI EFFICIE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Quantità e qualità del gradimento dell’attività svolta (attraverso questionari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Quantità e qualità delle risorse impegnate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fficoltà incontrate in itinere (attraverso l’esame sistematico, fase per fase, dei punti di forza e dei punti di debolezza del progetto)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457200" y="609480"/>
          <a:ext cx="7772400" cy="5791320"/>
        </p:xfrm>
        <a:graphic>
          <a:graphicData uri="http://schemas.openxmlformats.org/drawingml/2006/table">
            <a:tbl>
              <a:tblPr/>
              <a:tblGrid>
                <a:gridCol w="3581280"/>
                <a:gridCol w="4191120"/>
              </a:tblGrid>
              <a:tr h="579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03dff"/>
                          </a:solidFill>
                          <a:latin typeface="Verdana"/>
                          <a:ea typeface="Arial Unicode MS"/>
                        </a:rPr>
                        <a:t>VERIFI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03dff"/>
                          </a:solidFill>
                          <a:latin typeface="Verdana"/>
                          <a:ea typeface="Arial Unicode MS"/>
                        </a:rPr>
                        <a:t>IMPA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Analisi della ricaduta del progetto sia rispetto al miglioramento del servizio, sia per l’innalzamento del successo form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03dff"/>
                          </a:solidFill>
                          <a:latin typeface="Verdana"/>
                          <a:ea typeface="Arial Unicode MS"/>
                        </a:rPr>
                        <a:t>INDICATORI DI IMPAT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03dff"/>
                          </a:solidFill>
                          <a:latin typeface="Verdana"/>
                          <a:ea typeface="Arial Unicode MS"/>
                        </a:rPr>
                        <a:t>RISPETTO AGLI ALLI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Riduzione delle situazioni di difficoltà (osservazione diretta del tutor e dei docenti della classe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miglioramento degli esiti scolastici (analisi della differenza tra valutazione in ingresso e in uscita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sviluppo della capacità di autovalutarsi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umento delle richieste di percorsi in alternanza.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457200" y="990720"/>
          <a:ext cx="7772400" cy="4343400"/>
        </p:xfrm>
        <a:graphic>
          <a:graphicData uri="http://schemas.openxmlformats.org/drawingml/2006/table">
            <a:tbl>
              <a:tblPr/>
              <a:tblGrid>
                <a:gridCol w="3581280"/>
                <a:gridCol w="4191120"/>
              </a:tblGrid>
              <a:tr h="43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03dff"/>
                          </a:solidFill>
                          <a:latin typeface="Verdana"/>
                          <a:ea typeface="Arial Unicode MS"/>
                        </a:rPr>
                        <a:t>VERIFI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03dff"/>
                          </a:solidFill>
                          <a:latin typeface="Verdana"/>
                          <a:ea typeface="Arial Unicode MS"/>
                        </a:rPr>
                        <a:t>IMPA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Analisi della ricaduta del progetto sia rispetto al miglioramento del servizio, sia per l’innalzamento del successo form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03dff"/>
                          </a:solidFill>
                          <a:latin typeface="Verdana"/>
                          <a:ea typeface="Arial Unicode MS"/>
                        </a:rPr>
                        <a:t>INDICATORI DI IMPAT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03dff"/>
                          </a:solidFill>
                          <a:latin typeface="Verdana"/>
                          <a:ea typeface="Arial Unicode MS"/>
                        </a:rPr>
                        <a:t>RISPETTO AI DOC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Incremento della partecipazione dei docenti ai progetti integrati scuola-lavoro (stage, tirocini, impresa formativa simulata, alternanz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incremento della certificazione delle competenz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533520" y="685800"/>
          <a:ext cx="7772400" cy="4968720"/>
        </p:xfrm>
        <a:graphic>
          <a:graphicData uri="http://schemas.openxmlformats.org/drawingml/2006/table">
            <a:tbl>
              <a:tblPr/>
              <a:tblGrid>
                <a:gridCol w="3581280"/>
                <a:gridCol w="4191120"/>
              </a:tblGrid>
              <a:tr h="50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03dff"/>
                          </a:solidFill>
                          <a:latin typeface="Verdana"/>
                          <a:ea typeface="Arial Unicode MS"/>
                        </a:rPr>
                        <a:t>VERIFI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03dff"/>
                          </a:solidFill>
                          <a:latin typeface="Verdana"/>
                          <a:ea typeface="Arial Unicode MS"/>
                        </a:rPr>
                        <a:t>IMPA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Analisi della ricaduta del progetto sia rispetto al miglioramento del servizio, sia per l’innalzamento del successo form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03dff"/>
                          </a:solidFill>
                          <a:latin typeface="Verdana"/>
                          <a:ea typeface="Arial Unicode MS"/>
                        </a:rPr>
                        <a:t>INDICATORI DI IMPAT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03dff"/>
                          </a:solidFill>
                          <a:latin typeface="Verdana"/>
                          <a:ea typeface="Arial Unicode MS"/>
                        </a:rPr>
                        <a:t>RISPETTO AI GENITO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Incremento della partecipazione dei Genitori alle attività scuola-famiglia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Aumento delle proposte/pareri dei genitori rispetto alla progettazione dell’offerta formativa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Aumento della partecipazione dei genitori alle attività di monitoraggio e di autovalutazione di istitu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685800" y="1252440"/>
          <a:ext cx="7772400" cy="4354560"/>
        </p:xfrm>
        <a:graphic>
          <a:graphicData uri="http://schemas.openxmlformats.org/drawingml/2006/table">
            <a:tbl>
              <a:tblPr/>
              <a:tblGrid>
                <a:gridCol w="3581280"/>
                <a:gridCol w="4191120"/>
              </a:tblGrid>
              <a:tr h="43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03dff"/>
                          </a:solidFill>
                          <a:latin typeface="Verdana"/>
                          <a:ea typeface="Arial Unicode MS"/>
                        </a:rPr>
                        <a:t>VERIFICA DEL GRADIMENTO DELLE AZIENDE E DEGLI ALLI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Verifica del gradimento delle aziende e degli alli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703dff"/>
                          </a:solidFill>
                          <a:latin typeface="Verdana"/>
                          <a:ea typeface="Arial Unicode MS"/>
                        </a:rPr>
                        <a:t>INDICATORI DI IMPAT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Aumento delle offerte di collaborazione da parte delle azien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Aumento della disponibilità delle aziende a ospitare stage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Aumento delle richieste di percorsi in alternanza da parte degli alliev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6960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Comic Sans MS"/>
              </a:rPr>
              <a:t>Decreto legislativo 15 APRILE 2005, n. 77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9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90"/>
                </a:solidFill>
                <a:latin typeface="Comic Sans MS"/>
              </a:rPr>
              <a:t> </a:t>
            </a:r>
            <a:r>
              <a:rPr b="0" lang="it-IT" sz="2200" spc="-1" strike="noStrike">
                <a:solidFill>
                  <a:srgbClr val="000090"/>
                </a:solidFill>
                <a:latin typeface="Comic Sans MS"/>
              </a:rPr>
              <a:t>I percorsi in Alternanza </a:t>
            </a:r>
            <a:r>
              <a:rPr b="1" lang="it-IT" sz="2200" spc="-1" strike="noStrike">
                <a:solidFill>
                  <a:srgbClr val="000090"/>
                </a:solidFill>
                <a:latin typeface="Comic Sans MS"/>
              </a:rPr>
              <a:t>sono progettati, attuati, verificati e valutati</a:t>
            </a:r>
            <a:r>
              <a:rPr b="0" lang="it-IT" sz="2200" spc="-1" strike="noStrike">
                <a:solidFill>
                  <a:srgbClr val="000090"/>
                </a:solidFill>
                <a:latin typeface="Comic Sans MS"/>
              </a:rPr>
              <a:t> sotto la responsabilità dell'istituzione scolastica o formativa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9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90"/>
                </a:solidFill>
                <a:latin typeface="Comic Sans MS"/>
              </a:rPr>
              <a:t>I periodi di apprendimento </a:t>
            </a:r>
            <a:r>
              <a:rPr b="1" lang="it-IT" sz="2200" spc="-1" strike="noStrike">
                <a:solidFill>
                  <a:srgbClr val="000090"/>
                </a:solidFill>
                <a:latin typeface="Comic Sans MS"/>
              </a:rPr>
              <a:t>in contesti di lavoro fanno parte integrante dei percorsi formativi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9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90"/>
                </a:solidFill>
                <a:latin typeface="Comic Sans MS"/>
              </a:rPr>
              <a:t>La scuola sottoscrive</a:t>
            </a:r>
            <a:r>
              <a:rPr b="1" lang="it-IT" sz="2200" spc="-1" strike="noStrike">
                <a:solidFill>
                  <a:srgbClr val="000090"/>
                </a:solidFill>
                <a:latin typeface="Comic Sans MS"/>
              </a:rPr>
              <a:t> convenzioni con</a:t>
            </a:r>
            <a:r>
              <a:rPr b="0" lang="it-IT" sz="2200" spc="-1" strike="noStrike">
                <a:solidFill>
                  <a:srgbClr val="000090"/>
                </a:solidFill>
                <a:latin typeface="Comic Sans MS"/>
              </a:rPr>
              <a:t> … imprese, … associazioni di rappresentanza, … camere di commercio,  industria, artigianato  e agricoltura, … enti … ivi inclusi quelli  del terzo settor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9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90"/>
                </a:solidFill>
                <a:latin typeface="Comic Sans MS"/>
              </a:rPr>
              <a:t>Funzione tutoriale</a:t>
            </a:r>
            <a:r>
              <a:rPr b="0" lang="it-IT" sz="2200" spc="-1" strike="noStrike">
                <a:solidFill>
                  <a:srgbClr val="000090"/>
                </a:solidFill>
                <a:latin typeface="Comic Sans MS"/>
              </a:rPr>
              <a:t>: docente interno, tutor formativo intern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0"/>
                </a:solidFill>
                <a:latin typeface="Comic Sans MS"/>
              </a:rPr>
              <a:t>Le istituzioni scolastiche o formative rilasciano, a conclusione dei percorsi in alternanza,… una </a:t>
            </a:r>
            <a:r>
              <a:rPr b="1" lang="it-IT" sz="2000" spc="-1" strike="noStrike">
                <a:solidFill>
                  <a:srgbClr val="000090"/>
                </a:solidFill>
                <a:latin typeface="Comic Sans MS"/>
              </a:rPr>
              <a:t>certificazione relativa alle competenze</a:t>
            </a:r>
            <a:r>
              <a:rPr b="0" lang="it-IT" sz="2000" spc="-1" strike="noStrike">
                <a:solidFill>
                  <a:srgbClr val="000090"/>
                </a:solidFill>
                <a:latin typeface="Comic Sans MS"/>
              </a:rPr>
              <a:t> acquisite nei periodi di apprendimento mediante esperienze di lavor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762120" y="457200"/>
            <a:ext cx="76960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f0000"/>
                </a:solidFill>
                <a:latin typeface="Verdana"/>
                <a:ea typeface="Times New Roman"/>
              </a:rPr>
              <a:t>IL SISTEMA TUTORIAL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f0000"/>
                </a:solidFill>
                <a:latin typeface="Verdana"/>
                <a:ea typeface="Times New Roman"/>
              </a:rPr>
              <a:t>E LE FIGURE DI ACCOMPAGNAMENTO</a:t>
            </a:r>
            <a:r>
              <a:rPr b="1" lang="it-IT" sz="1800" spc="-1" strike="noStrike">
                <a:solidFill>
                  <a:srgbClr val="bf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04920" y="1447920"/>
          <a:ext cx="8556480" cy="5105160"/>
        </p:xfrm>
        <a:graphic>
          <a:graphicData uri="http://schemas.openxmlformats.org/drawingml/2006/table">
            <a:tbl>
              <a:tblPr/>
              <a:tblGrid>
                <a:gridCol w="4898880"/>
                <a:gridCol w="3657600"/>
              </a:tblGrid>
              <a:tr h="24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90"/>
                          </a:solidFill>
                          <a:latin typeface="Verdana"/>
                          <a:ea typeface="Times New Roman"/>
                        </a:rPr>
                        <a:t>Docente tutor inte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9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it-IT" sz="2000" spc="-1" strike="noStrike">
                          <a:solidFill>
                            <a:srgbClr val="000090"/>
                          </a:solidFill>
                          <a:latin typeface="Verdana"/>
                          <a:ea typeface="Times New Roman"/>
                        </a:rPr>
                        <a:t>(Istituzione scolastica o formativ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90"/>
                          </a:solidFill>
                          <a:latin typeface="Verdana"/>
                        </a:rPr>
                        <a:t>FUNZIO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90"/>
                          </a:solidFill>
                          <a:latin typeface="Verdana"/>
                        </a:rPr>
                        <a:t>Assistere e guidare gli studenti e verificare il corretto svolgimento  del percorso in alternanz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90"/>
                          </a:solidFill>
                          <a:latin typeface="Verdana"/>
                          <a:ea typeface="Times New Roman"/>
                        </a:rPr>
                        <a:t>Tutor formativo esterno</a:t>
                      </a:r>
                      <a:r>
                        <a:rPr b="0" lang="it-IT" sz="2000" spc="-1" strike="noStrike">
                          <a:solidFill>
                            <a:srgbClr val="000090"/>
                          </a:solidFill>
                          <a:latin typeface="Verdana"/>
                          <a:ea typeface="Times New Roman"/>
                        </a:rPr>
                        <a:t> (aziend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90"/>
                          </a:solidFill>
                          <a:latin typeface="Verdana"/>
                        </a:rPr>
                        <a:t>Favorire l’inserimento dello studente nel contesto operativo, assisterlo nel percorso di formazione sul lavoro, controllare e verificare le attività, valutare l’efficacia dei processi formativ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1371600" y="2133720"/>
            <a:ext cx="6934320" cy="39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0"/>
                </a:solidFill>
                <a:latin typeface="Verdana"/>
              </a:rPr>
              <a:t>L’</a:t>
            </a:r>
            <a:r>
              <a:rPr b="1" lang="it-IT" sz="2400" spc="-1" strike="noStrike">
                <a:solidFill>
                  <a:srgbClr val="000090"/>
                </a:solidFill>
                <a:latin typeface="Verdana"/>
              </a:rPr>
              <a:t>istituzione scolastica o formativa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</a:rPr>
              <a:t>, tenuto conto delle indicazioni fornite dal tutor aziendale, </a:t>
            </a:r>
            <a:r>
              <a:rPr b="1" lang="it-IT" sz="2400" spc="-1" strike="noStrike">
                <a:solidFill>
                  <a:srgbClr val="000090"/>
                </a:solidFill>
                <a:latin typeface="Verdana"/>
              </a:rPr>
              <a:t>valuta gli apprendimenti degli studenti in alternanza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</a:rPr>
              <a:t> e certifica le competenze da essi acquisite, che costituiscono credit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0"/>
                </a:solidFill>
                <a:latin typeface="Verdana"/>
              </a:rPr>
              <a:t>  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</a:rPr>
              <a:t>per la prosecuzione degli studi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0"/>
                </a:solidFill>
                <a:latin typeface="Verdana"/>
              </a:rPr>
              <a:t>  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</a:rPr>
              <a:t>per eventuali passaggi tra i sistemi per 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</a:rPr>
              <a:t>facilitare l’ingresso nel mondo del 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90"/>
                </a:solidFill>
                <a:latin typeface="Verdana"/>
              </a:rPr>
              <a:t>lavoro e delle profession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CasellaDiTesto 2"/>
          <p:cNvSpPr/>
          <p:nvPr/>
        </p:nvSpPr>
        <p:spPr>
          <a:xfrm>
            <a:off x="1143000" y="4572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a50021"/>
                </a:solidFill>
                <a:latin typeface="Verdana"/>
              </a:rPr>
              <a:t>VALUTAZIONE, CERTIFICAZIONE E RICONOSCIMENTO DEI CREDI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CasellaDiTesto 1"/>
          <p:cNvSpPr/>
          <p:nvPr/>
        </p:nvSpPr>
        <p:spPr>
          <a:xfrm>
            <a:off x="838080" y="213372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da0000"/>
                </a:solidFill>
                <a:latin typeface="Verdana"/>
              </a:rPr>
              <a:t>L’ALTERNANZA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da0000"/>
                </a:solidFill>
                <a:latin typeface="Verdana"/>
              </a:rPr>
              <a:t>SCUOLA LAVOR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da0000"/>
                </a:solidFill>
                <a:latin typeface="Verdana"/>
              </a:rPr>
              <a:t>NEI NUOVI ORDINAMENT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3" descr="j0400423[1]"/>
          <p:cNvPicPr/>
          <p:nvPr/>
        </p:nvPicPr>
        <p:blipFill>
          <a:blip r:embed="rId1"/>
          <a:stretch/>
        </p:blipFill>
        <p:spPr>
          <a:xfrm>
            <a:off x="468360" y="404640"/>
            <a:ext cx="2663640" cy="2341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j0431743[1]"/>
          <p:cNvPicPr/>
          <p:nvPr/>
        </p:nvPicPr>
        <p:blipFill>
          <a:blip r:embed="rId2"/>
          <a:stretch/>
        </p:blipFill>
        <p:spPr>
          <a:xfrm>
            <a:off x="4859280" y="4076640"/>
            <a:ext cx="331164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egnaposto numero diapositiva 1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53FD064A-6616-47D3-BC84-3DE8610D413F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D60C07CF-480B-450E-87E1-58F5E81C749C}" type="slidenum">
              <a:rPr b="0" lang="en-GB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295200" y="487440"/>
            <a:ext cx="8553600" cy="6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0" y="189000"/>
            <a:ext cx="802800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18252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da0000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da0000"/>
                </a:solidFill>
                <a:latin typeface="Verdana"/>
              </a:rPr>
              <a:t>SECONDO ciclo del sistema educativo di istruzione e formazione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08200" y="1792440"/>
            <a:ext cx="693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539640" y="692280"/>
            <a:ext cx="738504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Tutti gli studenti, a conclusione del primo ciclo di istruzione, esercitano il proprio diritto-dovere all’istruzione e alla formazione fino al conseguimento di un titolo di studio o di almeno una qualifica triennale entro il 18° anno di età nel secondo ciclo del sistema educativo di istruzione e formazione </a:t>
            </a:r>
            <a:r>
              <a:rPr b="0" i="1" lang="en-GB" sz="1400" spc="-1" strike="noStrike">
                <a:solidFill>
                  <a:srgbClr val="00007d"/>
                </a:solidFill>
                <a:latin typeface="Verdana"/>
              </a:rPr>
              <a:t>(D.Lgs. n. 226/05, D.Lgs. n. 76/05 e Legge n. 40/07)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826920" y="4778280"/>
            <a:ext cx="360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2627280" y="2781360"/>
            <a:ext cx="3600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1905120" y="5105520"/>
            <a:ext cx="6972120" cy="1773720"/>
          </a:xfrm>
          <a:prstGeom prst="rect">
            <a:avLst/>
          </a:prstGeom>
          <a:solidFill>
            <a:srgbClr val="dddddd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Gli elementi unificanti del secondo ciclo</a:t>
            </a:r>
            <a:r>
              <a:rPr b="1" lang="en-GB" sz="18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262699"/>
                </a:solidFill>
                <a:latin typeface="Verdana"/>
              </a:rPr>
              <a:t>Saperi e competenze relative al nuovo</a:t>
            </a:r>
            <a:r>
              <a:rPr b="0" lang="en-GB" sz="1400" spc="-1" strike="noStrike">
                <a:solidFill>
                  <a:srgbClr val="262699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262699"/>
                </a:solidFill>
                <a:latin typeface="Verdana"/>
              </a:rPr>
              <a:t>Obbligo di istruzione</a:t>
            </a:r>
            <a:r>
              <a:rPr b="0" lang="en-GB" sz="1400" spc="-1" strike="noStrike">
                <a:solidFill>
                  <a:srgbClr val="262699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262699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262699"/>
                </a:solidFill>
                <a:latin typeface="Verdana"/>
              </a:rPr>
              <a:t>(DM n. 139/07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62699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262699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262699"/>
                </a:solidFill>
                <a:latin typeface="Verdana"/>
              </a:rPr>
              <a:t>Profilo educativo, culturale e professionale dello student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62699"/>
                </a:solidFill>
                <a:latin typeface="Verdana"/>
              </a:rPr>
              <a:t>   </a:t>
            </a:r>
            <a:r>
              <a:rPr b="1" lang="en-GB" sz="1400" spc="-1" strike="noStrike">
                <a:solidFill>
                  <a:srgbClr val="262699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262699"/>
                </a:solidFill>
                <a:latin typeface="Verdana"/>
              </a:rPr>
              <a:t>a conclusione del secondo ciclo del sistema educativo di  </a:t>
            </a:r>
            <a:r>
              <a:rPr b="1" lang="en-GB" sz="1400" spc="-1" strike="noStrike">
                <a:solidFill>
                  <a:srgbClr val="262699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262699"/>
                </a:solidFill>
                <a:latin typeface="Verdana"/>
              </a:rPr>
              <a:t>istruzione e di formazione </a:t>
            </a:r>
            <a:r>
              <a:rPr b="0" lang="en-GB" sz="1400" spc="-1" strike="noStrike">
                <a:solidFill>
                  <a:srgbClr val="262699"/>
                </a:solidFill>
                <a:latin typeface="Verdana"/>
              </a:rPr>
              <a:t>(D.Lgs. n. 226/05, Allegato 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7000"/>
              </a:lnSpc>
              <a:spcBef>
                <a:spcPts val="876"/>
              </a:spcBef>
              <a:spcAft>
                <a:spcPts val="264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2" name="Group 9"/>
          <p:cNvGrpSpPr/>
          <p:nvPr/>
        </p:nvGrpSpPr>
        <p:grpSpPr>
          <a:xfrm>
            <a:off x="457200" y="2133720"/>
            <a:ext cx="8137080" cy="2895120"/>
            <a:chOff x="457200" y="2133720"/>
            <a:chExt cx="8137080" cy="2895120"/>
          </a:xfrm>
        </p:grpSpPr>
        <p:sp>
          <p:nvSpPr>
            <p:cNvPr id="273" name="Rectangle 10"/>
            <p:cNvSpPr/>
            <p:nvPr/>
          </p:nvSpPr>
          <p:spPr>
            <a:xfrm>
              <a:off x="457200" y="2133720"/>
              <a:ext cx="4746960" cy="9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Verdana"/>
                  <a:ea typeface="Times New Roman"/>
                </a:rPr>
                <a:t>SISTEMA  DI  ISTRUZIONE SECONDARIA SUPERIOR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11"/>
            <p:cNvSpPr/>
            <p:nvPr/>
          </p:nvSpPr>
          <p:spPr>
            <a:xfrm>
              <a:off x="5204160" y="2133720"/>
              <a:ext cx="3388680" cy="9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Verdana"/>
                  <a:ea typeface="Times New Roman"/>
                </a:rPr>
                <a:t>SISTEMA  DI  ISTRUZIONE E FORMAZIONE PROFESSIONAL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Verdana"/>
                  <a:ea typeface="Times New Roman"/>
                </a:rPr>
                <a:t>(Capo III , art. 27, c. 2 D.Lgs. 226/05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Rectangle 12"/>
            <p:cNvSpPr/>
            <p:nvPr/>
          </p:nvSpPr>
          <p:spPr>
            <a:xfrm>
              <a:off x="457200" y="3045960"/>
              <a:ext cx="13186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80"/>
                  </a:solidFill>
                  <a:latin typeface="Verdana"/>
                  <a:ea typeface="Times New Roman"/>
                </a:rPr>
                <a:t>6 LICEI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40e42"/>
                  </a:solidFill>
                  <a:latin typeface="Verdana"/>
                  <a:ea typeface="Times New Roman"/>
                </a:rPr>
                <a:t>Diplom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40e42"/>
                  </a:solidFill>
                  <a:latin typeface="Verdana"/>
                  <a:ea typeface="Times New Roman"/>
                </a:rPr>
                <a:t>di istruzion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40e42"/>
                  </a:solidFill>
                  <a:latin typeface="Verdana"/>
                  <a:ea typeface="Times New Roman"/>
                </a:rPr>
                <a:t>liceal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Rectangle 13"/>
            <p:cNvSpPr/>
            <p:nvPr/>
          </p:nvSpPr>
          <p:spPr>
            <a:xfrm>
              <a:off x="1775880" y="3045960"/>
              <a:ext cx="157140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80"/>
                  </a:solidFill>
                  <a:latin typeface="Verdana"/>
                  <a:ea typeface="Times New Roman"/>
                </a:rPr>
                <a:t>11 ISTITUTI TECNICI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40e42"/>
                  </a:solidFill>
                  <a:latin typeface="Verdana"/>
                  <a:ea typeface="Times New Roman"/>
                </a:rPr>
                <a:t>Diplom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40e42"/>
                  </a:solidFill>
                  <a:latin typeface="Verdana"/>
                  <a:ea typeface="Times New Roman"/>
                </a:rPr>
                <a:t>di istruzion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40e42"/>
                  </a:solidFill>
                  <a:latin typeface="Verdana"/>
                  <a:ea typeface="Times New Roman"/>
                </a:rPr>
                <a:t>tecnic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Rectangle 14"/>
            <p:cNvSpPr/>
            <p:nvPr/>
          </p:nvSpPr>
          <p:spPr>
            <a:xfrm>
              <a:off x="3347280" y="3045960"/>
              <a:ext cx="18568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80"/>
                  </a:solidFill>
                  <a:latin typeface="Verdana"/>
                  <a:ea typeface="Times New Roman"/>
                </a:rPr>
                <a:t>6 ISTITUTI PROFESSIONALI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40e42"/>
                  </a:solidFill>
                  <a:latin typeface="Verdana"/>
                  <a:ea typeface="Times New Roman"/>
                </a:rPr>
                <a:t>Diplom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40e42"/>
                  </a:solidFill>
                  <a:latin typeface="Verdana"/>
                  <a:ea typeface="Times New Roman"/>
                </a:rPr>
                <a:t>di istruzion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40e42"/>
                  </a:solidFill>
                  <a:latin typeface="Verdana"/>
                  <a:ea typeface="Times New Roman"/>
                </a:rPr>
                <a:t>professional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15"/>
            <p:cNvSpPr/>
            <p:nvPr/>
          </p:nvSpPr>
          <p:spPr>
            <a:xfrm>
              <a:off x="5204160" y="3045960"/>
              <a:ext cx="157140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80"/>
                  </a:solidFill>
                  <a:latin typeface="Verdana"/>
                  <a:ea typeface="Times New Roman"/>
                </a:rPr>
                <a:t>21 PERCORSI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80"/>
                  </a:solidFill>
                  <a:latin typeface="Verdana"/>
                  <a:ea typeface="Times New Roman"/>
                </a:rPr>
                <a:t>TRIENNALI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40e42"/>
                  </a:solidFill>
                  <a:latin typeface="Verdana"/>
                  <a:ea typeface="Times New Roman"/>
                </a:rPr>
                <a:t>Qualifica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40e42"/>
                  </a:solidFill>
                  <a:latin typeface="Verdana"/>
                  <a:ea typeface="Times New Roman"/>
                </a:rPr>
                <a:t>di Operatore professional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16"/>
            <p:cNvSpPr/>
            <p:nvPr/>
          </p:nvSpPr>
          <p:spPr>
            <a:xfrm>
              <a:off x="6775560" y="3045960"/>
              <a:ext cx="181728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80"/>
                  </a:solidFill>
                  <a:latin typeface="Verdana"/>
                  <a:ea typeface="Times New Roman"/>
                </a:rPr>
                <a:t>21 PERCORSI QUADRIENNALI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40e42"/>
                  </a:solidFill>
                  <a:latin typeface="Verdana"/>
                  <a:ea typeface="Times New Roman"/>
                </a:rPr>
                <a:t>Diploma professionale di Tecnico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17"/>
            <p:cNvSpPr/>
            <p:nvPr/>
          </p:nvSpPr>
          <p:spPr>
            <a:xfrm>
              <a:off x="1775880" y="3045960"/>
              <a:ext cx="1440" cy="1981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18"/>
            <p:cNvSpPr/>
            <p:nvPr/>
          </p:nvSpPr>
          <p:spPr>
            <a:xfrm>
              <a:off x="3347280" y="3045960"/>
              <a:ext cx="1080" cy="1981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Line 19"/>
            <p:cNvSpPr/>
            <p:nvPr/>
          </p:nvSpPr>
          <p:spPr>
            <a:xfrm>
              <a:off x="5204160" y="2133720"/>
              <a:ext cx="1440" cy="2893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Line 20"/>
            <p:cNvSpPr/>
            <p:nvPr/>
          </p:nvSpPr>
          <p:spPr>
            <a:xfrm>
              <a:off x="6775560" y="3045960"/>
              <a:ext cx="1080" cy="1981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Line 21"/>
            <p:cNvSpPr/>
            <p:nvPr/>
          </p:nvSpPr>
          <p:spPr>
            <a:xfrm>
              <a:off x="457200" y="3045960"/>
              <a:ext cx="8136000" cy="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Line 22"/>
            <p:cNvSpPr/>
            <p:nvPr/>
          </p:nvSpPr>
          <p:spPr>
            <a:xfrm>
              <a:off x="457200" y="2133720"/>
              <a:ext cx="1080" cy="2893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Line 23"/>
            <p:cNvSpPr/>
            <p:nvPr/>
          </p:nvSpPr>
          <p:spPr>
            <a:xfrm>
              <a:off x="8593200" y="2133720"/>
              <a:ext cx="1080" cy="2893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Line 24"/>
            <p:cNvSpPr/>
            <p:nvPr/>
          </p:nvSpPr>
          <p:spPr>
            <a:xfrm>
              <a:off x="457200" y="2133720"/>
              <a:ext cx="8136000" cy="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" name="Line 25"/>
            <p:cNvSpPr/>
            <p:nvPr/>
          </p:nvSpPr>
          <p:spPr>
            <a:xfrm>
              <a:off x="457200" y="5027040"/>
              <a:ext cx="8136000" cy="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22:43:12Z</dcterms:created>
  <dc:creator>rossella mengucci</dc:creator>
  <dc:description/>
  <dc:language>en-US</dc:language>
  <cp:lastModifiedBy>formazione</cp:lastModifiedBy>
  <dcterms:modified xsi:type="dcterms:W3CDTF">2011-04-18T14:56:22Z</dcterms:modified>
  <cp:revision>139</cp:revision>
  <dc:subject/>
  <dc:title>Presentazione di PowerPoint</dc:title>
</cp:coreProperties>
</file>