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-360"/>
            <a:ext cx="29844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32480"/>
            <a:ext cx="29844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32480"/>
            <a:ext cx="29844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061F-81A8-4062-A190-E89C5C27CE9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E4BB-5C32-419E-9853-6390DCC537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C1B4-CC32-44F2-A7B0-F0685D97A66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4C68-6542-4162-B406-B3C8FF0AAC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AD6E-20A6-4E4E-AFA0-812F7C41D4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AAEA-4F08-4FD7-ABB8-2CE2C60CEA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0F40-B55F-422F-94AE-24D5BB1604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9473-97EC-4DCA-AC25-D8E008087C4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314D-6304-45BA-9E8F-3AB857E3FE4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5384-7C72-4687-A106-438A965B0D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B30B-AA81-4ACE-B0F8-AD50E2B4483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FA4-491C-4FA8-B004-EECF8665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EAD-BAE6-4838-9850-657246BE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233-CBF6-4F01-B2F1-6BB008F7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E33-0968-407F-9501-9CBC5041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CF0-39B0-45CB-8B3C-D5967F88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326-AFED-4513-9415-FB08D9B3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759-7474-431D-986D-CADB1A9B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D2E-B0E1-44A1-B5D0-3865EF86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253-E742-4116-BEC0-E56FCC23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FCA-CD25-4E74-BE13-DF9B800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0FF-F310-4D46-B677-D1E1A4B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456-9902-4086-AB3B-6E37BEF1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CF32-4CBF-4906-855F-2EC4945B1F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523880" y="5943600"/>
            <a:ext cx="62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rio Castol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ennaio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57200" y="2438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ALUTAZIONE DEGLI APPRENDIMENTI: PAROLE CHI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 Marconi - Piac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TARE LE COMPET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28600" y="1676520"/>
          <a:ext cx="8763120" cy="3717720"/>
        </p:xfrm>
        <a:graphic>
          <a:graphicData uri="http://schemas.openxmlformats.org/drawingml/2006/table">
            <a:tbl>
              <a:tblPr/>
              <a:tblGrid>
                <a:gridCol w="1981080"/>
                <a:gridCol w="2133720"/>
                <a:gridCol w="2133720"/>
                <a:gridCol w="2514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ZIONE PREVAL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UDIZIO PREVAL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OTIDI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ì/no/in parte + eventuali com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e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UR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M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B, C, D,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assoluto (salvo obiettivi diversificat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U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 D, B, S, NS + segnalazione aspetti processual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assoluto (salvo obiettivi diversificat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9"/>
          <p:cNvSpPr/>
          <p:nvPr/>
        </p:nvSpPr>
        <p:spPr>
          <a:xfrm>
            <a:off x="0" y="68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SPRESSIONE DEL GIUDIZIO 2° 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UALE VALUTAZIONE: PAROLE CHI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286000" y="4038480"/>
            <a:ext cx="1981080" cy="703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ACCOLTA     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724280" y="4038480"/>
            <a:ext cx="198144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RITERI DI GIUD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505320" y="5029200"/>
            <a:ext cx="2057400" cy="7038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SPRESSIONE DEL GIUD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2670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49568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1371600" y="3505320"/>
            <a:ext cx="609588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28600" y="11430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La valutazione consiste in un duplice processo di rappresentazione, il cui punto di partenza consiste in una </a:t>
            </a:r>
            <a:r>
              <a:rPr b="0" i="1" lang="it-IT" sz="2400" spc="-1" strike="noStrike" u="sng">
                <a:solidFill>
                  <a:srgbClr val="3333ff"/>
                </a:solidFill>
                <a:uFillTx/>
                <a:latin typeface="Arial"/>
              </a:rPr>
              <a:t>rappresentazione fattuale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di un fenomeno e il punto di arrivo nella </a:t>
            </a:r>
            <a:r>
              <a:rPr b="0" i="1" lang="it-IT" sz="2400" spc="-1" strike="noStrike" u="sng">
                <a:solidFill>
                  <a:srgbClr val="990099"/>
                </a:solidFill>
                <a:uFillTx/>
                <a:latin typeface="Arial"/>
              </a:rPr>
              <a:t>rappresentazione codificata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dello stesso fenome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(Barbier, 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143000" y="2286000"/>
            <a:ext cx="1523880" cy="17524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809880" y="2666880"/>
            <a:ext cx="990720" cy="243864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971800" y="5943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UOLI DEI SOGG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UALE VALUTAZIONE: PAROLE CHI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3520" y="2133720"/>
            <a:ext cx="3149640" cy="862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ILEVAZIONE D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me valut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57400" y="3505320"/>
            <a:ext cx="4572000" cy="8625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SPRESSIONE DEL GIUD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quale valutazion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334120" y="2133720"/>
            <a:ext cx="3149640" cy="862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EFINIZIONE  CRI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 base a cosa valut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04920" y="5029200"/>
            <a:ext cx="4343400" cy="862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EGOLAZIONE INSEG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quale uso intern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800600" y="5029200"/>
            <a:ext cx="4038480" cy="862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MUNICAZIONE GIUD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quale uso este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657600" y="259092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>
            <a:off x="4419720" y="266688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2286000" y="4343400"/>
            <a:ext cx="1447920" cy="66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4952880" y="4419720"/>
            <a:ext cx="152424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57200" y="914400"/>
            <a:ext cx="8153280" cy="86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CELTA DELL’OGG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he cosa valut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152280" y="762120"/>
            <a:ext cx="8763120" cy="53337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819520" y="6095880"/>
            <a:ext cx="314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RUOLI DEI SOGG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chi valu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UALE VALUTAZIONE: PAROLE CHI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MOMENTI DELLA 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2514600"/>
            <a:ext cx="8534520" cy="28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0" y="53352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FUNZIONI DELL’ATTO VALU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819520" y="1295280"/>
            <a:ext cx="3200400" cy="703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ALUTAZIONE PREDI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895480" y="2666880"/>
            <a:ext cx="3200400" cy="703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ALUTAZIONE DIAGNO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895480" y="3581280"/>
            <a:ext cx="3200400" cy="703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ALUTAZIONE F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895480" y="4419720"/>
            <a:ext cx="3200400" cy="703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ALUTAZIONE SOM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819520" y="5638680"/>
            <a:ext cx="3200400" cy="7038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ALUTAZIONE CERTIFIC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 rot="16200000">
            <a:off x="-28800" y="3534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PROCESSO FORM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UALE VALUTAZIONE: PAROLE CHI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UALE VALUTAZIONE: PAROLE CHI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53352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FUNZIONI DELL’ATTO VALU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8680" y="1295280"/>
            <a:ext cx="32767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alutazione                       PER L’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28600" y="1295280"/>
            <a:ext cx="32004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alutazione DELL’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3809880" y="1523880"/>
            <a:ext cx="1524240" cy="381240"/>
          </a:xfrm>
          <a:prstGeom prst="leftRightArrow">
            <a:avLst>
              <a:gd name="adj1" fmla="val 50000"/>
              <a:gd name="adj2" fmla="val 79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28600" y="25909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LOGICA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638680" y="25909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LOGICA DI SVIL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04920" y="3809880"/>
            <a:ext cx="32004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certificazion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a posteri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classifi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valenza inf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638680" y="3809880"/>
            <a:ext cx="32004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crescita f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in itin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orien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valenza metacogn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533520" y="5105520"/>
            <a:ext cx="8076960" cy="14475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3"/>
          <p:cNvSpPr/>
          <p:nvPr/>
        </p:nvSpPr>
        <p:spPr>
          <a:xfrm flipH="1">
            <a:off x="457200" y="3429000"/>
            <a:ext cx="4191120" cy="762120"/>
          </a:xfrm>
          <a:custGeom>
            <a:avLst/>
            <a:gdLst>
              <a:gd name="textAreaLeft" fmla="*/ 360 w 4191120"/>
              <a:gd name="textAreaRight" fmla="*/ 4191840 w 4191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/>
          <p:cNvSpPr/>
          <p:nvPr/>
        </p:nvSpPr>
        <p:spPr>
          <a:xfrm flipH="1">
            <a:off x="457200" y="1295280"/>
            <a:ext cx="4191120" cy="762120"/>
          </a:xfrm>
          <a:custGeom>
            <a:avLst/>
            <a:gdLst>
              <a:gd name="textAreaLeft" fmla="*/ 360 w 4191120"/>
              <a:gd name="textAreaRight" fmla="*/ 4191840 w 4191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 flipH="1">
            <a:off x="457200" y="2362320"/>
            <a:ext cx="4191120" cy="761760"/>
          </a:xfrm>
          <a:custGeom>
            <a:avLst/>
            <a:gdLst>
              <a:gd name="textAreaLeft" fmla="*/ 360 w 4191120"/>
              <a:gd name="textAreaRight" fmla="*/ 4191840 w 41911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4648320" y="3429000"/>
            <a:ext cx="4190760" cy="76212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648320" y="2362320"/>
            <a:ext cx="4190760" cy="76176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4648320" y="1295280"/>
            <a:ext cx="4190760" cy="76212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895480" y="5334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HE COSA SI APPRE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819520" y="6019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ME SI APPRE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600200" y="2514600"/>
            <a:ext cx="26161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GN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724280" y="2514600"/>
            <a:ext cx="3149640" cy="398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OCIO-E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1752480" y="1447920"/>
            <a:ext cx="23115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ODO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029200" y="1447920"/>
            <a:ext cx="2413080" cy="398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4648320" y="1295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3240" y="4572000"/>
            <a:ext cx="914076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COME RICOMPORRE L’ESPERIENZA DI APPRENDI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OGGETTO DELLA VALUTAZIONE : ANTINOMIE INCONCILIA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752480" y="3581280"/>
            <a:ext cx="23115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ISCIPLIN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4952880" y="3581280"/>
            <a:ext cx="2590920" cy="398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RASVER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4648320" y="2362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464832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533520" y="586728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UALE  VALUTAZIONE: PAROLE CHI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1066680"/>
            <a:ext cx="35816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0880" y="5715000"/>
            <a:ext cx="3556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6440" y="3324240"/>
            <a:ext cx="3556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ES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724280" y="2057400"/>
            <a:ext cx="3759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VALIDITA’                       DELLA PR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800600" y="4419720"/>
            <a:ext cx="37591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Times New Roman"/>
              </a:rPr>
              <a:t>ATTENDIBILITA’           DELLA PR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36576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327672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133720" y="1447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1337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213372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21337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09480" y="22096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99"/>
                </a:solidFill>
                <a:latin typeface="Times New Roman"/>
              </a:rPr>
              <a:t>PREDISPOSIZIONE STIM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143000" y="4343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99"/>
                </a:solidFill>
                <a:latin typeface="Times New Roman"/>
              </a:rPr>
              <a:t>ANALISI RI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99"/>
                </a:solidFill>
                <a:latin typeface="Times New Roman"/>
              </a:rPr>
              <a:t>STRUTTURA PROVA DI 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UALE  VALUTAZIONE: PAROLE CHI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581280" y="99072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TIM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1981080"/>
            <a:ext cx="345456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imes New Roman"/>
              </a:rPr>
              <a:t>T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imes New Roman"/>
              </a:rPr>
              <a:t>Interrog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imes New Roman"/>
              </a:rPr>
              <a:t>Rel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imes New Roman"/>
              </a:rPr>
              <a:t>Testo lib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43000" y="4419720"/>
            <a:ext cx="34545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00cc"/>
                </a:solidFill>
                <a:latin typeface="Times New Roman"/>
              </a:rPr>
              <a:t>Domande implicite                  (nei colloqui or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00cc"/>
                </a:solidFill>
                <a:latin typeface="Times New Roman"/>
              </a:rPr>
              <a:t>Pseudo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76920" y="4191120"/>
            <a:ext cx="34542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Eserci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Problemi  a percorso obblig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Testo da comple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876920" y="1981080"/>
            <a:ext cx="34542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Times New Roman"/>
              </a:rPr>
              <a:t>Saggi b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Times New Roman"/>
              </a:rPr>
              <a:t>Problemi a più solu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Times New Roman"/>
              </a:rPr>
              <a:t>Mappe concet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Times New Roman"/>
              </a:rPr>
              <a:t>Riassu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572000" y="1828800"/>
            <a:ext cx="0" cy="476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1219320" y="3733920"/>
            <a:ext cx="761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0" y="533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RILEVAZIONE DEI DATI: TIPOLOGIA DELLE 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905120" y="14479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AP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91320" y="14479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HI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 rot="16200000">
            <a:off x="-524160" y="342000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 rot="16200000">
            <a:off x="123480" y="254376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AP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 rot="16200000">
            <a:off x="9000" y="4639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HI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UALE VALUTAZIONE: PAROLE CHI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124080" y="990720"/>
            <a:ext cx="2743200" cy="703800"/>
          </a:xfrm>
          <a:prstGeom prst="rect">
            <a:avLst/>
          </a:prstGeom>
          <a:solidFill>
            <a:srgbClr val="0000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ANDARD AS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743200" y="2638440"/>
            <a:ext cx="3657600" cy="7038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ANDARD RELATIVO A PIU’ SOGG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743200" y="4430880"/>
            <a:ext cx="3657600" cy="7038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TANDARD RELATIVO AL SINGOLO SOGGET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486400" y="3533760"/>
            <a:ext cx="2743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5050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384880" y="5275440"/>
            <a:ext cx="3022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9933"/>
                </a:solidFill>
                <a:latin typeface="Arial"/>
              </a:rPr>
              <a:t>PROGR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486400" y="1905120"/>
            <a:ext cx="2743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SCA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07960" y="3429000"/>
            <a:ext cx="32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5050"/>
                </a:solidFill>
                <a:latin typeface="Arial"/>
              </a:rPr>
              <a:t>CONFRONTO TRASVER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11360" y="5222880"/>
            <a:ext cx="322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9933"/>
                </a:solidFill>
                <a:latin typeface="Arial"/>
              </a:rPr>
              <a:t>CONFRONTO LONGITUD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07960" y="168768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CONFRONTO            IDEALE - RE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UALE VALUTAZIONE: PAROLE CHI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0" y="533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MODALITA’ DI ATTRIBUZIONE DEL GIUD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3:45:22Z</dcterms:created>
  <dc:creator>IRRSAE Lombardia</dc:creator>
  <dc:description/>
  <dc:language>en-US</dc:language>
  <cp:lastModifiedBy>Mario</cp:lastModifiedBy>
  <dcterms:modified xsi:type="dcterms:W3CDTF">2009-01-30T16:50:13Z</dcterms:modified>
  <cp:revision>145</cp:revision>
  <dc:subject/>
  <dc:title>Presentazione di PowerPoint</dc:title>
</cp:coreProperties>
</file>