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F2BB-500C-4D5C-BFBF-D8E2F017729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42B4-89DE-453B-A01A-DA76409077F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6E4F-970E-44E9-A521-7BC1427FD00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9869-DE4B-423B-A7C1-D171F943CEA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39B1-8FD8-42B9-889D-2B132C4C358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62DC-E012-4068-8158-1EFA92FBE5D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7F2C-52AA-4DAB-AFF4-D0E24563DA2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7C6A-137D-4CDA-983B-FA66B462B3C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8F4-2187-48ED-B06E-0C0E07C0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323-E223-42C4-92F7-5F279A6B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8FB-4E90-4633-8879-34D217BC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834-0CD7-42BB-9CBD-4D528BAA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7D3-F655-4C66-ABC3-6F48C4CD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6BA-57AE-4BA3-B973-DD1EBBE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298-0F6D-408F-846C-5306B47A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870-D65F-4301-ACC4-1B350439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E81-7A14-4321-88D6-3DE0A354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A2C-2C16-4BAF-B722-CB5BF0B4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822-E9CD-42BA-BAA9-88C0EF48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D34-86FE-4DBC-AF6B-2338F6FF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059D-73E9-456B-8B2D-0D72F9D02504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4868-D03F-429C-8AC6-215D94AC458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ianozeta.it/Resources/mattoni.jpg" TargetMode="External"/><Relationship Id="rId2" Type="http://schemas.openxmlformats.org/officeDocument/2006/relationships/hyperlink" Target="http://www.pianozeta.it/Resources/mattoni.j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1523880" y="2743200"/>
            <a:ext cx="6096240" cy="3809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029200" y="5334120"/>
            <a:ext cx="3886200" cy="581400"/>
          </a:xfrm>
          <a:prstGeom prst="rect">
            <a:avLst/>
          </a:prstGeom>
          <a:solidFill>
            <a:srgbClr val="00206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57200" y="5257800"/>
            <a:ext cx="3733920" cy="58140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NSEG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90920" y="2743200"/>
            <a:ext cx="396216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7391160" y="5181480"/>
            <a:ext cx="7596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53080" y="32767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V="1">
            <a:off x="6705720" y="5943600"/>
            <a:ext cx="1522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600200" y="510552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2438280" y="3200400"/>
            <a:ext cx="15264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 flipV="1">
            <a:off x="2361960" y="5943600"/>
            <a:ext cx="1522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357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UTAZIONE AUTENTICA E APRENDERE PER COMPETEN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2643120" y="4000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o Castoldi Marzo 2009</a:t>
            </a: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57120" y="7858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0507"/>
                </a:solidFill>
                <a:latin typeface="Calibri"/>
                <a:ea typeface="Times New Roman"/>
              </a:rPr>
              <a:t>Maria abita a due chilometri di distanza dalla scuola, Martina a cinque. Quanto abitano lontane Maria e Martina l’una dall’alt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8"/>
          <p:cNvSpPr/>
          <p:nvPr/>
        </p:nvSpPr>
        <p:spPr>
          <a:xfrm>
            <a:off x="1785960" y="1714680"/>
            <a:ext cx="5429160" cy="45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e 9"/>
          <p:cNvSpPr/>
          <p:nvPr/>
        </p:nvSpPr>
        <p:spPr>
          <a:xfrm>
            <a:off x="3286080" y="2857680"/>
            <a:ext cx="2428920" cy="2000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e 10"/>
          <p:cNvSpPr/>
          <p:nvPr/>
        </p:nvSpPr>
        <p:spPr>
          <a:xfrm>
            <a:off x="4429080" y="3714840"/>
            <a:ext cx="14292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sellaDiTesto 11"/>
          <p:cNvSpPr/>
          <p:nvPr/>
        </p:nvSpPr>
        <p:spPr>
          <a:xfrm>
            <a:off x="285840" y="20001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a di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12"/>
          <p:cNvSpPr/>
          <p:nvPr/>
        </p:nvSpPr>
        <p:spPr>
          <a:xfrm>
            <a:off x="6858000" y="221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a di Mar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nettore 1 14"/>
          <p:cNvSpPr/>
          <p:nvPr/>
        </p:nvSpPr>
        <p:spPr>
          <a:xfrm>
            <a:off x="1105920" y="2400480"/>
            <a:ext cx="2251080" cy="1028520"/>
          </a:xfrm>
          <a:prstGeom prst="line">
            <a:avLst/>
          </a:prstGeom>
          <a:ln w="9360">
            <a:solidFill>
              <a:srgbClr val="7d6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ttore 1 15"/>
          <p:cNvSpPr/>
          <p:nvPr/>
        </p:nvSpPr>
        <p:spPr>
          <a:xfrm flipV="1">
            <a:off x="7000920" y="2642760"/>
            <a:ext cx="1000080" cy="428760"/>
          </a:xfrm>
          <a:prstGeom prst="line">
            <a:avLst/>
          </a:prstGeom>
          <a:ln w="9360">
            <a:solidFill>
              <a:srgbClr val="7d6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19"/>
          <p:cNvCxnSpPr/>
          <p:nvPr/>
        </p:nvCxnSpPr>
        <p:spPr>
          <a:xfrm>
            <a:off x="1785600" y="3714840"/>
            <a:ext cx="1429560" cy="72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9" name="Connettore 2 22"/>
          <p:cNvCxnSpPr/>
          <p:nvPr/>
        </p:nvCxnSpPr>
        <p:spPr>
          <a:xfrm>
            <a:off x="3357360" y="3785760"/>
            <a:ext cx="385812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0" name="Connettore 1 24"/>
          <p:cNvSpPr/>
          <p:nvPr/>
        </p:nvSpPr>
        <p:spPr>
          <a:xfrm flipV="1">
            <a:off x="1143000" y="3857760"/>
            <a:ext cx="3286080" cy="1357200"/>
          </a:xfrm>
          <a:prstGeom prst="line">
            <a:avLst/>
          </a:prstGeom>
          <a:ln w="9360">
            <a:solidFill>
              <a:srgbClr val="7d6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sellaDiTesto 26"/>
          <p:cNvSpPr/>
          <p:nvPr/>
        </p:nvSpPr>
        <p:spPr>
          <a:xfrm>
            <a:off x="285840" y="52862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27"/>
          <p:cNvSpPr/>
          <p:nvPr/>
        </p:nvSpPr>
        <p:spPr>
          <a:xfrm>
            <a:off x="857160" y="6143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anza min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5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28"/>
          <p:cNvSpPr/>
          <p:nvPr/>
        </p:nvSpPr>
        <p:spPr>
          <a:xfrm>
            <a:off x="6429240" y="607212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anza mass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5+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30"/>
          <p:cNvCxnSpPr/>
          <p:nvPr/>
        </p:nvCxnSpPr>
        <p:spPr>
          <a:xfrm flipH="1">
            <a:off x="1713960" y="3785760"/>
            <a:ext cx="929160" cy="242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Connettore 2 32"/>
          <p:cNvCxnSpPr>
            <a:endCxn id="73" idx="0"/>
          </p:cNvCxnSpPr>
          <p:nvPr/>
        </p:nvCxnSpPr>
        <p:spPr>
          <a:xfrm>
            <a:off x="5214960" y="3857400"/>
            <a:ext cx="2215440" cy="22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6" name="Connettore 1 35"/>
          <p:cNvSpPr/>
          <p:nvPr/>
        </p:nvSpPr>
        <p:spPr>
          <a:xfrm>
            <a:off x="4142520" y="2857680"/>
            <a:ext cx="357480" cy="857160"/>
          </a:xfrm>
          <a:prstGeom prst="line">
            <a:avLst/>
          </a:prstGeom>
          <a:ln w="9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nettore 1 36"/>
          <p:cNvSpPr/>
          <p:nvPr/>
        </p:nvSpPr>
        <p:spPr>
          <a:xfrm flipH="1">
            <a:off x="4500720" y="1928880"/>
            <a:ext cx="1000080" cy="1857240"/>
          </a:xfrm>
          <a:prstGeom prst="line">
            <a:avLst/>
          </a:prstGeom>
          <a:ln w="9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sellaDiTesto 38"/>
          <p:cNvSpPr/>
          <p:nvPr/>
        </p:nvSpPr>
        <p:spPr>
          <a:xfrm>
            <a:off x="5286240" y="242892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39"/>
          <p:cNvSpPr/>
          <p:nvPr/>
        </p:nvSpPr>
        <p:spPr>
          <a:xfrm>
            <a:off x="3643200" y="321480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 SFIDE PER LA SCUO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o Castoldi Marzo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14200" y="1357200"/>
          <a:ext cx="8215560" cy="365400"/>
        </p:xfrm>
        <a:graphic>
          <a:graphicData uri="http://schemas.openxmlformats.org/drawingml/2006/table">
            <a:tbl>
              <a:tblPr/>
              <a:tblGrid>
                <a:gridCol w="821556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82828"/>
                          </a:solidFill>
                          <a:latin typeface="Arial"/>
                          <a:ea typeface="Times New Roman"/>
                        </a:rPr>
                        <a:t>Un carpentiere ha 32 metri di tavole. Quali di que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523880" y="3314880"/>
          <a:ext cx="6096240" cy="2286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28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786880" cy="4786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 ESEMPIO: IL PROBLEMA DEL CARPENTI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 SFIDE PER LA SCUO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o Castoldi Marzo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5143680" y="1143000"/>
          <a:ext cx="3832200" cy="5451480"/>
        </p:xfrm>
        <a:graphic>
          <a:graphicData uri="http://schemas.openxmlformats.org/drawingml/2006/table">
            <a:tbl>
              <a:tblPr/>
              <a:tblGrid>
                <a:gridCol w="3832200"/>
              </a:tblGrid>
              <a:tr h="351000"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Allievo “competente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Conosce il concetto di somma e di perimetro, sa effettuare som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Legge il problema come “Trasformare le figure irregolari in figure note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Trasforma le figure irregolari in figure no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70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Se la trasformazione non porta ad una soluzione, cerca trasformazioni alter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 ESEMPIO: IL PROBLEMA DEL CARPENTI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 SFIDE PER LA SCUO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8760" y="1143000"/>
          <a:ext cx="4740120" cy="5402160"/>
        </p:xfrm>
        <a:graphic>
          <a:graphicData uri="http://schemas.openxmlformats.org/drawingml/2006/table">
            <a:tbl>
              <a:tblPr/>
              <a:tblGrid>
                <a:gridCol w="1525320"/>
                <a:gridCol w="3214800"/>
              </a:tblGrid>
              <a:tr h="37944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Allievo “abile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Risor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Conosce il concetto di somma e di perimetro, sa effettuare som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Strutture di interpreta-   zi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Si chiede “Quando abbiamo trattato queste figure a scuola?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Strutture di azi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Cerca, senza successo, di applicare una formula risolutiva no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Strutture di auto-regolazi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82828"/>
                          </a:solidFill>
                          <a:latin typeface="CBJOEK+Arial"/>
                          <a:ea typeface="Times New Roman"/>
                        </a:rPr>
                        <a:t>Rinuncia a risolvere il problema (“Non lo abbiamo trattato a scuola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o Castoldi Marzo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7924680" y="4572000"/>
            <a:ext cx="914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001000" y="45720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l Consiglio comunale ha deciso di mettere un lampione in un piccolo parco triangolare in modo che l’intero parco sia illuminato. Dove dovrebbe essere collocato il lampi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0" y="1371600"/>
            <a:ext cx="91440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c042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422"/>
                </a:solidFill>
                <a:latin typeface="Arial"/>
              </a:rPr>
              <a:t>Partire da un problema re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corre localizzare il punto di un parco in cui mettere un lamp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21337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422"/>
                </a:solidFill>
                <a:latin typeface="Arial"/>
              </a:rPr>
              <a:t>2. Strutturare il problema in base a concetti matematic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l parco può essere rappresentato con un triangolo e l’illuminazione di un lampione come un cerchio con un lampione al cen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320040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422"/>
                </a:solidFill>
                <a:latin typeface="Arial"/>
              </a:rPr>
              <a:t>3. Formalizzare il problema matematic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l problema viene riformulato in “localizzare il centro del cerchio circoscritto al triangol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-457200" y="4191120"/>
            <a:ext cx="830592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422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c0422"/>
                </a:solidFill>
                <a:latin typeface="Arial"/>
              </a:rPr>
              <a:t>4. Risolvere il problema matema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iché il centro di un cerchio circoscritto a un triangolo giace nel punto di incontro degli assi dei lati del triangolo occorre costruire gli assi su due lati del triangolo. Il loro punto di intersezione è il centro del cerch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5486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422"/>
                </a:solidFill>
                <a:latin typeface="Arial"/>
              </a:rPr>
              <a:t>5. Tradurre la soluzione matematica in rapporto alla situazione rea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 tratta di applicare la soluzione alla situazione reale, considerando le caratteristiche degli angoli, l’ubicazione e la dimensione degli alberi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7238880" y="2666880"/>
            <a:ext cx="762120" cy="4572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7924680" y="3429000"/>
            <a:ext cx="914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8001000" y="34290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8153280" y="2590920"/>
            <a:ext cx="7621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5"/>
          <p:cNvSpPr/>
          <p:nvPr/>
        </p:nvSpPr>
        <p:spPr>
          <a:xfrm>
            <a:off x="8458200" y="2895480"/>
            <a:ext cx="76320" cy="763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8229600" y="4876920"/>
            <a:ext cx="2286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 flipH="1">
            <a:off x="8229240" y="487692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 SFIDE PER LA SCUO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o Castoldi Marzo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N MODELLO DI PROBLEM SOLVING MATEMATICO (Schoenf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480" y="1981080"/>
            <a:ext cx="8429400" cy="444816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4 condizioni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 per avere successo nella soluzione di problem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alibri"/>
              </a:rPr>
              <a:t>Risorse cognitive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 (conoscenze e proced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alibri"/>
              </a:rPr>
              <a:t>Euristiche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 (regole per procedere in situazioni difficil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alibri"/>
              </a:rPr>
              <a:t>Controllo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 (capacità di planning, monitoraggio, valutazi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alibri"/>
              </a:rPr>
              <a:t>Belief system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 (concezione della disciplina, contesto psicologic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OMPETENZA COME PAROLA CHI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o Castoldi Marzo 2009</a:t>
            </a: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2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8"/>
          <p:cNvSpPr/>
          <p:nvPr/>
        </p:nvSpPr>
        <p:spPr>
          <a:xfrm>
            <a:off x="5857920" y="2500200"/>
            <a:ext cx="216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 COSA SI APPRE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6143760" y="4429080"/>
            <a:ext cx="21603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E SI APPRE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0" y="609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’ICEBERG DELLA COMPE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OMPETENZA COME PAROLA CHI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o Castoldi Marzo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0" y="1523880"/>
            <a:ext cx="914400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COMPOSIZIONE DEL SAPERE IN UNITA’ DIS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0" y="2438280"/>
            <a:ext cx="914400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RIPRODUZIONE DI UN SAPERE PREDE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9360" y="3352680"/>
            <a:ext cx="913464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RIFERIMENTO AD UNA CONOSCENZA IN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0" y="4191120"/>
            <a:ext cx="914400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TTENZIONE ESCLUSIVA ALLA PRES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0" y="4952880"/>
            <a:ext cx="914400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CARSA RICADUTA F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0" y="5791320"/>
            <a:ext cx="91504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DERESPONSABILIZZAZIONE DELLO STU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A RICERCA DELLA SIGNIFICA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ALUTARE GLI APPRENDIMENTI: UN PERCORSO A TRE STA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o Castoldi Marzo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0" y="1676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GNIFICATIVITA’ DEI COMPITI VALUTATIV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0" y="251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SPONSABILIZZAZIONE DELLO STU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0" y="342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INTEGRAZIONE PROCESSO/PRODOTTO</a:t>
            </a:r>
            <a:r>
              <a:rPr b="0" lang="it-IT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0" y="434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SUPERAMENTO DEI CONFIN DISCIPLIN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0" y="914400"/>
            <a:ext cx="6629400" cy="36828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° STADIO: LA VALUTAZIONE AUTEN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0" y="5257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VALENZA METACOGNITIVA DELLA VALU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Si tratta di accertare non ciò che lo studente sa, ma ciò che sa fare con ciò che sa.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”                                 (Wiggins, 199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VALUTARE GLI APPRENDIMENTI: UN PERCORSO A TRE STA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6858000" y="990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99"/>
                </a:solidFill>
                <a:latin typeface="Arial"/>
              </a:rPr>
              <a:t>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io Castoldi Marzo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20:20:40Z</dcterms:created>
  <dc:creator>Mario</dc:creator>
  <dc:description/>
  <dc:language>en-US</dc:language>
  <cp:lastModifiedBy>M.I.U.R.</cp:lastModifiedBy>
  <dcterms:modified xsi:type="dcterms:W3CDTF">2009-09-15T13:25:28Z</dcterms:modified>
  <cp:revision>81</cp:revision>
  <dc:subject/>
  <dc:title>Diapositiva 1</dc:title>
</cp:coreProperties>
</file>