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885-2927-40ED-8974-72D5E97B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C3D-862D-47F0-917E-EE274D07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B6B-0C09-491D-810E-252D7FB1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260-71F0-4EE6-9E8A-F1EFECFB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6449-4162-41A7-B08A-D26BF93A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EBED-58DE-42A9-8CEA-61DB7159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3CB4-8CD0-42A9-8972-C55BB34E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21D0-2620-43E7-98B9-031F0165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D264-FA07-4D4B-BC2C-6025B701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7386-5ADC-4117-94ED-6B1B460F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287A-5E10-45F1-A582-8BAFA77C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935-81CB-44F7-BAB6-B9753403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E4AA-D61A-4EDA-8FB0-8971B6C7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E682-99B5-4485-8FBA-3D058FA4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7B5A-C50D-40FE-9938-E9774E33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B096-5EE3-4A6F-80C0-A8D2B590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BB94-5940-472C-86E7-0A646A6B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44DC-C23D-4759-A3F2-144C02FC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7AAC-AF1E-40A9-8B57-14D5CC2B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25387-601B-484E-9B70-8C67FD2A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F405-0FA9-432E-A418-03540540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5A1BB-9ED5-4F27-99AB-487F602C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B33-C056-47F4-BC29-18FB2E77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E4FAB-356A-44B8-AA67-63D52B85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69D8-1387-4B8D-910A-CCB4393C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E670-455B-42E2-AD89-DFD85F60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6B6A-7DD2-4101-BD0B-46A90BC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A672F-BD9D-4807-901C-9BA938D8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E35D-ECA5-4234-8DC2-76D43A1D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C3B45-9966-42C5-BA80-2D0C7E37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886F-0DDA-495D-AF36-A34AA39A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945A-F4B2-40FA-81C7-E654CDA7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674FB-46DD-428C-B608-12F8697D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591-EF6D-4DCC-A4C1-BCC60B0A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E3DBF-0AE4-43ED-A129-7A42E4D8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615F-ABD4-40E4-8A5F-E2B7169A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3788-E4B2-4959-BB34-DAB669BC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F23B0-C48E-48E1-89EA-DDE398F4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38BA-59C3-4000-BAA6-BCF6667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6ADF-C87A-4773-8242-B349B13F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70B5-816A-4769-91D1-14095A4B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34184-DF28-4D00-BFB3-50D24C82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E2E72-7271-41BB-ABC2-A4C2B94F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DC4D6-704A-4738-A5A5-61393965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912-8CD6-4771-8B13-5576AC96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94C8-D781-4255-99C7-23DCE7EB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CD037-7FAA-4A32-9D8C-7BB12478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8E7F5-DB9B-4F3A-B927-FC874D59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447B7-00E9-45BC-81EC-9AAF7C13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63EA2-E97B-4146-A35D-28D369D7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F4246-C27B-4FBA-A3A5-43A1479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8EBB9-0990-43DE-84F4-B54D533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0048F-1F55-4DBB-8699-1A358168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C9026-40AB-43D6-A2DD-393E39AD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9A0A4-F2C5-4875-A69A-4E84A6D5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674-C4E3-4D10-96B2-205FAF2A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38C20-05AE-40F9-AB61-F1ECA2F7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9DE-0E74-4D1A-ADB7-BAC97660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8B0-920B-4B5F-A632-62837520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438-BAD3-428D-9290-A90AB1E0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AB35-8B55-422C-AF8C-2C4E0EFE4633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91F1-38D6-493D-B04D-E147264F38C8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E025-FC3C-4C45-8240-14707CD75246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39E2-7038-47FD-B8CA-E4C1B4C3DC76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69B8-7A9C-428D-AC8E-9A230D0E9B4D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14200" y="928800"/>
          <a:ext cx="8643960" cy="4767120"/>
        </p:xfrm>
        <a:graphic>
          <a:graphicData uri="http://schemas.openxmlformats.org/drawingml/2006/table">
            <a:tbl>
              <a:tblPr/>
              <a:tblGrid>
                <a:gridCol w="1214640"/>
                <a:gridCol w="7429320"/>
              </a:tblGrid>
              <a:tr h="4903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AP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OMPETENZE di  CITTADINANZ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42768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1, T2, T3, T4 e T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ffff"/>
                        </a:buClr>
                        <a:buSzPct val="4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municare</a:t>
                      </a:r>
                      <a:r>
                        <a:rPr b="0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:  </a:t>
                      </a:r>
                      <a:r>
                        <a:rPr b="0" i="1" lang="it-IT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mprendere</a:t>
                      </a:r>
                      <a:r>
                        <a:rPr b="0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messaggi di genere divers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ffff"/>
                        </a:buClr>
                        <a:buSzPct val="4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cquisire ed interpretare l’informazione</a:t>
                      </a:r>
                      <a:r>
                        <a:rPr b="0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e  porsi doman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ffff"/>
                        </a:buClr>
                        <a:buSzPct val="4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dividuare collegamenti e relazioni</a:t>
                      </a:r>
                      <a:r>
                        <a:rPr b="0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tra fenomeni, eventi e concetti diversi, anche appartenenti a diversi ambiti disciplinari cogliendone la natura sistemica, individuando analogie e differenze, coerenze ed incoerenze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,</a:t>
                      </a:r>
                      <a:r>
                        <a:rPr b="0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cause ed effetti e la loro natura probabilis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ffff"/>
                        </a:buClr>
                        <a:buSzPct val="4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llaborare e partecipare</a:t>
                      </a:r>
                      <a:r>
                        <a:rPr b="0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valorizzando le proprie e le altrui capacità, gestendo la conflittualità, contribuendo all’apprendimento comune ed alla realizzazione delle attività collettive ( di gruppo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ffff"/>
                        </a:buClr>
                        <a:buSzPct val="4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oblematizzar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ffffff"/>
                        </a:buClr>
                        <a:buSzPct val="4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Rectangle 1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91569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7:42:55Z</dcterms:created>
  <dc:creator>Elisa </dc:creator>
  <dc:description/>
  <dc:language>en-US</dc:language>
  <cp:lastModifiedBy>Elisa </cp:lastModifiedBy>
  <dcterms:modified xsi:type="dcterms:W3CDTF">2009-08-31T07:46:33Z</dcterms:modified>
  <cp:revision>1</cp:revision>
  <dc:subject/>
  <dc:title>Diapositiva 1</dc:title>
</cp:coreProperties>
</file>