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329-38A0-4FEB-AB76-AFBA8C34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525-BD07-43DB-999B-989B662A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CBC-EF57-4829-B403-32F84AA2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4DA-D8B6-4C71-9547-85F1D612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621-6F4B-43C2-BA8C-2E364672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A5C-C9C0-48F6-BCE6-D01C6883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131-452D-4E3B-9760-46B653CF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5AC-5E95-4261-94C1-A0E7DC71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2B9-5F51-4BAF-8EE4-02B2D3C4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090-2B33-4CBE-9B5D-7A936817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BBE-8D3D-4FB0-B984-870188EB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9A2-A64A-426C-A05B-6EE26BE2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97E5-7901-4AFD-BD87-414BEC62C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EQF.doc" TargetMode="External"/><Relationship Id="rId2" Type="http://schemas.openxmlformats.org/officeDocument/2006/relationships/hyperlink" Target="file:///keycomp_it.pdf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ipologie.doc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2743200"/>
            <a:ext cx="213372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mb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gn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LE RAGIONI DELL’ALTERN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11430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 Sfida Edu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2133720"/>
            <a:ext cx="2743200" cy="533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ercorso educ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2096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133720"/>
            <a:ext cx="2743200" cy="533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isultati att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743200"/>
            <a:ext cx="22100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mb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ffettivo Rela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Motivazioni / Interes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4504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mportam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657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Percorsi incomple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414504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Percorsi disomogen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2743200"/>
            <a:ext cx="19814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Obbl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str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2743200"/>
            <a:ext cx="19814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filo Form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Usc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36576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Tutti Ovun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41148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Biennio Orient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45720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Assi e Compet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502920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Valutazioni di Sist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657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mpeten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4114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mpetenze trasvers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/>
          </p:cNvPr>
          <p:cNvSpPr/>
          <p:nvPr/>
        </p:nvSpPr>
        <p:spPr>
          <a:xfrm>
            <a:off x="6781680" y="45720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E Q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"/>
          </p:cNvPr>
          <p:cNvSpPr/>
          <p:nvPr/>
        </p:nvSpPr>
        <p:spPr>
          <a:xfrm>
            <a:off x="6781680" y="5029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Competenze chi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4572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Realtà e model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5638680"/>
            <a:ext cx="190512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nsuc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6172200"/>
            <a:ext cx="22860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enso incompet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5562720"/>
            <a:ext cx="914400" cy="60948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8178635"/>
                <a:lnTo>
                  <a:pt x="2991" y="3340"/>
                </a:lnTo>
                <a:arcTo wR="10800" hR="10800" stAng="-8178635" swAng="817863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429000" y="6172200"/>
            <a:ext cx="990720" cy="457200"/>
          </a:xfrm>
          <a:custGeom>
            <a:avLst/>
            <a:gdLst>
              <a:gd name="textAreaLeft" fmla="*/ 360 w 990720"/>
              <a:gd name="textAreaRight" fmla="*/ 991440 w 99072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6474" y="8475"/>
                </a:moveTo>
                <a:arcTo wR="-4911" hR="-4911" stAng="-9104658" swAng="-10754658"/>
                <a:lnTo>
                  <a:pt x="1355" y="5562"/>
                </a:lnTo>
                <a:arcTo wR="10800" hR="10800" stAng="-9059315" swAng="10754658"/>
                <a:lnTo>
                  <a:pt x="22691" y="17191"/>
                </a:lnTo>
                <a:lnTo>
                  <a:pt x="15047" y="19491"/>
                </a:lnTo>
                <a:lnTo>
                  <a:pt x="12748" y="11847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00200" y="2057400"/>
            <a:ext cx="21337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Ru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1295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l Percorso / Le F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666880"/>
            <a:ext cx="213372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3276720"/>
            <a:ext cx="32004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epa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267080"/>
            <a:ext cx="32004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5257800"/>
            <a:ext cx="32004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Val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2209680"/>
            <a:ext cx="32004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get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1295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 Progettazione: i Ru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3581280"/>
            <a:ext cx="32004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e Impr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4495680"/>
            <a:ext cx="32004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entri Formazione Prof.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5486400"/>
            <a:ext cx="32004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amiglie / Stud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2057400"/>
            <a:ext cx="320040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a Scu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1905120"/>
            <a:ext cx="190476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. d. 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1905120"/>
            <a:ext cx="19051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utor scola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2666880"/>
            <a:ext cx="19051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Funzione Strum.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2514600"/>
            <a:ext cx="19051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3352680"/>
            <a:ext cx="19051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ire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3962520"/>
            <a:ext cx="190476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utor aziend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1295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l Consiglio di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2701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finisce Obiettivi e Risultati attes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8036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Individua Contenuti/Attività/Set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333684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finisce integrazione Verticale/Orizzon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8703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ncorda modalità organizz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44038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finisce modalità e criteri di valut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1295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finizione Obiet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27016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Qual è il Problema / l’Idea Forma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685800" y="4327560"/>
            <a:ext cx="51814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e categorie di obiettiv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5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isciplin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5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svers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5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duca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5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rientativi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0481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Declinati in funzione d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3489480"/>
            <a:ext cx="5562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2480" indent="-276120">
              <a:lnSpc>
                <a:spcPct val="5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Contesto (POF/CdC/currico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2480" indent="-276120">
              <a:lnSpc>
                <a:spcPct val="50000"/>
              </a:lnSpc>
              <a:spcBef>
                <a:spcPts val="12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ff"/>
                </a:solidFill>
                <a:latin typeface="Times New Roman"/>
              </a:rPr>
              <a:t>Risorse (interne / Ester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295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dalità Organizz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27016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dividuazione Monte ore p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4956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dividuazione spazi di flessibi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2743200"/>
            <a:ext cx="5334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8760" indent="-376200"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epa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28760" indent="-376200"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ttiv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28760" indent="-376200"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Monitorag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28760" indent="-376200"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Verifica/val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50896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dividuazione Ruoli e comp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1295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l Tutor Scol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057400"/>
            <a:ext cx="228600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Ru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idat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2057400"/>
            <a:ext cx="228600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Ruo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Organizz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2057400"/>
            <a:ext cx="228600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Ruo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i Colleg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819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pone/stim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2907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ormalizza il prog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3805200"/>
            <a:ext cx="25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Rassicura/Fornis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ndicazioni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586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Monitora e Correg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5195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Gestisce la prepa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19520"/>
            <a:ext cx="27432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nterviene/Riorganizz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empo scuola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500280"/>
            <a:ext cx="25146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llabora/interagis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n Uff. Amm.vi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4186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Gestisce banche dati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2819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Scuola &lt;&gt; Famigl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3214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cuola &lt;&gt; Student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35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cuola &lt;&gt; Azien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39765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cuola &lt;&gt; C F P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43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 d C   &lt;&gt; Tutor 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4738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ocente&lt;&gt; Docent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1295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zione Strum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2057400"/>
            <a:ext cx="17528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 O 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2057400"/>
            <a:ext cx="182880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un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rumen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2057400"/>
            <a:ext cx="167616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 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3276720"/>
            <a:ext cx="182880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  d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228600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228600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4343040" y="285732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4495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Riceve e vaglia proposte este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489096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pone ai Consigli di 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2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ura la realizzazione del P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56530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Verifica con il DS le disponibilità finanzia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60020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447920"/>
            <a:ext cx="91440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Dal Regolamento dei Lic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7. </a:t>
            </a:r>
            <a:r>
              <a:rPr b="1" lang="en-US" sz="20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Nell’ambito dei percorsi liceali le istituzioni scolastiche stabiliscono, a partire dal secondo biennio, anche d’intesa rispettivamente con le università, con le istituzioni dell’alta formazione artistica, musicale e coreutica e con quelle ove si realizzano i percorsi di istruzione e formazione tecnica superiore ed i percorsi degli istituti tecnici superiori, specifiche modalità p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alatino-Roman"/>
                <a:ea typeface="Times New Roman"/>
              </a:rPr>
              <a:t>l’approfondimento delle conoscenze, delle abilità e delle competenze</a:t>
            </a:r>
            <a:r>
              <a:rPr b="1" lang="en-US" sz="20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 richieste per l’accesso ai relativi corsi di studio e per l’inserimento nel mondo del lavoro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alatino-Roman"/>
                <a:ea typeface="Times New Roman"/>
              </a:rPr>
              <a:t>L’approfondimento può essere realizzato anche nell’ambito dei percorsi di alternanza scuola-lavoro</a:t>
            </a:r>
            <a:r>
              <a:rPr b="1" lang="en-US" sz="20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 di cui al decreto legislativo 15 aprile 2005, n. 77, nonché attraverso l’attivazione di moduli e di iniziative di studio-lavoro per progetti, di esperienze pratiche e di tirocin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6002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-Roman"/>
              </a:rPr>
              <a:t>Dal regolamento dei Tec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I percorsi di cui al comma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si realizzano attraverso metodologie finalizzate a sviluppare, con particol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riferimento alle attività e agli insegnamenti di indirizzo</a:t>
            </a:r>
            <a:r>
              <a:rPr b="1" lang="en-US" sz="1800" spc="-1" strike="noStrike">
                <a:solidFill>
                  <a:srgbClr val="000000"/>
                </a:solidFill>
                <a:latin typeface="Palatino-Bold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competenze bas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sulla didattica di laboratorio, l’analisi e la soluzione dei problemi, il lavoro 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progetti; sono orientati alla gestione di processi in contesti organizzati e all’u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di modelli e linguaggi specifici; sono strutturati in modo da favorir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collegamento organico con il mondo del lavoro e delle professioni, compresi 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volontariato ed il privato social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Palatino-Roman"/>
                <a:ea typeface="Times New Roman"/>
              </a:rPr>
              <a:t>Stage, tirocini e alternanza scuola lavoro s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Palatino-Roman"/>
                <a:ea typeface="Times New Roman"/>
              </a:rPr>
              <a:t>strumenti didattici per la realizzazione dei percorsi di stu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44792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6002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44792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2203560"/>
            <a:ext cx="891540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-Roman"/>
              </a:rPr>
              <a:t>Dal Regolamento dei Professio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I percorsi di cui al comma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si sviluppano soprattutto attraverso metodologie basate su: la didattica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laboratorio, anche per valorizzare stili di apprendimento induttiv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l’orientamento progressivo, l’analisi e la soluzione dei problemi relativi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settore produttivo di riferimento; il lavoro cooperativo per progetti;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personalizzazione dei prodotti e dei servizi attraverso l’uso delle tecnologie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-Roman"/>
                <a:ea typeface="Times New Roman"/>
              </a:rPr>
              <a:t>del pensiero creativo; la gestione di processi in contesti organizzati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alatino-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Palatino-Roman"/>
                <a:ea typeface="Times New Roman"/>
              </a:rPr>
              <a:t>nell’alternanza scuola lavo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LE RAGIONI DELL’ALTERN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1430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ompere la Spi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057400"/>
            <a:ext cx="2895840" cy="533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abilire un conta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1905120"/>
            <a:ext cx="2438280" cy="304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l Liv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2438280"/>
            <a:ext cx="24382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e Variabili in gio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8074200">
            <a:off x="3580920" y="2133360"/>
            <a:ext cx="304560" cy="304920"/>
          </a:xfrm>
          <a:custGeom>
            <a:avLst/>
            <a:gdLst>
              <a:gd name="textAreaLeft" fmla="*/ 87480 w 304560"/>
              <a:gd name="textAreaRight" fmla="*/ 261000 w 304560"/>
              <a:gd name="textAreaTop" fmla="*/ 175680 h 304920"/>
              <a:gd name="textAreaBottom" fmla="*/ 2613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048120"/>
            <a:ext cx="2895840" cy="533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municare Obiet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895480"/>
            <a:ext cx="24382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ncr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3429000"/>
            <a:ext cx="24382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lleg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8074200">
            <a:off x="3580560" y="3200040"/>
            <a:ext cx="304920" cy="304920"/>
          </a:xfrm>
          <a:custGeom>
            <a:avLst/>
            <a:gdLst>
              <a:gd name="textAreaLeft" fmla="*/ 87480 w 304920"/>
              <a:gd name="textAreaRight" fmla="*/ 261360 w 304920"/>
              <a:gd name="textAreaTop" fmla="*/ 175680 h 304920"/>
              <a:gd name="textAreaBottom" fmla="*/ 2613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343400"/>
            <a:ext cx="2895840" cy="533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gire contenuti e meto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er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4114800"/>
            <a:ext cx="24382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l cont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4572000"/>
            <a:ext cx="24382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e variabili in gio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5029200"/>
            <a:ext cx="24382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Gli Obiet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4114800"/>
            <a:ext cx="3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1295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 Fasi: la prepa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057400"/>
            <a:ext cx="17528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a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895480"/>
            <a:ext cx="182880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e fin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4800600"/>
            <a:ext cx="182880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Gli stru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2819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2743200"/>
            <a:ext cx="27432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tivazione al comp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3352680"/>
            <a:ext cx="274320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disporre stru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4114800"/>
            <a:ext cx="27432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ratterist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4648320"/>
            <a:ext cx="27432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p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5181480"/>
            <a:ext cx="274320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715000"/>
            <a:ext cx="27432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riglie per discip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1295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 Fasi: la val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2209680"/>
            <a:ext cx="175248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’ogg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3809880"/>
            <a:ext cx="182880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 sogge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5562720"/>
            <a:ext cx="182880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Gli stru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2680" y="2819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3276720"/>
            <a:ext cx="27432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tor Scola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3733920"/>
            <a:ext cx="27432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tor Aziend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4191120"/>
            <a:ext cx="27432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goli docenti/ il C d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5181480"/>
            <a:ext cx="274320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e (test/colloqui/casi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5638680"/>
            <a:ext cx="274320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otti “sul camp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43200" y="1981080"/>
            <a:ext cx="304812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ra disciplinare/trasvers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2590920"/>
            <a:ext cx="304812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ciplin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1752480"/>
            <a:ext cx="213372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m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2057400"/>
            <a:ext cx="213372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uc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2362320"/>
            <a:ext cx="213372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ien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95480" y="6095880"/>
            <a:ext cx="2743200" cy="533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glie di 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hede di rifles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4648320"/>
            <a:ext cx="274320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golo stu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3124080"/>
            <a:ext cx="2666880" cy="205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 diverse funzion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nire ele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u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1295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tegorie di Obiet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1905120"/>
            <a:ext cx="80010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Obiettivi Trasvers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Diagnosticare: Ricercare informazioni, capacità di osservazione, operare confronti, inferire, dedurre, riconoscere, identificare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Affrontare:Identificare un problema, individuarne fattori e variabili, indicare le possibili soluzioni, scegliere una sol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Relazionarsi: capacità di ascolto, capacità collaborative, capacità di lavorare in equipe, intrattenere relazioni con soggetti diversi per ruolo e funzioni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469260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Obiettivi Educativi: Autonomia, responsabilità, serietà, puntualità, rispetto ……..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534672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Obiettivi Orientativi: Conoscenza di sé (Interessi, valori, abilità), rappresentazione   lavoro   e professioni, capacità di rielaborare le proprie rappresentazioni, riformulare scelte professionali, affrontare situazioni nuove………..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LE RAGIONI DELL’ALTERN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1430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ternanza come Metodologia 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071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Utilizza situazioni /contesti di Apprendimento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1981080"/>
            <a:ext cx="761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2286000"/>
            <a:ext cx="761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7524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Operati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21016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Extra scu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2406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Struttur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2590920"/>
            <a:ext cx="761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2004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evede Fasi di Lavoro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048120"/>
            <a:ext cx="762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863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429000"/>
            <a:ext cx="762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32446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3809880"/>
            <a:ext cx="762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36259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Riflessione su Risultati/Proce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281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Mette in gioco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4419720"/>
            <a:ext cx="762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235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Diverse Modalità di Apprend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4800600"/>
            <a:ext cx="762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4616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Conoscenze e Abi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480060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46162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Form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502920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48448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Non Form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5257800"/>
            <a:ext cx="380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5073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Inform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5424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ttiva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5562720"/>
            <a:ext cx="762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53784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Competenze Soc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5867280"/>
            <a:ext cx="762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56833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Competenze Organizz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6172200"/>
            <a:ext cx="762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59878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Consapevolezza di s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309680"/>
            <a:ext cx="6324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orme Gen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D.Lgs. N. 77/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133720"/>
            <a:ext cx="8077320" cy="32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rt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Ambito di appl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modalità di realizzazione percorsi 2° 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rivolto a studenti dal 15° al 18° an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titolarità dell’Istituzione scolastica ch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Prog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Att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Veri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Valu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1309680"/>
            <a:ext cx="6324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orme Gen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D.Lgs. N. 77/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2362320"/>
            <a:ext cx="8077320" cy="3657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n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Offrire / attuare diverse modalità di apprend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rricchire l’Offerta Formativa con competenze spendibili nel merca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del lav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Orientamento Scolastico e Profess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ducare alla cittadinanza at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309680"/>
            <a:ext cx="6324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orme Gen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D.Lgs. N. 77/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362320"/>
            <a:ext cx="8077320" cy="3657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ruttura Flessibile (aula + lavoro) progettata dall’Istituzione Scola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rticolazione funzionale a: - e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 obiettivi forma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- accoglienza 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nserimento nel P. O. 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1309680"/>
            <a:ext cx="6324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orme Gen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D.Lgs. N. 77/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981080"/>
            <a:ext cx="8077320" cy="457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rt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Funzione Tutor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Tutor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designato dall’Istituzione scola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con formazione in serviz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assiste e guida gli stud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verifica in collaborazione con il tutor esterno lo svolgi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del perco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Tutor Es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designato dall’i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favorisce l’inserimento dello stu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assiste le studente nel percorso form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fornisce all’Istituzione scolastica elementi atti a verificare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valu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309680"/>
            <a:ext cx="6324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orme Gen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D.Lgs. N. 77/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362320"/>
            <a:ext cx="8077320" cy="3657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alutazione, Certificazione, Riconoscimento Credi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L’Istituzione Scola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Valuta gli apprendimenti acquisiti in altern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ertifica le compet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5fe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LTERNANZA SCUOLA /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838080"/>
            <a:ext cx="8763120" cy="3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12952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 Azioni  Poss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286000"/>
            <a:ext cx="2286000" cy="40384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038480"/>
              <a:gd name="textAreaBottom" fmla="*/ 3926880 h 4038480"/>
            </a:gdLst>
            <a:ahLst/>
            <a:rect l="textAreaLeft" t="textAreaTop" r="textAreaRight" b="textAreaBottom"/>
            <a:pathLst>
              <a:path w="21600" h="38156">
                <a:moveTo>
                  <a:pt x="3600" y="0"/>
                </a:moveTo>
                <a:arcTo wR="3600" hR="3600" stAng="16200000" swAng="-5400000"/>
                <a:lnTo>
                  <a:pt x="0" y="34556"/>
                </a:lnTo>
                <a:arcTo wR="3600" hR="3600" stAng="10800000" swAng="-5400000"/>
                <a:lnTo>
                  <a:pt x="18000" y="381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Prog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coerente c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Collocazione n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Curric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orizzo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it-IT" sz="1600" spc="-1" strike="noStrike">
                <a:solidFill>
                  <a:srgbClr val="0000ff"/>
                </a:solidFill>
                <a:latin typeface="Times New Roman"/>
              </a:rPr>
              <a:t>verticale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Tipolo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Risorse/Bisog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2514600"/>
            <a:ext cx="320040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sperienza “ Minimalist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didatticamente subordinat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a bassa integr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4952880"/>
            <a:ext cx="3200400" cy="1219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Esperienza “ Totalizzant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gradualità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progressiv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vertic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/>
          </p:cNvPr>
          <p:cNvSpPr/>
          <p:nvPr/>
        </p:nvSpPr>
        <p:spPr>
          <a:xfrm>
            <a:off x="6400800" y="2286000"/>
            <a:ext cx="2286000" cy="40384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038480"/>
              <a:gd name="textAreaBottom" fmla="*/ 3926880 h 4038480"/>
            </a:gdLst>
            <a:ahLst/>
            <a:rect l="textAreaLeft" t="textAreaTop" r="textAreaRight" b="textAreaBottom"/>
            <a:pathLst>
              <a:path w="21600" h="38156">
                <a:moveTo>
                  <a:pt x="3600" y="0"/>
                </a:moveTo>
                <a:arcTo wR="3600" hR="3600" stAng="16200000" swAng="-5400000"/>
                <a:lnTo>
                  <a:pt x="0" y="34556"/>
                </a:lnTo>
                <a:arcTo wR="3600" hR="3600" stAng="10800000" swAng="-5400000"/>
                <a:lnTo>
                  <a:pt x="18000" y="381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Tipolo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visita  aziend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age osserv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imul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roject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Stage in azi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4:48:04Z</dcterms:created>
  <dc:creator>rino molari</dc:creator>
  <dc:description/>
  <dc:language>en-US</dc:language>
  <cp:lastModifiedBy>rino molari</cp:lastModifiedBy>
  <dcterms:modified xsi:type="dcterms:W3CDTF">2011-05-09T13:59:19Z</dcterms:modified>
  <cp:revision>54</cp:revision>
  <dc:subject/>
  <dc:title>LE RAGIONI DELL’ALTERNANZA</dc:title>
</cp:coreProperties>
</file>