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88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651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B79A080-4279-4C62-82C8-D8927A56444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3E03816-CF82-4DB9-B093-532A47B5493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669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7680" y="743040"/>
            <a:ext cx="4587840" cy="37148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8680" y="4705200"/>
            <a:ext cx="54817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7680" y="743040"/>
            <a:ext cx="4565880" cy="36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9040" y="4705200"/>
            <a:ext cx="5478480" cy="44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98800" y="94089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C2E85FA-2086-4D15-9CCA-0E2E1FB8906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8680" y="4704840"/>
            <a:ext cx="5505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A7C-3316-45B4-8778-70821C2A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022-F93E-40E1-8D50-D1A865F5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A98-5E23-4B50-8662-C3348408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A16-8E00-4416-883E-4119A2F8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212-E097-49B3-8DE0-D1771117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2A3A-1074-4A8E-80FB-599C7457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AC98-05BF-4D57-A805-A2CB7959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F4B-B9CC-48B4-A8D6-656F2B33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A7E3-E627-46B0-8786-A52C6A9B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43AC-1363-4CC2-986E-25DFEEC6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F84-FACC-465D-A71E-9161FA47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166-05A7-4A73-8BFD-C6F5434C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7023-E94A-4C47-9797-15CAA323F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mailto:vescini@irreer.it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66600" y="4724280"/>
            <a:ext cx="9215280" cy="0"/>
          </a:xfrm>
          <a:prstGeom prst="line">
            <a:avLst/>
          </a:prstGeom>
          <a:ln w="57240">
            <a:solidFill>
              <a:srgbClr val="e48b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01520" y="4800600"/>
            <a:ext cx="9356760" cy="0"/>
          </a:xfrm>
          <a:prstGeom prst="line">
            <a:avLst/>
          </a:prstGeom>
          <a:ln w="57240">
            <a:solidFill>
              <a:srgbClr val="0c31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819440" y="3794040"/>
            <a:ext cx="2232000" cy="1728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76440" y="5465880"/>
            <a:ext cx="65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3183"/>
                </a:solidFill>
                <a:latin typeface="Verdana"/>
              </a:rPr>
              <a:t>Il progetto </a:t>
            </a:r>
            <a:r>
              <a:rPr b="1" lang="en-US" sz="2400" spc="-1" strike="noStrike">
                <a:solidFill>
                  <a:srgbClr val="0c3183"/>
                </a:solidFill>
                <a:latin typeface="Verdana"/>
              </a:rPr>
              <a:t>Scuola Digitale – Lavag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451640" y="6021360"/>
            <a:ext cx="142884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24000" y="5568840"/>
            <a:ext cx="1152360" cy="1092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c3183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c3183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it-IT" sz="2400" spc="-1" strike="noStrike">
                <a:solidFill>
                  <a:srgbClr val="fc0e14"/>
                </a:solidFill>
                <a:latin typeface="Arial"/>
              </a:rPr>
              <a:t>Fase 1 </a:t>
            </a:r>
            <a:br>
              <a:rPr sz="2400"/>
            </a:br>
            <a:r>
              <a:rPr b="1" lang="it-IT" sz="2400" spc="-1" strike="noStrike">
                <a:solidFill>
                  <a:srgbClr val="fc0e14"/>
                </a:solidFill>
                <a:latin typeface="Arial"/>
              </a:rPr>
              <a:t>La formazione metodologico-didattic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2400" spc="-1" strike="noStrike">
                <a:solidFill>
                  <a:srgbClr val="fc0e14"/>
                </a:solidFill>
                <a:latin typeface="Arial"/>
              </a:rPr>
              <a:t>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sire la capacità di </a:t>
            </a:r>
            <a:r>
              <a:rPr b="0" lang="en-US" sz="2000" spc="-1" strike="noStrike">
                <a:solidFill>
                  <a:srgbClr val="fc0e14"/>
                </a:solidFill>
                <a:latin typeface="Arial"/>
              </a:rPr>
              <a:t>pianificare attività didatti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dano l'integrazione della LI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er </a:t>
            </a:r>
            <a:r>
              <a:rPr b="0" lang="en-US" sz="2000" spc="-1" strike="noStrike">
                <a:solidFill>
                  <a:srgbClr val="fc0e14"/>
                </a:solidFill>
                <a:latin typeface="Arial"/>
              </a:rPr>
              <a:t>reperire ed utilizzare risor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strumenti digitali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la didattica in classe con la LIM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er </a:t>
            </a:r>
            <a:r>
              <a:rPr b="0" lang="en-US" sz="2000" spc="-1" strike="noStrike">
                <a:solidFill>
                  <a:srgbClr val="fc0e14"/>
                </a:solidFill>
                <a:latin typeface="Arial"/>
              </a:rPr>
              <a:t>integrare la LIM nella conduzione delle attività </a:t>
            </a:r>
            <a:br>
              <a:rPr sz="2000"/>
            </a:br>
            <a:r>
              <a:rPr b="0" lang="en-US" sz="2000" spc="-1" strike="noStrike">
                <a:solidFill>
                  <a:srgbClr val="fc0e14"/>
                </a:solidFill>
                <a:latin typeface="Arial"/>
              </a:rPr>
              <a:t>didatti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nelle interazioni con e tra gli studen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er individuare gli elementi di </a:t>
            </a:r>
            <a:r>
              <a:rPr b="0" lang="en-US" sz="2000" spc="-1" strike="noStrike">
                <a:solidFill>
                  <a:srgbClr val="fc0e14"/>
                </a:solidFill>
                <a:latin typeface="Arial"/>
              </a:rPr>
              <a:t>innovazi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le</a:t>
            </a:r>
            <a:r>
              <a:rPr b="0" lang="en-US" sz="2000" spc="-1" strike="noStrike">
                <a:solidFill>
                  <a:srgbClr val="e48b2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0e14"/>
                </a:solidFill>
                <a:latin typeface="Arial"/>
              </a:rPr>
              <a:t>criticit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000"/>
            </a:br>
            <a:r>
              <a:rPr b="0" lang="it-IT" sz="2000" spc="-1" strike="noStrike">
                <a:solidFill>
                  <a:srgbClr val="e48b21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e48b21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e48b21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2400" spc="-1" strike="noStrike">
                <a:solidFill>
                  <a:srgbClr val="fc0e14"/>
                </a:solidFill>
                <a:latin typeface="Arial"/>
              </a:rPr>
              <a:t>Fase 1 </a:t>
            </a:r>
            <a:br>
              <a:rPr sz="2400"/>
            </a:br>
            <a:r>
              <a:rPr b="1" lang="it-IT" sz="2400" spc="-1" strike="noStrike">
                <a:solidFill>
                  <a:srgbClr val="fc0e14"/>
                </a:solidFill>
                <a:latin typeface="Arial"/>
              </a:rPr>
              <a:t>La formazione metodologico-didattica </a:t>
            </a:r>
            <a:br>
              <a:rPr sz="2400"/>
            </a:br>
            <a:r>
              <a:rPr b="1" lang="it-IT" sz="2400" spc="-1" strike="noStrike">
                <a:solidFill>
                  <a:srgbClr val="fc0e14"/>
                </a:solidFill>
                <a:latin typeface="Arial"/>
              </a:rPr>
              <a:t>Modalità organizz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corsi di formazione inizieranno </a:t>
            </a:r>
            <a:r>
              <a:rPr b="0" lang="it-IT" sz="2000" spc="-1" strike="noStrike">
                <a:solidFill>
                  <a:srgbClr val="fc0e14"/>
                </a:solidFill>
                <a:latin typeface="Arial"/>
              </a:rPr>
              <a:t>novembre/dicembre 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ascun corso prevede </a:t>
            </a:r>
            <a:r>
              <a:rPr b="0" lang="it-IT" sz="2000" spc="-1" strike="noStrike">
                <a:solidFill>
                  <a:srgbClr val="fc0e14"/>
                </a:solidFill>
                <a:latin typeface="Arial"/>
              </a:rPr>
              <a:t>8 ore di attività d’aul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rticolate in una serie di incontri (2/3) e ore di </a:t>
            </a:r>
            <a:r>
              <a:rPr b="0" lang="it-IT" sz="2000" spc="-1" strike="noStrike">
                <a:solidFill>
                  <a:srgbClr val="fc0e14"/>
                </a:solidFill>
                <a:latin typeface="Arial"/>
              </a:rPr>
              <a:t>attività on li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con il supporto di un tutor, secondo un modello di formazione blen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li incontri in presenza si terranno presso </a:t>
            </a:r>
            <a:r>
              <a:rPr b="0" lang="it-IT" sz="2000" spc="-1" strike="noStrike">
                <a:solidFill>
                  <a:srgbClr val="fc0e14"/>
                </a:solidFill>
                <a:latin typeface="Arial"/>
              </a:rPr>
              <a:t>scuol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sponibili ad essere </a:t>
            </a:r>
            <a:r>
              <a:rPr b="0" lang="it-IT" sz="2000" spc="-1" strike="noStrike">
                <a:solidFill>
                  <a:srgbClr val="fc0e14"/>
                </a:solidFill>
                <a:latin typeface="Arial"/>
              </a:rPr>
              <a:t>sede di corsi di forma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it-IT" sz="2000" spc="-1" strike="noStrike">
                <a:solidFill>
                  <a:srgbClr val="fc0e14"/>
                </a:solidFill>
                <a:latin typeface="Arial"/>
              </a:rPr>
              <a:t> class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aranno formate in base a: numero dei docenti delle singole scuole, vicinanza territoriale alla sede di corso, marca di L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650960" y="1014480"/>
            <a:ext cx="7226280" cy="12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c0e14"/>
                </a:solidFill>
                <a:latin typeface="Arial"/>
              </a:rPr>
              <a:t>Fas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c0e14"/>
                </a:solidFill>
                <a:latin typeface="Arial"/>
              </a:rPr>
              <a:t>Sperimentazione e co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95800" y="3048120"/>
            <a:ext cx="28800" cy="3308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910880"/>
            <a:ext cx="831852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marL="343080" indent="-343080"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uccessivamente alla Fase 1, prenderà avvio la fase 2 di </a:t>
            </a:r>
            <a:r>
              <a:rPr b="0" lang="it-IT" sz="2400" spc="-1" strike="noStrike">
                <a:solidFill>
                  <a:srgbClr val="fc0e14"/>
                </a:solidFill>
                <a:latin typeface="Arial"/>
              </a:rPr>
              <a:t>sperimentazione in classe dei proget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mediante il supporto personalizzato del </a:t>
            </a:r>
            <a:r>
              <a:rPr b="0" lang="it-IT" sz="2400" spc="-1" strike="noStrike">
                <a:solidFill>
                  <a:srgbClr val="fc0e14"/>
                </a:solidFill>
                <a:latin typeface="Arial"/>
              </a:rPr>
              <a:t>coach</a:t>
            </a:r>
            <a:r>
              <a:rPr b="0" lang="it-IT" sz="2400" spc="-1" strike="noStrike">
                <a:solidFill>
                  <a:srgbClr val="0c3183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zioni di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ompagnamento e ascolto, supporto ai docenti nella progettazione, nella realizzazione e conduzione delle attività in classe, nella documentazione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ore on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classe di docenti sarà suddivisa in </a:t>
            </a:r>
            <a:r>
              <a:rPr b="0" lang="it-IT" sz="2400" spc="-1" strike="noStrike">
                <a:solidFill>
                  <a:srgbClr val="fc0e14"/>
                </a:solidFill>
                <a:latin typeface="Arial"/>
              </a:rPr>
              <a:t>sottogruppi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sso</a:t>
            </a:r>
            <a:r>
              <a:rPr b="0" lang="it-IT" sz="2400" spc="-1" strike="noStrike">
                <a:solidFill>
                  <a:srgbClr val="fc0e14"/>
                </a:solidFill>
                <a:latin typeface="Arial"/>
              </a:rPr>
              <a:t> scuole pol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; per ogni classe il coach effettuerà </a:t>
            </a:r>
            <a:r>
              <a:rPr b="0" lang="it-IT" sz="2400" spc="-1" strike="noStrike">
                <a:solidFill>
                  <a:srgbClr val="fc0e14"/>
                </a:solidFill>
                <a:latin typeface="Arial"/>
              </a:rPr>
              <a:t>16 o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interv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43200" y="139680"/>
            <a:ext cx="550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007480" y="828720"/>
            <a:ext cx="1098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marL="355680" indent="-355680" algn="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c3183"/>
                </a:solidFill>
                <a:latin typeface="Verdana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407960"/>
            <a:ext cx="9144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e14"/>
                </a:solidFill>
                <a:latin typeface="Arial"/>
              </a:rPr>
              <a:t>Il monitor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239920"/>
            <a:ext cx="91440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’ prevista un’attività di monitoragg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 percorso di form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di adozione della lavagna digit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coinvolgerà </a:t>
            </a:r>
            <a:r>
              <a:rPr b="0" lang="en-US" sz="2400" spc="-1" strike="noStrike">
                <a:solidFill>
                  <a:srgbClr val="fc0e14"/>
                </a:solidFill>
                <a:latin typeface="Arial"/>
              </a:rPr>
              <a:t>i corsisti, i tut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e14"/>
                </a:solidFill>
                <a:latin typeface="Arial"/>
              </a:rPr>
              <a:t>i referenti dei Nuclei region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 rot="613800">
            <a:off x="6781320" y="4241880"/>
            <a:ext cx="1366920" cy="1666800"/>
          </a:xfrm>
          <a:prstGeom prst="rect">
            <a:avLst/>
          </a:prstGeom>
          <a:ln w="6480">
            <a:solidFill>
              <a:srgbClr val="66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27" name=""/>
          <p:cNvSpPr/>
          <p:nvPr/>
        </p:nvSpPr>
        <p:spPr>
          <a:xfrm>
            <a:off x="3643200" y="139680"/>
            <a:ext cx="550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07480" y="828720"/>
            <a:ext cx="1098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marL="355680" indent="-355680" algn="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c3183"/>
                </a:solidFill>
                <a:latin typeface="Verdana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2940120" y="950760"/>
            <a:ext cx="3917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c0e14"/>
                </a:solidFill>
                <a:latin typeface="Verdana"/>
              </a:rPr>
              <a:t>Processo di ado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36"/>
          <p:cNvGrpSpPr/>
          <p:nvPr/>
        </p:nvGrpSpPr>
        <p:grpSpPr>
          <a:xfrm>
            <a:off x="0" y="6032520"/>
            <a:ext cx="9144000" cy="812880"/>
            <a:chOff x="0" y="6032520"/>
            <a:chExt cx="9144000" cy="812880"/>
          </a:xfrm>
        </p:grpSpPr>
        <p:sp>
          <p:nvSpPr>
            <p:cNvPr id="131" name="Rectangle 27"/>
            <p:cNvSpPr/>
            <p:nvPr/>
          </p:nvSpPr>
          <p:spPr>
            <a:xfrm>
              <a:off x="0" y="6058080"/>
              <a:ext cx="9144000" cy="787320"/>
            </a:xfrm>
            <a:prstGeom prst="rect">
              <a:avLst/>
            </a:prstGeom>
            <a:solidFill>
              <a:srgbClr val="ffff9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0" rIns="360000" tIns="360000" bIns="36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5"/>
            <p:cNvSpPr/>
            <p:nvPr/>
          </p:nvSpPr>
          <p:spPr>
            <a:xfrm>
              <a:off x="0" y="6032520"/>
              <a:ext cx="91440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-360000" bIns="-36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3"/>
            <p:cNvSpPr/>
            <p:nvPr/>
          </p:nvSpPr>
          <p:spPr>
            <a:xfrm>
              <a:off x="3278160" y="6270840"/>
              <a:ext cx="556092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Verdana"/>
                </a:rPr>
                <a:t>Superamento delle barriere all’utilizzo</a:t>
              </a:r>
              <a:br>
                <a:rPr sz="2000"/>
              </a:br>
              <a:r>
                <a:rPr b="0" i="1" lang="en-GB" sz="1600" spc="-1" strike="noStrike">
                  <a:solidFill>
                    <a:srgbClr val="ff0000"/>
                  </a:solidFill>
                  <a:latin typeface="Verdana"/>
                </a:rPr>
                <a:t>(breve period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37"/>
          <p:cNvGrpSpPr/>
          <p:nvPr/>
        </p:nvGrpSpPr>
        <p:grpSpPr>
          <a:xfrm>
            <a:off x="0" y="3149640"/>
            <a:ext cx="9144000" cy="2857320"/>
            <a:chOff x="0" y="3149640"/>
            <a:chExt cx="9144000" cy="2857320"/>
          </a:xfrm>
        </p:grpSpPr>
        <p:sp>
          <p:nvSpPr>
            <p:cNvPr id="135" name="Rectangle 28"/>
            <p:cNvSpPr/>
            <p:nvPr/>
          </p:nvSpPr>
          <p:spPr>
            <a:xfrm>
              <a:off x="0" y="3174840"/>
              <a:ext cx="9144000" cy="2832120"/>
            </a:xfrm>
            <a:prstGeom prst="rect">
              <a:avLst/>
            </a:prstGeom>
            <a:solidFill>
              <a:srgbClr val="cc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0" rIns="360000" tIns="360000" bIns="360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6"/>
            <p:cNvSpPr/>
            <p:nvPr/>
          </p:nvSpPr>
          <p:spPr>
            <a:xfrm>
              <a:off x="0" y="3149640"/>
              <a:ext cx="91440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-360000" bIns="-36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4"/>
            <p:cNvSpPr/>
            <p:nvPr/>
          </p:nvSpPr>
          <p:spPr>
            <a:xfrm>
              <a:off x="3583080" y="4848120"/>
              <a:ext cx="556092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Verdana"/>
                </a:rPr>
                <a:t>Integrazione nella didattica ordinaria</a:t>
              </a:r>
              <a:br>
                <a:rPr sz="2000"/>
              </a:br>
              <a:r>
                <a:rPr b="0" i="1" lang="en-GB" sz="1600" spc="-1" strike="noStrike">
                  <a:solidFill>
                    <a:srgbClr val="ff0000"/>
                  </a:solidFill>
                  <a:latin typeface="Verdana"/>
                </a:rPr>
                <a:t>(medio period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39"/>
          <p:cNvGrpSpPr/>
          <p:nvPr/>
        </p:nvGrpSpPr>
        <p:grpSpPr>
          <a:xfrm>
            <a:off x="0" y="1752480"/>
            <a:ext cx="9144000" cy="1371600"/>
            <a:chOff x="0" y="1752480"/>
            <a:chExt cx="9144000" cy="1371600"/>
          </a:xfrm>
        </p:grpSpPr>
        <p:sp>
          <p:nvSpPr>
            <p:cNvPr id="139" name="Rectangle 29"/>
            <p:cNvSpPr/>
            <p:nvPr/>
          </p:nvSpPr>
          <p:spPr>
            <a:xfrm>
              <a:off x="0" y="1752480"/>
              <a:ext cx="9144000" cy="1371600"/>
            </a:xfrm>
            <a:prstGeom prst="rect">
              <a:avLst/>
            </a:prstGeom>
            <a:solidFill>
              <a:srgbClr val="ffcc9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0" rIns="360000" tIns="360000" bIns="360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5"/>
            <p:cNvSpPr/>
            <p:nvPr/>
          </p:nvSpPr>
          <p:spPr>
            <a:xfrm>
              <a:off x="217440" y="2206800"/>
              <a:ext cx="556092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Verdana"/>
                </a:rPr>
                <a:t>Sviluppo del potenziale innovativo</a:t>
              </a:r>
              <a:br>
                <a:rPr sz="2000"/>
              </a:br>
              <a:r>
                <a:rPr b="0" i="1" lang="en-GB" sz="1600" spc="-1" strike="noStrike">
                  <a:solidFill>
                    <a:srgbClr val="ff0000"/>
                  </a:solidFill>
                  <a:latin typeface="Verdana"/>
                </a:rPr>
                <a:t>(lungo period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5"/>
          <p:cNvSpPr/>
          <p:nvPr/>
        </p:nvSpPr>
        <p:spPr>
          <a:xfrm>
            <a:off x="2533680" y="481320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iliz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491160" y="186228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olu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7716600" y="1285920"/>
            <a:ext cx="135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nov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215680" y="2654280"/>
            <a:ext cx="150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pens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45680" y="5533920"/>
            <a:ext cx="17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amiliarizz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3038040" y="4094280"/>
            <a:ext cx="138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tt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3826080" y="330192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ropri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1378080" y="6039000"/>
            <a:ext cx="108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 flipV="1">
            <a:off x="1378080" y="6038640"/>
            <a:ext cx="0" cy="71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2457360" y="5318280"/>
            <a:ext cx="108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5"/>
          <p:cNvSpPr/>
          <p:nvPr/>
        </p:nvSpPr>
        <p:spPr>
          <a:xfrm>
            <a:off x="3538440" y="4599000"/>
            <a:ext cx="108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 flipV="1">
            <a:off x="3538440" y="4599000"/>
            <a:ext cx="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4616280" y="3878280"/>
            <a:ext cx="108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8"/>
          <p:cNvSpPr/>
          <p:nvPr/>
        </p:nvSpPr>
        <p:spPr>
          <a:xfrm>
            <a:off x="5697360" y="3159000"/>
            <a:ext cx="1081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 flipV="1">
            <a:off x="5697360" y="3159000"/>
            <a:ext cx="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"/>
          <p:cNvSpPr/>
          <p:nvPr/>
        </p:nvSpPr>
        <p:spPr>
          <a:xfrm>
            <a:off x="6777000" y="2438280"/>
            <a:ext cx="108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1"/>
          <p:cNvSpPr/>
          <p:nvPr/>
        </p:nvSpPr>
        <p:spPr>
          <a:xfrm>
            <a:off x="7858080" y="1719360"/>
            <a:ext cx="108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2"/>
          <p:cNvSpPr/>
          <p:nvPr/>
        </p:nvSpPr>
        <p:spPr>
          <a:xfrm flipV="1">
            <a:off x="7858080" y="1719000"/>
            <a:ext cx="0" cy="71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3"/>
          <p:cNvSpPr/>
          <p:nvPr/>
        </p:nvSpPr>
        <p:spPr>
          <a:xfrm flipV="1">
            <a:off x="2457360" y="5317920"/>
            <a:ext cx="0" cy="71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4"/>
          <p:cNvSpPr/>
          <p:nvPr/>
        </p:nvSpPr>
        <p:spPr>
          <a:xfrm flipV="1">
            <a:off x="4618080" y="3879720"/>
            <a:ext cx="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5"/>
          <p:cNvSpPr/>
          <p:nvPr/>
        </p:nvSpPr>
        <p:spPr>
          <a:xfrm flipV="1">
            <a:off x="6778800" y="2439720"/>
            <a:ext cx="0" cy="71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68040" y="6326280"/>
            <a:ext cx="13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utiliz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laudia Vescini – Referente LIM per il Nucleo regionale ex IRRE E.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escini@irreer.it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el. 051-37853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68280" y="3621240"/>
            <a:ext cx="87757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a lavagna digitale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 l’insegnamento/apprendimento delle </a:t>
            </a:r>
            <a:r>
              <a:rPr b="1" lang="en-GB" sz="2000" spc="-1" strike="noStrike">
                <a:solidFill>
                  <a:srgbClr val="fc0e14"/>
                </a:solidFill>
                <a:latin typeface="Arial"/>
              </a:rPr>
              <a:t>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 integrare</a:t>
            </a: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c0e14"/>
                </a:solidFill>
                <a:latin typeface="Arial"/>
              </a:rPr>
              <a:t>in clas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ella pratica quoti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 favorire un ambiente di apprendimento </a:t>
            </a:r>
            <a:r>
              <a:rPr b="1" lang="en-GB" sz="2000" spc="-1" strike="noStrike">
                <a:solidFill>
                  <a:srgbClr val="fc0e14"/>
                </a:solidFill>
                <a:latin typeface="Arial"/>
              </a:rPr>
              <a:t>inclu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 facilitare la partecipazione degli alunni alla </a:t>
            </a:r>
            <a:r>
              <a:rPr b="1" lang="en-GB" sz="2000" spc="-1" strike="noStrike">
                <a:solidFill>
                  <a:srgbClr val="fc0e14"/>
                </a:solidFill>
                <a:latin typeface="Arial"/>
              </a:rPr>
              <a:t>costruzione della conosc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14520" y="849240"/>
            <a:ext cx="762948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fc0e14"/>
                </a:solidFill>
                <a:latin typeface="Arial"/>
              </a:rPr>
              <a:t>Una tecnologia a misura di c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29200" y="1604880"/>
            <a:ext cx="3730680" cy="2490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2120" y="4888080"/>
            <a:ext cx="865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 la lavagna digitale le nuove tecnologie entrano a far parte della </a:t>
            </a:r>
            <a:r>
              <a:rPr b="1" lang="en-GB" sz="2000" spc="-1" strike="noStrike">
                <a:solidFill>
                  <a:srgbClr val="fc0e14"/>
                </a:solidFill>
                <a:latin typeface="Arial"/>
              </a:rPr>
              <a:t>normale attività curricola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 non sono più relegate ad u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ngolo ambito disciplinare</a:t>
            </a:r>
            <a:r>
              <a:rPr b="1" lang="en-GB" sz="2000" spc="-1" strike="noStrike">
                <a:solidFill>
                  <a:srgbClr val="e48b2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s. Informatica) o ad una</a:t>
            </a: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la specifica “separata”</a:t>
            </a: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s. laboratorio di informat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64280" y="1820880"/>
            <a:ext cx="3109680" cy="2954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14520" y="849240"/>
            <a:ext cx="762948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fc0e14"/>
                </a:solidFill>
                <a:latin typeface="Arial"/>
              </a:rPr>
              <a:t>Una tecnologia a misura di c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019160" y="1865160"/>
            <a:ext cx="3271680" cy="290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771640" y="90792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c3183"/>
                </a:solidFill>
                <a:latin typeface="Calibri"/>
                <a:ea typeface="Lucida Sans Unicode"/>
              </a:rPr>
              <a:t> </a:t>
            </a:r>
            <a:r>
              <a:rPr b="1" lang="en-GB" sz="2800" spc="-1" strike="noStrike">
                <a:solidFill>
                  <a:srgbClr val="fc0e14"/>
                </a:solidFill>
                <a:latin typeface="Arial"/>
                <a:ea typeface="Lucida Sans Unicode"/>
              </a:rPr>
              <a:t>La lavagna digita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39680" y="2351160"/>
            <a:ext cx="5112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08280" y="6242040"/>
            <a:ext cx="48736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Arial"/>
                <a:ea typeface="Lucida Sans Unicode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313320" y="2195640"/>
            <a:ext cx="2440080" cy="3833640"/>
            <a:chOff x="6313320" y="2195640"/>
            <a:chExt cx="2440080" cy="383364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6313320" y="2195640"/>
              <a:ext cx="2440080" cy="183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6313320" y="4200840"/>
              <a:ext cx="2434680" cy="182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"/>
          <p:cNvSpPr/>
          <p:nvPr/>
        </p:nvSpPr>
        <p:spPr>
          <a:xfrm>
            <a:off x="395280" y="2154240"/>
            <a:ext cx="5545080" cy="38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5000" bIns="45000" anchor="t">
            <a:spAutoFit/>
          </a:bodyPr>
          <a:p>
            <a:pPr algn="just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c4c4c"/>
                </a:solidFill>
                <a:latin typeface="Arial"/>
                <a:ea typeface="Lucida Sans Unicode"/>
              </a:rPr>
              <a:t>influisce positivament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ull‘ </a:t>
            </a:r>
            <a:r>
              <a:rPr b="1" lang="en-GB" sz="2000" spc="-1" strike="noStrike">
                <a:solidFill>
                  <a:srgbClr val="fc0e14"/>
                </a:solidFill>
                <a:latin typeface="Arial"/>
                <a:ea typeface="Lucida Sans Unicode"/>
              </a:rPr>
              <a:t>attenzione, la motivazione e</a:t>
            </a:r>
            <a:r>
              <a:rPr b="1" lang="en-GB" sz="2000" spc="-1" strike="noStrike">
                <a:solidFill>
                  <a:srgbClr val="ff6600"/>
                </a:solidFill>
                <a:latin typeface="Arial"/>
                <a:ea typeface="Lucida Sans Unicode"/>
              </a:rPr>
              <a:t> </a:t>
            </a:r>
            <a:r>
              <a:rPr b="1" lang="en-GB" sz="2000" spc="-1" strike="noStrike">
                <a:solidFill>
                  <a:srgbClr val="fc0e14"/>
                </a:solidFill>
                <a:latin typeface="Arial"/>
                <a:ea typeface="Lucida Sans Unicode"/>
              </a:rPr>
              <a:t>il coinvolgimento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  <a:ea typeface="Lucida Sans Unicode"/>
              </a:rPr>
              <a:t> degli studen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c4c4c"/>
                </a:solidFill>
                <a:latin typeface="Arial"/>
                <a:ea typeface="Lucida Sans Unicode"/>
              </a:rPr>
              <a:t>attraverso la multimedialità, </a:t>
            </a:r>
            <a:r>
              <a:rPr b="1" lang="en-GB" sz="2000" spc="-1" strike="noStrike">
                <a:solidFill>
                  <a:srgbClr val="fc0e14"/>
                </a:solidFill>
                <a:latin typeface="Arial"/>
                <a:ea typeface="Lucida Sans Unicode"/>
              </a:rPr>
              <a:t>migliora l'esposizione del doc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c0e14"/>
                </a:solidFill>
                <a:latin typeface="Arial"/>
                <a:ea typeface="Lucida Sans Unicode"/>
              </a:rPr>
              <a:t> </a:t>
            </a:r>
            <a:r>
              <a:rPr b="1" lang="en-GB" sz="2000" spc="-1" strike="noStrike">
                <a:solidFill>
                  <a:srgbClr val="fc0e14"/>
                </a:solidFill>
                <a:latin typeface="Arial"/>
                <a:ea typeface="Lucida Sans Unicode"/>
              </a:rPr>
              <a:t>incrementa le relazioni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  <a:ea typeface="Lucida Sans Unicode"/>
              </a:rPr>
              <a:t> tra studenti e docenti, supporta le discussioni, migliora la comunic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7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attraverso l'interattività, la possibilità di manipolare i contenuti, supporta la </a:t>
            </a:r>
            <a:r>
              <a:rPr b="1" lang="en-GB" sz="2000" spc="-1" strike="noStrike">
                <a:solidFill>
                  <a:srgbClr val="fc0e14"/>
                </a:solidFill>
                <a:latin typeface="Arial"/>
              </a:rPr>
              <a:t>partecipazione attiva</a:t>
            </a:r>
            <a:r>
              <a:rPr b="0" lang="en-GB" sz="2000" spc="-1" strike="noStrike">
                <a:solidFill>
                  <a:srgbClr val="4c4c4c"/>
                </a:solidFill>
                <a:latin typeface="Arial"/>
              </a:rPr>
              <a:t> degli studenti</a:t>
            </a:r>
            <a:r>
              <a:rPr b="0" lang="en-GB" sz="1800" spc="-1" strike="noStrike">
                <a:solidFill>
                  <a:srgbClr val="4c4c4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788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42920" y="1989000"/>
            <a:ext cx="763272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62080" indent="-262080" algn="just">
              <a:lnSpc>
                <a:spcPct val="100000"/>
              </a:lnSpc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tabLst>
                <a:tab algn="l" pos="0"/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  <a:ea typeface="Lucida Sans Unicode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uò essere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condizione d’innesco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er un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Lucida Sans Unicode"/>
              </a:rPr>
              <a:t> </a:t>
            </a:r>
            <a:r>
              <a:rPr b="1" lang="en-GB" sz="2000" spc="-1" strike="noStrike">
                <a:solidFill>
                  <a:srgbClr val="fc0e14"/>
                </a:solidFill>
                <a:latin typeface="Arial"/>
                <a:ea typeface="Lucida Sans Unicode"/>
              </a:rPr>
              <a:t>processo d’innovazione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he ha come obiettiv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Times New Roman"/>
              <a:buChar char="•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Lucida Sans Unicode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costruzione di un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Lucida Sans Unicode"/>
              </a:rPr>
              <a:t> </a:t>
            </a:r>
            <a:r>
              <a:rPr b="1" lang="en-GB" sz="2000" spc="-1" strike="noStrike">
                <a:solidFill>
                  <a:srgbClr val="fc0e14"/>
                </a:solidFill>
                <a:latin typeface="Arial"/>
                <a:ea typeface="Lucida Sans Unicode"/>
              </a:rPr>
              <a:t>ambiente di apprendimento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eguato alla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ocietà dell'informazione e della conoscenza</a:t>
            </a:r>
            <a:r>
              <a:rPr b="0" lang="en-GB" sz="2000" spc="-1" strike="noStrike">
                <a:solidFill>
                  <a:srgbClr val="fc0e14"/>
                </a:solidFill>
                <a:latin typeface="Arial"/>
                <a:ea typeface="Lucida Sans Unicode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buClr>
                <a:srgbClr val="000000"/>
              </a:buClr>
              <a:buFont typeface="Times New Roman"/>
              <a:buChar char="•"/>
              <a:tabLst>
                <a:tab algn="l" pos="26352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o sviluppo di una </a:t>
            </a:r>
            <a:r>
              <a:rPr b="1" lang="en-GB" sz="2000" spc="-1" strike="noStrike">
                <a:solidFill>
                  <a:srgbClr val="fc0e14"/>
                </a:solidFill>
                <a:latin typeface="Arial"/>
                <a:ea typeface="Lucida Sans Unicode"/>
              </a:rPr>
              <a:t>didattica  centrata sullo studen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e sui suoi bisogni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60480" y="1941480"/>
            <a:ext cx="49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c3183"/>
                </a:solidFill>
                <a:latin typeface="Calibri"/>
                <a:ea typeface="Lucida Sans Unicode"/>
              </a:rPr>
              <a:t> </a:t>
            </a:r>
            <a:r>
              <a:rPr b="1" lang="en-GB" sz="2800" spc="-1" strike="noStrike">
                <a:solidFill>
                  <a:srgbClr val="fc0e14"/>
                </a:solidFill>
                <a:latin typeface="Arial"/>
                <a:ea typeface="Lucida Sans Unicode"/>
              </a:rPr>
              <a:t>La lavagna digita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92720" y="6381720"/>
            <a:ext cx="352908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28840" y="4017960"/>
            <a:ext cx="70563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  <a:ea typeface="Lucida Sans Unicode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Questo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Lucida Sans Unicode"/>
              </a:rPr>
              <a:t> </a:t>
            </a:r>
            <a:r>
              <a:rPr b="1" lang="en-GB" sz="2000" spc="-1" strike="noStrike">
                <a:solidFill>
                  <a:srgbClr val="fc0e14"/>
                </a:solidFill>
                <a:latin typeface="Arial"/>
                <a:ea typeface="Lucida Sans Unicode"/>
              </a:rPr>
              <a:t>processo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uò essere influenzato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Lucida Sans Unicode"/>
              </a:rPr>
              <a:t> </a:t>
            </a:r>
            <a:r>
              <a:rPr b="1" lang="en-GB" sz="2000" spc="-1" strike="noStrike">
                <a:solidFill>
                  <a:srgbClr val="fc0e14"/>
                </a:solidFill>
                <a:latin typeface="Arial"/>
                <a:ea typeface="Lucida Sans Unicode"/>
              </a:rPr>
              <a:t>frequenza di utiliz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Lucida Sans Unicode"/>
              </a:rPr>
              <a:t>  </a:t>
            </a:r>
            <a:r>
              <a:rPr b="1" lang="en-GB" sz="2000" spc="-1" strike="noStrike">
                <a:solidFill>
                  <a:srgbClr val="fc0e14"/>
                </a:solidFill>
                <a:latin typeface="Arial"/>
                <a:ea typeface="Lucida Sans Unicode"/>
              </a:rPr>
              <a:t>formazione</a:t>
            </a:r>
            <a:r>
              <a:rPr b="0" lang="en-GB" sz="2000" spc="-1" strike="noStrike">
                <a:solidFill>
                  <a:srgbClr val="fc0e14"/>
                </a:solidFill>
                <a:latin typeface="Arial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he i docenti ricev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</a:t>
            </a:r>
            <a:r>
              <a:rPr b="1" lang="en-GB" sz="2000" spc="-1" strike="noStrike">
                <a:solidFill>
                  <a:srgbClr val="fc0e14"/>
                </a:solidFill>
                <a:latin typeface="Arial"/>
                <a:ea typeface="Lucida Sans Unicode"/>
              </a:rPr>
              <a:t>confidenz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che gli insegnanti maturano nell'utiliz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079960" y="901800"/>
            <a:ext cx="270360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4"/>
          <p:cNvSpPr/>
          <p:nvPr/>
        </p:nvSpPr>
        <p:spPr>
          <a:xfrm flipH="1">
            <a:off x="1653840" y="2349360"/>
            <a:ext cx="12600" cy="33372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23880" y="2200320"/>
            <a:ext cx="1123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Calibri"/>
                <a:ea typeface="Lucida Sans Unicode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844640" y="2185920"/>
            <a:ext cx="2235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c4c4c"/>
                </a:solidFill>
                <a:latin typeface="Calibri"/>
                <a:ea typeface="Lucida Sans Unicode"/>
              </a:rPr>
              <a:t>La lavagna digitale</a:t>
            </a:r>
            <a:br>
              <a:rPr sz="1800"/>
            </a:br>
            <a:r>
              <a:rPr b="0" lang="en-GB" sz="1800" spc="-1" strike="noStrike">
                <a:solidFill>
                  <a:srgbClr val="4c4c4c"/>
                </a:solidFill>
                <a:latin typeface="Calibri"/>
                <a:ea typeface="Lucida Sans Unicode"/>
              </a:rPr>
              <a:t>fa la sua compa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4c4c4c"/>
                </a:solidFill>
                <a:latin typeface="Calibri"/>
                <a:ea typeface="Lucida Sans Unicode"/>
              </a:rPr>
              <a:t>nelle scuole itali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5356080" y="4044960"/>
            <a:ext cx="2946600" cy="6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c0e14"/>
                </a:solidFill>
                <a:latin typeface="Calibri"/>
                <a:ea typeface="Lucida Sans Unicode"/>
              </a:rPr>
              <a:t>Sardegna, Sicilia, Calabria, Pugli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c0e14"/>
                </a:solidFill>
                <a:latin typeface="Calibri"/>
                <a:ea typeface="Lucida Sans Unicode"/>
              </a:rPr>
              <a:t>Basilicata, Abruzzo, Molise, Camp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igiscu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5356080" y="2328840"/>
            <a:ext cx="2921040" cy="8024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c0e14"/>
                </a:solidFill>
                <a:latin typeface="Calibri"/>
                <a:ea typeface="Lucida Sans Unicode"/>
              </a:rPr>
              <a:t>Lombar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avagna Interattiva Multimediale nella didatti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USR Lombar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343480" y="3273480"/>
            <a:ext cx="2946600" cy="6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c0e14"/>
                </a:solidFill>
                <a:latin typeface="Calibri"/>
                <a:ea typeface="Lucida Sans Unicode"/>
              </a:rPr>
              <a:t>Emilia Romag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choolSu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USP Bolog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5338800" y="1554120"/>
            <a:ext cx="2921040" cy="6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c0e14"/>
                </a:solidFill>
                <a:latin typeface="Calibri"/>
                <a:ea typeface="Lucida Sans Unicode"/>
              </a:rPr>
              <a:t>Trentino Alto Adi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LIM4DIDA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ovincia Autonoma di Tre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1325520" y="5732640"/>
            <a:ext cx="646200" cy="6728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1590840" y="2262240"/>
            <a:ext cx="152280" cy="1587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658800" y="5035680"/>
            <a:ext cx="7048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Calibri"/>
                <a:ea typeface="Lucida Sans Unicode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2965320" y="907920"/>
            <a:ext cx="589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c0e14"/>
                </a:solidFill>
                <a:latin typeface="Verdana"/>
                <a:ea typeface="ＭＳ Ｐゴシック"/>
              </a:rPr>
              <a:t>Lo scenario nazion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5351400" y="4818240"/>
            <a:ext cx="2959200" cy="80244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c0e14"/>
                </a:solidFill>
                <a:latin typeface="Calibri"/>
                <a:ea typeface="Lucida Sans Unicode"/>
              </a:rPr>
              <a:t>Innovascu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nnovascuola-Primaria (nazio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nnovascuola-Secondaria di I grado (8 regio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5343480" y="5797440"/>
            <a:ext cx="2984400" cy="6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c0e14"/>
                </a:solidFill>
                <a:latin typeface="Calibri"/>
                <a:ea typeface="Lucida Sans Unicode"/>
              </a:rPr>
              <a:t>Piano nazionale diffusione LIM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erritorio naz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IUR-AN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3925080" y="5686560"/>
            <a:ext cx="1528560" cy="9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360000" tIns="360000" bIns="36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28.000 L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397160" y="711000"/>
            <a:ext cx="754992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marL="355680" indent="-35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Le fasi del piano di form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010-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153040" y="5840280"/>
            <a:ext cx="3648240" cy="3193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36000" bIns="36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ase 2 - Sperimentazione assist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673520" y="5234040"/>
            <a:ext cx="4137120" cy="38088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36000" bIns="36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ase 1 - Formazione metodologico-didattic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095560" y="1486080"/>
            <a:ext cx="6743520" cy="4395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36000" bIns="36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hiesta di dotazioni tecnologiche tramite </a:t>
            </a:r>
            <a:r>
              <a:rPr b="1" lang="it-IT" sz="1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formulari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IUR online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465280" y="2144880"/>
            <a:ext cx="6367680" cy="4172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36000" bIns="36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zione dei</a:t>
            </a:r>
            <a:r>
              <a:rPr b="0" lang="it-IT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r>
              <a:rPr b="1" lang="it-IT" sz="1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P.O., formazione reti scuole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 assegnazione delle L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251160" y="3417840"/>
            <a:ext cx="5572080" cy="379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36000" bIns="36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Riapertura formulario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 aggiornamento dati doc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 flipH="1">
            <a:off x="2871720" y="2786040"/>
            <a:ext cx="5967360" cy="41760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36000" bIns="360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Acquisto e installazione</a:t>
            </a:r>
            <a:r>
              <a:rPr b="1" lang="it-IT" sz="1400" spc="-1" strike="noStrike">
                <a:solidFill>
                  <a:srgbClr val="e48b21"/>
                </a:solidFill>
                <a:latin typeface="Arial"/>
                <a:ea typeface="ＭＳ Ｐゴシック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le dotazioni tecnologi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 flipH="1">
            <a:off x="4190400" y="4624560"/>
            <a:ext cx="4606920" cy="37908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36000" bIns="36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Individuazione sedi di corso e formazione cla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 flipV="1">
            <a:off x="2141640" y="2006640"/>
            <a:ext cx="291960" cy="463680"/>
          </a:xfrm>
          <a:custGeom>
            <a:avLst/>
            <a:gdLst>
              <a:gd name="textAreaLeft" fmla="*/ 168120 w 291960"/>
              <a:gd name="textAreaRight" fmla="*/ 252000 w 291960"/>
              <a:gd name="textAreaTop" fmla="*/ 71280 h 463680"/>
              <a:gd name="textAreaBottom" fmla="*/ 189360 h 463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010" y="0"/>
                </a:lnTo>
                <a:lnTo>
                  <a:pt x="15010" y="3333"/>
                </a:lnTo>
                <a:lnTo>
                  <a:pt x="12427" y="3333"/>
                </a:lnTo>
                <a:cubicBezTo>
                  <a:pt x="5564" y="3333"/>
                  <a:pt x="0" y="7284"/>
                  <a:pt x="0" y="12158"/>
                </a:cubicBezTo>
                <a:lnTo>
                  <a:pt x="0" y="21600"/>
                </a:lnTo>
                <a:lnTo>
                  <a:pt x="5613" y="21600"/>
                </a:lnTo>
                <a:lnTo>
                  <a:pt x="5613" y="12158"/>
                </a:lnTo>
                <a:cubicBezTo>
                  <a:pt x="5613" y="10317"/>
                  <a:pt x="8664" y="8825"/>
                  <a:pt x="12427" y="8825"/>
                </a:cubicBezTo>
                <a:lnTo>
                  <a:pt x="15010" y="8825"/>
                </a:lnTo>
                <a:lnTo>
                  <a:pt x="15010" y="12158"/>
                </a:lnTo>
                <a:close/>
              </a:path>
            </a:pathLst>
          </a:custGeom>
          <a:solidFill>
            <a:srgbClr val="003399">
              <a:alpha val="6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6000" bIns="360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 flipH="1">
            <a:off x="3746520" y="4014720"/>
            <a:ext cx="5067360" cy="379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36000" bIns="36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Individuazione, selezione e formazione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u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5661000" y="6373800"/>
            <a:ext cx="3165480" cy="3189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36000" bIns="36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Monitoragg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 flipV="1">
            <a:off x="2509920" y="2628360"/>
            <a:ext cx="291960" cy="463320"/>
          </a:xfrm>
          <a:custGeom>
            <a:avLst/>
            <a:gdLst>
              <a:gd name="textAreaLeft" fmla="*/ 168120 w 291960"/>
              <a:gd name="textAreaRight" fmla="*/ 252000 w 291960"/>
              <a:gd name="textAreaTop" fmla="*/ 70920 h 463320"/>
              <a:gd name="textAreaBottom" fmla="*/ 189000 h 463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010" y="0"/>
                </a:lnTo>
                <a:lnTo>
                  <a:pt x="15010" y="3333"/>
                </a:lnTo>
                <a:lnTo>
                  <a:pt x="12427" y="3333"/>
                </a:lnTo>
                <a:cubicBezTo>
                  <a:pt x="5564" y="3333"/>
                  <a:pt x="0" y="7284"/>
                  <a:pt x="0" y="12158"/>
                </a:cubicBezTo>
                <a:lnTo>
                  <a:pt x="0" y="21600"/>
                </a:lnTo>
                <a:lnTo>
                  <a:pt x="5613" y="21600"/>
                </a:lnTo>
                <a:lnTo>
                  <a:pt x="5613" y="12158"/>
                </a:lnTo>
                <a:cubicBezTo>
                  <a:pt x="5613" y="10317"/>
                  <a:pt x="8664" y="8825"/>
                  <a:pt x="12427" y="8825"/>
                </a:cubicBezTo>
                <a:lnTo>
                  <a:pt x="15010" y="8825"/>
                </a:lnTo>
                <a:lnTo>
                  <a:pt x="15010" y="12158"/>
                </a:lnTo>
                <a:close/>
              </a:path>
            </a:pathLst>
          </a:custGeom>
          <a:solidFill>
            <a:srgbClr val="003399">
              <a:alpha val="6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6000" bIns="360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 flipV="1">
            <a:off x="2890800" y="3301920"/>
            <a:ext cx="291960" cy="463680"/>
          </a:xfrm>
          <a:custGeom>
            <a:avLst/>
            <a:gdLst>
              <a:gd name="textAreaLeft" fmla="*/ 168120 w 291960"/>
              <a:gd name="textAreaRight" fmla="*/ 252000 w 291960"/>
              <a:gd name="textAreaTop" fmla="*/ 71280 h 463680"/>
              <a:gd name="textAreaBottom" fmla="*/ 189360 h 463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010" y="0"/>
                </a:lnTo>
                <a:lnTo>
                  <a:pt x="15010" y="3333"/>
                </a:lnTo>
                <a:lnTo>
                  <a:pt x="12427" y="3333"/>
                </a:lnTo>
                <a:cubicBezTo>
                  <a:pt x="5564" y="3333"/>
                  <a:pt x="0" y="7284"/>
                  <a:pt x="0" y="12158"/>
                </a:cubicBezTo>
                <a:lnTo>
                  <a:pt x="0" y="21600"/>
                </a:lnTo>
                <a:lnTo>
                  <a:pt x="5613" y="21600"/>
                </a:lnTo>
                <a:lnTo>
                  <a:pt x="5613" y="12158"/>
                </a:lnTo>
                <a:cubicBezTo>
                  <a:pt x="5613" y="10317"/>
                  <a:pt x="8664" y="8825"/>
                  <a:pt x="12427" y="8825"/>
                </a:cubicBezTo>
                <a:lnTo>
                  <a:pt x="15010" y="8825"/>
                </a:lnTo>
                <a:lnTo>
                  <a:pt x="15010" y="12158"/>
                </a:lnTo>
                <a:close/>
              </a:path>
            </a:pathLst>
          </a:custGeom>
          <a:solidFill>
            <a:srgbClr val="003399">
              <a:alpha val="6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6000" bIns="360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 flipV="1">
            <a:off x="3322800" y="3872880"/>
            <a:ext cx="291960" cy="463320"/>
          </a:xfrm>
          <a:custGeom>
            <a:avLst/>
            <a:gdLst>
              <a:gd name="textAreaLeft" fmla="*/ 168120 w 291960"/>
              <a:gd name="textAreaRight" fmla="*/ 252000 w 291960"/>
              <a:gd name="textAreaTop" fmla="*/ 70920 h 463320"/>
              <a:gd name="textAreaBottom" fmla="*/ 189000 h 463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010" y="0"/>
                </a:lnTo>
                <a:lnTo>
                  <a:pt x="15010" y="3333"/>
                </a:lnTo>
                <a:lnTo>
                  <a:pt x="12427" y="3333"/>
                </a:lnTo>
                <a:cubicBezTo>
                  <a:pt x="5564" y="3333"/>
                  <a:pt x="0" y="7284"/>
                  <a:pt x="0" y="12158"/>
                </a:cubicBezTo>
                <a:lnTo>
                  <a:pt x="0" y="21600"/>
                </a:lnTo>
                <a:lnTo>
                  <a:pt x="5613" y="21600"/>
                </a:lnTo>
                <a:lnTo>
                  <a:pt x="5613" y="12158"/>
                </a:lnTo>
                <a:cubicBezTo>
                  <a:pt x="5613" y="10317"/>
                  <a:pt x="8664" y="8825"/>
                  <a:pt x="12427" y="8825"/>
                </a:cubicBezTo>
                <a:lnTo>
                  <a:pt x="15010" y="8825"/>
                </a:lnTo>
                <a:lnTo>
                  <a:pt x="15010" y="12158"/>
                </a:lnTo>
                <a:close/>
              </a:path>
            </a:pathLst>
          </a:custGeom>
          <a:solidFill>
            <a:srgbClr val="003399">
              <a:alpha val="6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6000" bIns="360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 flipV="1">
            <a:off x="3817800" y="4483080"/>
            <a:ext cx="292320" cy="463680"/>
          </a:xfrm>
          <a:custGeom>
            <a:avLst/>
            <a:gdLst>
              <a:gd name="textAreaLeft" fmla="*/ 168120 w 292320"/>
              <a:gd name="textAreaRight" fmla="*/ 252000 w 292320"/>
              <a:gd name="textAreaTop" fmla="*/ 71280 h 463680"/>
              <a:gd name="textAreaBottom" fmla="*/ 189360 h 463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010" y="0"/>
                </a:lnTo>
                <a:lnTo>
                  <a:pt x="15010" y="3333"/>
                </a:lnTo>
                <a:lnTo>
                  <a:pt x="12427" y="3333"/>
                </a:lnTo>
                <a:cubicBezTo>
                  <a:pt x="5564" y="3333"/>
                  <a:pt x="0" y="7284"/>
                  <a:pt x="0" y="12158"/>
                </a:cubicBezTo>
                <a:lnTo>
                  <a:pt x="0" y="21600"/>
                </a:lnTo>
                <a:lnTo>
                  <a:pt x="5613" y="21600"/>
                </a:lnTo>
                <a:lnTo>
                  <a:pt x="5613" y="12158"/>
                </a:lnTo>
                <a:cubicBezTo>
                  <a:pt x="5613" y="10317"/>
                  <a:pt x="8664" y="8825"/>
                  <a:pt x="12427" y="8825"/>
                </a:cubicBezTo>
                <a:lnTo>
                  <a:pt x="15010" y="8825"/>
                </a:lnTo>
                <a:lnTo>
                  <a:pt x="15010" y="12158"/>
                </a:lnTo>
                <a:close/>
              </a:path>
            </a:pathLst>
          </a:custGeom>
          <a:solidFill>
            <a:srgbClr val="003399">
              <a:alpha val="6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6000" bIns="360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 flipV="1">
            <a:off x="4249800" y="5092560"/>
            <a:ext cx="291960" cy="463680"/>
          </a:xfrm>
          <a:custGeom>
            <a:avLst/>
            <a:gdLst>
              <a:gd name="textAreaLeft" fmla="*/ 168120 w 291960"/>
              <a:gd name="textAreaRight" fmla="*/ 252000 w 291960"/>
              <a:gd name="textAreaTop" fmla="*/ 71280 h 463680"/>
              <a:gd name="textAreaBottom" fmla="*/ 189360 h 463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010" y="0"/>
                </a:lnTo>
                <a:lnTo>
                  <a:pt x="15010" y="3333"/>
                </a:lnTo>
                <a:lnTo>
                  <a:pt x="12427" y="3333"/>
                </a:lnTo>
                <a:cubicBezTo>
                  <a:pt x="5564" y="3333"/>
                  <a:pt x="0" y="7284"/>
                  <a:pt x="0" y="12158"/>
                </a:cubicBezTo>
                <a:lnTo>
                  <a:pt x="0" y="21600"/>
                </a:lnTo>
                <a:lnTo>
                  <a:pt x="5613" y="21600"/>
                </a:lnTo>
                <a:lnTo>
                  <a:pt x="5613" y="12158"/>
                </a:lnTo>
                <a:cubicBezTo>
                  <a:pt x="5613" y="10317"/>
                  <a:pt x="8664" y="8825"/>
                  <a:pt x="12427" y="8825"/>
                </a:cubicBezTo>
                <a:lnTo>
                  <a:pt x="15010" y="8825"/>
                </a:lnTo>
                <a:lnTo>
                  <a:pt x="15010" y="12158"/>
                </a:lnTo>
                <a:close/>
              </a:path>
            </a:pathLst>
          </a:custGeom>
          <a:solidFill>
            <a:srgbClr val="003399">
              <a:alpha val="6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6000" bIns="360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 flipV="1">
            <a:off x="4732200" y="5676840"/>
            <a:ext cx="292320" cy="463680"/>
          </a:xfrm>
          <a:custGeom>
            <a:avLst/>
            <a:gdLst>
              <a:gd name="textAreaLeft" fmla="*/ 168120 w 292320"/>
              <a:gd name="textAreaRight" fmla="*/ 252000 w 292320"/>
              <a:gd name="textAreaTop" fmla="*/ 71280 h 463680"/>
              <a:gd name="textAreaBottom" fmla="*/ 189360 h 463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010" y="0"/>
                </a:lnTo>
                <a:lnTo>
                  <a:pt x="15010" y="3333"/>
                </a:lnTo>
                <a:lnTo>
                  <a:pt x="12427" y="3333"/>
                </a:lnTo>
                <a:cubicBezTo>
                  <a:pt x="5564" y="3333"/>
                  <a:pt x="0" y="7284"/>
                  <a:pt x="0" y="12158"/>
                </a:cubicBezTo>
                <a:lnTo>
                  <a:pt x="0" y="21600"/>
                </a:lnTo>
                <a:lnTo>
                  <a:pt x="5613" y="21600"/>
                </a:lnTo>
                <a:lnTo>
                  <a:pt x="5613" y="12158"/>
                </a:lnTo>
                <a:cubicBezTo>
                  <a:pt x="5613" y="10317"/>
                  <a:pt x="8664" y="8825"/>
                  <a:pt x="12427" y="8825"/>
                </a:cubicBezTo>
                <a:lnTo>
                  <a:pt x="15010" y="8825"/>
                </a:lnTo>
                <a:lnTo>
                  <a:pt x="15010" y="12158"/>
                </a:lnTo>
                <a:close/>
              </a:path>
            </a:pathLst>
          </a:custGeom>
          <a:solidFill>
            <a:srgbClr val="003399">
              <a:alpha val="6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6000" bIns="360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 flipV="1">
            <a:off x="5214960" y="6235560"/>
            <a:ext cx="291960" cy="463680"/>
          </a:xfrm>
          <a:custGeom>
            <a:avLst/>
            <a:gdLst>
              <a:gd name="textAreaLeft" fmla="*/ 168120 w 291960"/>
              <a:gd name="textAreaRight" fmla="*/ 252000 w 291960"/>
              <a:gd name="textAreaTop" fmla="*/ 71280 h 463680"/>
              <a:gd name="textAreaBottom" fmla="*/ 189360 h 4636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010" y="0"/>
                </a:lnTo>
                <a:lnTo>
                  <a:pt x="15010" y="3333"/>
                </a:lnTo>
                <a:lnTo>
                  <a:pt x="12427" y="3333"/>
                </a:lnTo>
                <a:cubicBezTo>
                  <a:pt x="5564" y="3333"/>
                  <a:pt x="0" y="7284"/>
                  <a:pt x="0" y="12158"/>
                </a:cubicBezTo>
                <a:lnTo>
                  <a:pt x="0" y="21600"/>
                </a:lnTo>
                <a:lnTo>
                  <a:pt x="5613" y="21600"/>
                </a:lnTo>
                <a:lnTo>
                  <a:pt x="5613" y="12158"/>
                </a:lnTo>
                <a:cubicBezTo>
                  <a:pt x="5613" y="10317"/>
                  <a:pt x="8664" y="8825"/>
                  <a:pt x="12427" y="8825"/>
                </a:cubicBezTo>
                <a:lnTo>
                  <a:pt x="15010" y="8825"/>
                </a:lnTo>
                <a:lnTo>
                  <a:pt x="15010" y="12158"/>
                </a:lnTo>
                <a:close/>
              </a:path>
            </a:pathLst>
          </a:custGeom>
          <a:solidFill>
            <a:srgbClr val="003399">
              <a:alpha val="60000"/>
            </a:srgbClr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36000" bIns="360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461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Nucleo regionale ex-IRRE E.R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leziona dei docenti aspiranti tutor dell’Emilia Romagna e delle March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orma i tutor selezionati, in collaborazione con ANSAS ex Indir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dividua le scuole sedi di corsi tra quelle che hanno dichiarato la loro disponibilità all’atto della domand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orma le classi associando i gruppi di docenti ai tutor e alle scuole sedi di cors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ttribuisce i corsi ai tutor tenendo della posizione in graduatoria e dell’appartenenza provinciale, previa formazione e contrat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tutor incaricato dall’Agenzia prende contatto con il dirigente scolastico della sede dei corsi a lui assegnati e concorda il calendario degli incontr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tolo 1"/>
          <p:cNvSpPr/>
          <p:nvPr/>
        </p:nvSpPr>
        <p:spPr>
          <a:xfrm>
            <a:off x="1866960" y="641520"/>
            <a:ext cx="706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e14"/>
                </a:solidFill>
                <a:latin typeface="Arial"/>
              </a:rPr>
              <a:t>Il flusso di lavoro per l’avvio dei corsi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79360" y="2533680"/>
            <a:ext cx="606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ilegiare docenti disponibili a sperimentare </a:t>
            </a:r>
            <a:r>
              <a:rPr b="0" lang="en-GB" sz="2000" spc="-1" strike="noStrike">
                <a:solidFill>
                  <a:srgbClr val="fc0e14"/>
                </a:solidFill>
                <a:latin typeface="Arial"/>
              </a:rPr>
              <a:t>percorsi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c0e14"/>
                </a:solidFill>
                <a:latin typeface="Arial"/>
              </a:rPr>
              <a:t>didattici innovativi</a:t>
            </a: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 l'uso della lavagna digi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327800" y="4613400"/>
            <a:ext cx="1420920" cy="1625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1" name=""/>
          <p:cNvSpPr/>
          <p:nvPr/>
        </p:nvSpPr>
        <p:spPr>
          <a:xfrm>
            <a:off x="264960" y="3794040"/>
            <a:ext cx="6837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are eventuali competenze acquisite dai docenti in </a:t>
            </a:r>
            <a:r>
              <a:rPr b="0" lang="en-GB" sz="2000" spc="-1" strike="noStrike">
                <a:solidFill>
                  <a:srgbClr val="fc0e14"/>
                </a:solidFill>
                <a:latin typeface="Arial"/>
              </a:rPr>
              <a:t>precedenti iniziative di formazione</a:t>
            </a: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olte a promuovere l'innovazione della scuola attraverso </a:t>
            </a:r>
            <a:r>
              <a:rPr b="0" lang="en-GB" sz="2000" spc="-1" strike="noStrike">
                <a:solidFill>
                  <a:srgbClr val="fc0e14"/>
                </a:solidFill>
                <a:latin typeface="Arial"/>
              </a:rPr>
              <a:t>l'uso delle nuove tec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 raccomanda di </a:t>
            </a:r>
            <a:r>
              <a:rPr b="1" lang="en-GB" sz="2000" spc="-1" strike="noStrike">
                <a:solidFill>
                  <a:srgbClr val="fc0e14"/>
                </a:solidFill>
                <a:latin typeface="Arial"/>
              </a:rPr>
              <a:t>N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cludere nella formazione metodologica personale ATA, referenti tecnici, responsabili dei laboratori informatici che potranno invece partecipare proficuamente al </a:t>
            </a:r>
            <a:r>
              <a:rPr b="0" i="1" lang="en-GB" sz="2000" spc="-1" strike="noStrike">
                <a:solidFill>
                  <a:srgbClr val="fc0e14"/>
                </a:solidFill>
                <a:latin typeface="Arial"/>
              </a:rPr>
              <a:t>training</a:t>
            </a:r>
            <a:r>
              <a:rPr b="0" lang="en-GB" sz="2000" spc="-1" strike="noStrike">
                <a:solidFill>
                  <a:srgbClr val="fc0e14"/>
                </a:solidFill>
                <a:latin typeface="Arial"/>
              </a:rPr>
              <a:t> tecnico-operativo</a:t>
            </a: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725480"/>
            <a:ext cx="8991720" cy="66528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l’individuazione dei docenti per la formazione si raccomanda d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529320" y="2273400"/>
            <a:ext cx="2158920" cy="1438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4" name=""/>
          <p:cNvSpPr/>
          <p:nvPr/>
        </p:nvSpPr>
        <p:spPr>
          <a:xfrm>
            <a:off x="1428840" y="568440"/>
            <a:ext cx="73594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c0e14"/>
                </a:solidFill>
                <a:latin typeface="Arial"/>
              </a:rPr>
              <a:t>Fas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c0e14"/>
                </a:solidFill>
                <a:latin typeface="Arial"/>
              </a:rPr>
              <a:t>La formazione metodologico-didat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c0e14"/>
                </a:solidFill>
                <a:latin typeface="Arial"/>
              </a:rPr>
              <a:t>Destinat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14:35:46Z</dcterms:created>
  <dc:creator>Anna</dc:creator>
  <dc:description/>
  <dc:language>en-US</dc:language>
  <cp:lastModifiedBy>Claudia Vescini</cp:lastModifiedBy>
  <cp:lastPrinted>2008-12-15T11:30:37Z</cp:lastPrinted>
  <dcterms:modified xsi:type="dcterms:W3CDTF">2010-10-13T14:34:53Z</dcterms:modified>
  <cp:revision>309</cp:revision>
  <dc:subject/>
  <dc:title>Diapositiva 1</dc:title>
</cp:coreProperties>
</file>