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F131-C3A0-4A94-B2D1-9F846A5320F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5E8E-0D20-4D7D-BAB3-43706F4DC3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8FE5-3C80-45A8-BDE4-154816028BD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057D-01B8-4E3C-8FDF-83992FA7E65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4AC8-D01E-4016-B50D-6367332850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EF38-C4E4-429B-9EA7-133B56D9BD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0D19-C481-4111-919D-C84FC80C1A2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F8E8-4F90-4DD5-AD88-2959CDD033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F085-33FA-4D71-9061-1676E93A77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0CD4-FB79-4981-A3D8-B20958A6271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23CE-07BC-49FE-B111-4BBE05AA2C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168-1464-4A67-B56D-27F90E91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1D6-D8C0-4E29-9C15-3F199F09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21E-C2E9-4A0C-8B04-7D5E4217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77E-121D-427D-8BBC-2020CC5F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478-8C3B-4D9A-A484-2EE4E792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A15-42D5-4080-8499-37D257A0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33A-B081-4E58-8261-D85606BC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E33-D2F7-4FBC-BCBB-343367AB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DCF-BD8B-4B8F-87A6-5E0F6E18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42A-68D3-472F-B5CF-4527EB7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2BE-DD4D-4CE8-AC0F-EF5D5104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0D8-37D3-4A11-B891-B2FF2966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9068-CC90-4DE8-8B5E-D0DE17568A0C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6729-8D41-41EE-B9EE-9F6D2CE4982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valsi.it/snv1011/scadenzario/index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valsi.it/snv1011/scadenzario/index.ph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valsi.it/snv1011/scadenzario/index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00000" y="1773360"/>
            <a:ext cx="71294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99"/>
                </a:solidFill>
                <a:latin typeface="Book Antiqua"/>
              </a:rPr>
              <a:t>Modalità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8"/>
          <p:cNvSpPr/>
          <p:nvPr/>
        </p:nvSpPr>
        <p:spPr>
          <a:xfrm>
            <a:off x="395280" y="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6699"/>
                </a:solidFill>
                <a:latin typeface="Book Antiqua"/>
              </a:rPr>
              <a:t>La somministrazione delle pr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6270-1965-4344-9924-2B6B5BFB48E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826920" y="26028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Contatti e numeri u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642960" y="1341360"/>
            <a:ext cx="8501040" cy="4740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L’INVALSI assicura a tutte le scuole i seguenti serviz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servizio </a:t>
            </a:r>
            <a:r>
              <a:rPr b="1" i="1" lang="it-IT" sz="1800" spc="-1" strike="noStrike">
                <a:solidFill>
                  <a:srgbClr val="000000"/>
                </a:solidFill>
                <a:latin typeface="Book Antiqua"/>
              </a:rPr>
              <a:t>FAQ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disponibile sul sito www.invalsi.it/snv1011/faq/step1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per accedere al modulo “Domande e Risposte” è necessario utilizzare il codice meccanografico dell’Istituzione scolastica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ssistenza via e-mail scrivendo a snv2010@invalsi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ssistenza telefonica 0694185 217-235-275-277-301-3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le linee sono attive dal lunedì al venerdì dalle ore 8.30-13.30 e dalle 14.30-16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4C2A-C175-4AC2-AC9F-60ECFBD12F8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85880" y="357120"/>
            <a:ext cx="68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Il disegno della rilevazione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2"/>
          <p:cNvSpPr/>
          <p:nvPr/>
        </p:nvSpPr>
        <p:spPr>
          <a:xfrm>
            <a:off x="826920" y="1413000"/>
            <a:ext cx="734544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la rilevazione è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censuaria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a livello di scuola e a livello di stu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l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dirigente scolastico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è responsabile del processo di svolgimento della prova nella su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11"/>
          <p:cNvSpPr/>
          <p:nvPr/>
        </p:nvSpPr>
        <p:spPr>
          <a:xfrm>
            <a:off x="642960" y="3714840"/>
            <a:ext cx="8429760" cy="166104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n alcune </a:t>
            </a:r>
            <a:r>
              <a:rPr b="1" lang="it-IT" sz="2000" spc="-1" strike="noStrike">
                <a:solidFill>
                  <a:srgbClr val="ff9900"/>
                </a:solidFill>
                <a:latin typeface="Book Antiqua"/>
              </a:rPr>
              <a:t>scuole camp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, individuate dall’INVALSI, la somministrazione delle prove avverrà alla presenza di un </a:t>
            </a:r>
            <a:r>
              <a:rPr b="1" lang="it-IT" sz="2000" spc="-1" strike="noStrike">
                <a:solidFill>
                  <a:srgbClr val="ff9900"/>
                </a:solidFill>
                <a:latin typeface="Book Antiqua"/>
              </a:rPr>
              <a:t>osservatore esterno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16.04.2011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: pubblicazione mediante modulo on-line ad accesso riservato delle classi campione  - attività 11A dello scadenzario: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http://www.invalsi.it/snv1011/scadenzario/index.php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egnaposto numero diapositiva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0EC7-BEBC-4AED-B7B0-753EB60246B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85880" y="357120"/>
            <a:ext cx="68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Il disegno della rilevazion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826920" y="1643040"/>
            <a:ext cx="78170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n ogni regione l’INVALSI estrae un campione rappresentativo di scuole (</a:t>
            </a:r>
            <a:r>
              <a:rPr b="1" i="1" lang="it-IT" sz="2000" spc="-1" strike="noStrike">
                <a:solidFill>
                  <a:srgbClr val="000000"/>
                </a:solidFill>
                <a:latin typeface="Book Antiqua"/>
              </a:rPr>
              <a:t>scuole camp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All’interno di ogni scuola campione sono estratte, di norma, due classi (</a:t>
            </a:r>
            <a:r>
              <a:rPr b="1" i="1" lang="it-IT" sz="2000" spc="-1" strike="noStrike">
                <a:solidFill>
                  <a:srgbClr val="000000"/>
                </a:solidFill>
                <a:latin typeface="Book Antiqua"/>
              </a:rPr>
              <a:t>classi camp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) in cui la somministrazione avviene alla presenza di un osservatore esterno, nominato dagli USR in collaborazione con l’INVA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l disegno campionario garantisce la rappresentatività regionale e, per la scuola secondaria superiore, anche della macrotipologia di indirizzo di studio (Licei, Istituti tecnici e profession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67EC-06B7-4036-8739-614D6C41C6C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sellaDiTesto 11"/>
          <p:cNvSpPr/>
          <p:nvPr/>
        </p:nvSpPr>
        <p:spPr>
          <a:xfrm>
            <a:off x="684360" y="981000"/>
            <a:ext cx="7632720" cy="65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Book Antiqua"/>
              </a:rPr>
              <a:t>Nella scuola secondaria di secondo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10 maggio 2011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er la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rova di 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Italiano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Matematica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e 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questionario studente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Book Antiqua"/>
              </a:rPr>
              <a:t>classe I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Book Antiqua"/>
              </a:rPr>
              <a:t>Nella scuola primaria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11 maggio 2011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er la prova di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 Italiano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Book Antiqua"/>
              </a:rPr>
              <a:t>classi II e V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nella classe </a:t>
            </a:r>
            <a:r>
              <a:rPr b="1" lang="it-IT" sz="1600" spc="-1" strike="noStrike">
                <a:solidFill>
                  <a:srgbClr val="006699"/>
                </a:solidFill>
                <a:latin typeface="Book Antiqua"/>
              </a:rPr>
              <a:t>II primaria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si svolgerà anche quest’anno la prova preliminare di lettura, ovvero una </a:t>
            </a:r>
            <a:r>
              <a:rPr b="1" lang="it-IT" sz="1600" spc="-1" strike="noStrike">
                <a:solidFill>
                  <a:srgbClr val="006699"/>
                </a:solidFill>
                <a:latin typeface="Book Antiqua"/>
              </a:rPr>
              <a:t>prova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della durata di pochi minuti per testare la capacità di lettura “strumentale” (decodifica) raggiunta da ciascun alu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13 maggio 2011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er la prova di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 Matematica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 Antiqua"/>
              </a:rPr>
              <a:t>classi II e V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nella classe </a:t>
            </a:r>
            <a:r>
              <a:rPr b="1" lang="it-IT" sz="1600" spc="-1" strike="noStrike">
                <a:solidFill>
                  <a:srgbClr val="006699"/>
                </a:solidFill>
                <a:latin typeface="Book Antiqua"/>
              </a:rPr>
              <a:t>V primaria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, dopo la prova di matematica, sarà somministrato anche un </a:t>
            </a:r>
            <a:r>
              <a:rPr b="1" lang="it-IT" sz="1600" spc="-1" strike="noStrike">
                <a:solidFill>
                  <a:srgbClr val="006699"/>
                </a:solidFill>
                <a:latin typeface="Book Antiqua"/>
              </a:rPr>
              <a:t>questionario stu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Book Antiqua"/>
              </a:rPr>
              <a:t>Nella scuola secondaria di primo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12 maggio 2011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er la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rova di 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Italiano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Matematica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e 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questionario studente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Book Antiqua"/>
              </a:rPr>
              <a:t>classe 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60680">
              <a:lnSpc>
                <a:spcPct val="100000"/>
              </a:lnSpc>
              <a:tabLst>
                <a:tab algn="l" pos="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826920" y="26028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Le date della rile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84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D92F-0E9C-4477-9FCE-C94309CBC4A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asellaDiTesto 11"/>
          <p:cNvSpPr/>
          <p:nvPr/>
        </p:nvSpPr>
        <p:spPr>
          <a:xfrm>
            <a:off x="611280" y="981000"/>
            <a:ext cx="8137440" cy="58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Gli insegnanti scelti dalla scuola sulla base delle indicazioni dell’INVALSI e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competenti per ambito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rovvedono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registrare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le risposte date dagli alunni alle domande chiuse delle 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Font typeface="Wingdings" charset="2"/>
              <a:buChar char="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correggere e codificare le risposte date dagli alunni alle domande aperte delle 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1199"/>
              </a:spcAft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er le class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Book Antiqua"/>
              </a:rPr>
              <a:t>NON CAMP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i risultati delle prove sono riportati sulle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schede-risposta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(stessa modalità della Prova nazionale), fornite dall’INVALSI insieme alle prove (si veda attività n. 7 dello scadenzario: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http://www.invalsi.it/snv1011/scadenzario/index.php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1199"/>
              </a:spcAft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fascicoli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compilati dagli alunni rimangono all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Le schede-risposta devono essere spedite all’indirizzo indicato dall’INVALSI che procede alla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lettura ottica dei 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826920" y="26028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La correzione delle 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93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A3EA-5D00-4591-8C91-B9AD739CD66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826920" y="260280"/>
            <a:ext cx="71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La correzione delle prove nelle </a:t>
            </a:r>
            <a:r>
              <a:rPr b="1" lang="it-IT" sz="2400" spc="-1" strike="noStrike">
                <a:solidFill>
                  <a:srgbClr val="ff0000"/>
                </a:solidFill>
                <a:latin typeface="Book Antiqua"/>
              </a:rPr>
              <a:t>scuole camp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01" name="CasellaDiTesto 11"/>
          <p:cNvSpPr/>
          <p:nvPr/>
        </p:nvSpPr>
        <p:spPr>
          <a:xfrm>
            <a:off x="928800" y="1285920"/>
            <a:ext cx="734364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Nelle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classi camp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i risultati delle prove saranno riportati su apposite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maschere elettroniche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dall’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osservatore esterno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secondo le modalità e i tempi indicati dall’INVALSI (si vedano attività 12 e 14 dello scadenzario: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http://www.invalsi.it/snv1011/scadenzario/index.php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Al termine dell’imputazione dei risultati l’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osservatore esterno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consegna alla segreteria della scuola le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maschere elettroniche  facendosene rilasciare una copia su fil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. La segreteria provvederà all’invio delle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maschere elettronich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all’indirizzo indicato dall’INVALSI (si veda l’attività 14 dello scadenzario: http://www.invalsi.it/snv1011/scadenzario/index.php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979A-FC08-4580-A049-26C4A5A7B10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42960" y="428760"/>
            <a:ext cx="767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La restituzione schede-risposta per le classi </a:t>
            </a:r>
            <a:r>
              <a:rPr b="1" lang="it-IT" sz="2000" spc="-1" strike="noStrike" u="sng">
                <a:solidFill>
                  <a:srgbClr val="ff0000"/>
                </a:solidFill>
                <a:uFillTx/>
                <a:latin typeface="Book Antiqua"/>
              </a:rPr>
              <a:t>NON CAMP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10" name="CasellaDiTesto 11"/>
          <p:cNvSpPr/>
          <p:nvPr/>
        </p:nvSpPr>
        <p:spPr>
          <a:xfrm>
            <a:off x="755640" y="1413000"/>
            <a:ext cx="770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000000"/>
                </a:solidFill>
                <a:uFillTx/>
                <a:latin typeface="Book Antiqua"/>
              </a:rPr>
              <a:t>SOLO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Book Antiqua"/>
              </a:rPr>
              <a:t> PER LE CLASSI NON CAMP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Le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schede-risposta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devono essere inviate all’indirizzo indicato dall’INVALSI a mezzo corriere (con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tracciatura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e senza spese per la scuola) secondo i tempi e i modi indicati nell’attività n. 15 dello scadenzario: http://www.invalsi.it/snv1011/scadenzario/index.ph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Periodo: 23.05.2011 – 04.06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Modalità: prenotazione del ritiro presso il corriere indicato dall’INVA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41B-574B-409F-A643-AE4E8495880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333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Lo scadenz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19" name="CasellaDiTesto 11"/>
          <p:cNvSpPr/>
          <p:nvPr/>
        </p:nvSpPr>
        <p:spPr>
          <a:xfrm>
            <a:off x="684360" y="1125360"/>
            <a:ext cx="8102520" cy="60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9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99"/>
                </a:solidFill>
                <a:latin typeface="Book Antiqua"/>
              </a:rPr>
              <a:t>Sul sito dell’INVALSI è pubblicato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 u="sng">
                <a:solidFill>
                  <a:srgbClr val="006699"/>
                </a:solidFill>
                <a:uFillTx/>
                <a:latin typeface="Book Antiqua"/>
              </a:rPr>
              <a:t>SCADENZARIO</a:t>
            </a:r>
            <a:r>
              <a:rPr b="1" lang="it-IT" sz="3600" spc="-1" strike="noStrike">
                <a:solidFill>
                  <a:srgbClr val="006699"/>
                </a:solidFill>
                <a:latin typeface="Book Antiqua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http://www.invalsi.it/snv1011/scadenzario/index.php </a:t>
            </a:r>
            <a:r>
              <a:rPr b="0" lang="it-IT" sz="3600" spc="-1" strike="noStrike">
                <a:solidFill>
                  <a:srgbClr val="000000"/>
                </a:solidFill>
                <a:latin typeface="Book Antiqua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99"/>
                </a:solidFill>
                <a:latin typeface="Book Antiqua"/>
              </a:rPr>
              <a:t>in cui ogni scuola può ritrovare le tappe principali della rilevazione SNV 2010-2011 con tutte le relative d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1A47-37DF-4F40-8170-A20B181226E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771640" y="6237360"/>
            <a:ext cx="352908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26920" y="333360"/>
            <a:ext cx="7531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Materiali e strumenti disponibili su www.invalsi.it</a:t>
            </a:r>
            <a:r>
              <a:rPr b="0" lang="it-IT" sz="2400" spc="-1" strike="noStrike">
                <a:solidFill>
                  <a:srgbClr val="00669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28" name="CasellaDiTesto 11"/>
          <p:cNvSpPr/>
          <p:nvPr/>
        </p:nvSpPr>
        <p:spPr>
          <a:xfrm>
            <a:off x="857160" y="1000080"/>
            <a:ext cx="7317000" cy="59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dal 28 febbraio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aggiornamento quadri di rife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esempi di prove per la scuola secondaria superi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dal 28 febbraio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agina ad accesso riservato per scaricare la maschera su  cui raccogliere i dati di cont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dal 7 marzo al 15 apr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Up-load dei dati di cont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dal 16.04.201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Manuali di somministrazione delle prove e istruzioni operative per la loro rea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entro l’inizio della formazione per i somminist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manuali d’istruzione per la somminist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dal giorno della pr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28584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manuali d’istruzione per la correzione delle pr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ABFA-0982-4223-9599-1A6174CAC5C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9:15:02Z</dcterms:created>
  <dc:creator>elvira pistoresi</dc:creator>
  <dc:description/>
  <dc:language>en-US</dc:language>
  <cp:lastModifiedBy>ROSS</cp:lastModifiedBy>
  <dcterms:modified xsi:type="dcterms:W3CDTF">2011-03-13T14:38:28Z</dcterms:modified>
  <cp:revision>311</cp:revision>
  <dc:subject/>
  <dc:title>SNV primaria</dc:title>
</cp:coreProperties>
</file>