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7C5F-29E0-47CD-A454-1C502C6FD2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88D3-85B2-4D8D-9E31-98B829A66A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F118-3FB4-4F93-999B-940334C86F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E170-8091-4F5C-A03F-FDF431E894A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 dati medi mostrano il punto di vista di coloro che hanno la responsabilità di governo della scu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l grafico mostra che nel nord (sia ovest che est) i risultati migliorano nel corso degli anni (anche tenendo conto che vanno confrontati gli intervalli e non i punti) mentre nel sud si verifica esattamente il contr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7C6A-4D95-4D23-A170-75DACD9455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l grafico mostra che nel nord (sia ovest che est) i risultati migliorano nel corso degli anni (anche tenendo conto che vanno confrontati gli intervalli e non i punti) mentre nel sud si verifica esattamente il contrario. Le differenze sembrano più accentuate in matematica che in ital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5B12-B1B1-4B8A-8058-895B4DB701E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0FC-1553-412A-9AE0-0CC0713493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a slide serve per fissare i due punti di vista  con i quali si leggono i risultati  e si costruisce un rapporto di scuola. A sinistra il punto di vista del collegio (governo della scuola) che analizza I dati complessivi. A destra l’analisi dei risultati delle classi e quindi le riflessioni dal punto di vista didattico. Entrambi I punti di vista concorrono al miglioramento degli apprend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E352-F380-4A9E-9D4A-029F0C8D3C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a è la pagina che si apre quando si inserisce il codice meccanografico della scuola e la password. In alto le analis complessive dei dati della scuola, in basso I risultati disaggregati delle singole class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lcune osservazioni: nella riga della scuola compare solo la media perché è calcolata su tutti gli studenti. Negli altri casi (regione,…) si è operato su dati del campione quindi si può calcolare solo una stima della media e si può solo affermare che la media vera (quella di tutti) sarà contenuta nell’intervallo compreso fra limite inferiore e limite superiore. I confronti vanno quindi fatti fra la media della scuola e gli intervalli dell’area. La scuola sarà meglio dell’area solo se la sua media supera il limite superiore dell’area e sarà peggio solo se la sua media è inferiore a quella dell’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l momento che confrontiamo i dati della scuola e quindi calcolati su tutti gli allievi si può fare un confronto diretto fra i valori medi perchè una media direttamente calcolata e non sti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Questo grafico rappresenta una fotografia dei risultati di un Istituto comprensivo in Emilia Romagna. In questo istituto si osserva un calo notevole dalla II alla V primaria e nonostante il recupero alla scuola secondaria i risultati sono al di sotto della media della macro-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0BA-243B-491E-9F38-61B2B428206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nche in matematica le osservazioni sono sostanzialmente le st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31D1-83B5-4685-B577-CC5CF953F1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D0BD-A4D1-4C9E-9AAA-71943AE0E2B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798B-73DE-4576-AB0D-C0EEA6BF024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Questo grafico mostra che 4 classi su 5 sono sotto la media italiana e della reg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E4A4-1B2B-4420-A949-213E847BB13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CDD-0BA6-44EA-916B-B0C2B13F3A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A4C-30CB-4F8E-B139-CB5BFC2CE99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C6B-F969-403F-8E9F-652DA38035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’ importante ricordare che i dati possono essere scaricati in formato excel. Sono più leggibili e possono essere ulteriormente elabo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F1D6-0256-4457-940B-8033845652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Questo grafico offre un colpo d’occhio immediato sulle aree di forza e di debolezza perché  la linea rossa rappresenta il dato nazionale e i dati di classe sono raggruppati per ambito (numeri, ….). Ad esempio vedo subito in quali quesiti la classe è stata sopra o sotto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E227-76FF-4912-9A4F-3BDB1D18C0C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Questa tabella è molto importante per l’insegnante perché gli consente di fare un’analisi sui distrattori nella sua classe. Quali sono stati i distrattori più “attraenti” ? Perché? Ci sono differenze con l’andamento della macroarea e con quello nazionale (questi dati si trovano nel rapporto nazionale scaricabile dal sito INVALSI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3BE-91F7-4D4C-AA86-B43335B6282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7154-A33A-472C-8A86-CC613BA051F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39DC-5B5C-47F6-9FE0-B9556E4513A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923-1FA7-4F54-8492-482C9AF8A0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arebbe bene ricordare che il rapporto nazionale SOLO  sulla base dei dati delle scuole campione in cui c’e’ l’osservatore esterno che provvede anche alla correzione. Che i dati relativi alle altre classi vengono restituiti unicamente alle scuole e agli insegnanti. Inoltre i fascicoli restano alla scuola per un utilizzo didattico da parte degli insegnanti e NON per essere messi in cassaforte. Gli insegnanti possono anche avere una copia delle schede da loro compilate sempre per usi didatti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E337-5619-4966-9B35-5F99E0969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E21-820A-47E7-91C0-B3837F0BD6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C0FE-0EEF-4482-9B79-DB6F95D8B6A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Questa si potrebbe anche eliminare a discrezione dell’esper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D3C-CF59-49EE-8BB6-520AC4FB620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nche questa può essere tranquillamente elimin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9214-46A5-4B5F-AB70-4F0AF57838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Questo grafico mostra che le prove del 2009 contenevano molte domande facili (Blu) in Italiano, mentre in matematica  nella scuola secondaria prevalevano i quesiti difficili (soprattutto in prima me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B02-B366-4246-A0A8-B82A81D3FD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431-2A37-418D-A373-A70595FC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FF6-259C-485E-B3E8-23306BEF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990-E2D1-4EFC-898B-7E381E0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451-78E2-4DC8-AA62-DA547D1C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893D-C862-445E-A966-9B65A4D9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ACF23-81C4-4855-B827-950A8DD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BBF56-A3C4-4AF4-95D6-9DDB976E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E4C43-FA95-4468-924C-DC2B16A9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B3B8C-5B37-46D3-897C-0D518DB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DC6F3-35A1-474A-94E4-01492BA3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1D374-0141-4CBD-BCF4-F346D23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751-5BB5-469A-B242-9266D4CD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2AEBA-2210-4556-9D0B-77471A9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9A7D5-8094-4EA8-8BEF-8C7FD8A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6B2A1-0866-4A17-99BE-174CA31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B4EE-5901-41CE-8C33-F99DDFCA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1D5F5-BFFC-4215-8F85-39B6CF43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77E-A03E-450B-B48A-488BC272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F27-9745-41F2-8EE9-80F92CB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A34-31C1-4AD0-B401-06F777C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2A3-8A63-46CB-8845-8289E294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421-E12B-4A0E-89D7-D33722B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A8A-F8E1-4F9A-A12B-69EC5F0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770-BE5D-4F9E-A70B-C2253EA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C4C4-B947-44B9-A60A-EB7DBA93DFCD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6F3-5664-4FD0-BBF8-E7A7FEACE5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874-A66B-48E8-AC6B-07DD690BEE35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C493-EEB2-4EA8-9CB7-2C5952F15E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3.xml"/><Relationship Id="rId4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1071720" y="2786040"/>
            <a:ext cx="7129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99"/>
                </a:solidFill>
                <a:latin typeface="Book Antiqua"/>
              </a:rPr>
              <a:t>La restituzione dei risultati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99"/>
                </a:solidFill>
                <a:latin typeface="Book Antiqua"/>
              </a:rPr>
              <a:t>al paese e a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F9A-3BAF-40C4-A022-8393101B62C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826920" y="26028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La restituzione dei risultati di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64" name="CasellaDiTesto 11"/>
          <p:cNvSpPr/>
          <p:nvPr/>
        </p:nvSpPr>
        <p:spPr>
          <a:xfrm>
            <a:off x="1143000" y="3143160"/>
            <a:ext cx="720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mparazioni con gli esiti del Paese o della reg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confronto degli esiti di classe e di scuola con quelli dell’intero Paese o della regione di apparten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mparazioni interne alla scuol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confronto degli esiti conseguiti da ciascuna classe con l’obiettivo di promuovere azioni di consolidamento e miglio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nfronti rispetto ai contenuti delle prov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analisi dei risultati di classe e di scuola su contenuti specifici delle p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714240" y="107172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A partire dalle prime settimane dell’anno scolastico successivo a quello della rilevazione (ottobre), l’INVALSI restituisce a ogni scuola in forma </a:t>
            </a:r>
            <a:r>
              <a:rPr b="1" lang="it-IT" sz="2000" spc="-1" strike="noStrike" u="sng">
                <a:solidFill>
                  <a:srgbClr val="006699"/>
                </a:solidFill>
                <a:uFillTx/>
                <a:latin typeface="Book Antiqua"/>
              </a:rPr>
              <a:t>ESCLUSIVA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 e </a:t>
            </a:r>
            <a:r>
              <a:rPr b="1" lang="it-IT" sz="2000" spc="-1" strike="noStrike" u="sng">
                <a:solidFill>
                  <a:srgbClr val="006699"/>
                </a:solidFill>
                <a:uFillTx/>
                <a:latin typeface="Book Antiqua"/>
              </a:rPr>
              <a:t>RISERVATA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 gli esiti degli allievi della scuola che hanno sostenuto le prove SNV. I dati di scuola consentono a ciascuna Istituzione scolastica di effettu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egnaposto numero diapositiva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6536-8AA9-4104-974C-29F61B5A2CB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0" y="404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risultati delle rilevazioni: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  <a:ea typeface="Arial"/>
              </a:rPr>
              <a:t>le possibili let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69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14"/>
          <p:cNvSpPr/>
          <p:nvPr/>
        </p:nvSpPr>
        <p:spPr>
          <a:xfrm>
            <a:off x="3924360" y="2276640"/>
            <a:ext cx="93672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755640" y="1341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 Antiqua"/>
              </a:rPr>
              <a:t>La lettura dei dati forniti dall’INVALSI può essere fatta da tre punti di osservazione tra loro complementari ma disti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826920" y="3068640"/>
            <a:ext cx="7848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punto di vista di coloro che hanno la responsabilità del “governo” del sistema educativo (decisori politici, amministratori e autorità scolastiche ai vari livel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punto di vista dei dirigenti scolastici e degli organismi d’indirizzo della scu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punto di vista degli insegnanti nella loro attività in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CD1-45CA-4A8E-B233-C84E84CEE1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75564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1. I risultati medi in Italia: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  <a:ea typeface="Arial"/>
              </a:rPr>
              <a:t>Ital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78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848720" cy="4638960"/>
          </a:xfrm>
          <a:prstGeom prst="rect">
            <a:avLst/>
          </a:prstGeom>
          <a:ln w="0">
            <a:noFill/>
          </a:ln>
        </p:spPr>
      </p:pic>
      <p:sp>
        <p:nvSpPr>
          <p:cNvPr id="18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E1DF-C596-4B18-88AB-03A531B1C0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5564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risultati medi in Italia: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  <a:ea typeface="Arial"/>
              </a:rPr>
              <a:t>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85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11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920000" cy="4710240"/>
          </a:xfrm>
          <a:prstGeom prst="rect">
            <a:avLst/>
          </a:prstGeom>
          <a:ln w="0">
            <a:noFill/>
          </a:ln>
        </p:spPr>
      </p:pic>
      <p:sp>
        <p:nvSpPr>
          <p:cNvPr id="188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66CB-DCDF-4D87-BAFB-034787B301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468360" y="260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dati di scuola e di classe: in sin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egnaposto numero diapositiva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749-9BB9-441F-8C36-C3450C7B87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3"/>
          <p:cNvSpPr/>
          <p:nvPr/>
        </p:nvSpPr>
        <p:spPr>
          <a:xfrm>
            <a:off x="1547640" y="1052640"/>
            <a:ext cx="56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Book Antiqua"/>
              </a:rPr>
              <a:t>Due punti di vista intrecciati fra lo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ttangolo 13"/>
          <p:cNvSpPr/>
          <p:nvPr/>
        </p:nvSpPr>
        <p:spPr>
          <a:xfrm>
            <a:off x="684360" y="1989000"/>
            <a:ext cx="302400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COLLE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Legge e riflette sui dati complessivi de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ttangolo 14"/>
          <p:cNvSpPr/>
          <p:nvPr/>
        </p:nvSpPr>
        <p:spPr>
          <a:xfrm>
            <a:off x="5651640" y="1989000"/>
            <a:ext cx="302400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CONSIGLIO DI CLASSE O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Legge e riflette sui dati relativi  all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ccia bidirezionale orizzontale 15"/>
          <p:cNvSpPr/>
          <p:nvPr/>
        </p:nvSpPr>
        <p:spPr>
          <a:xfrm>
            <a:off x="3778200" y="2421000"/>
            <a:ext cx="1800360" cy="64764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tangolo arrotondato 16"/>
          <p:cNvSpPr/>
          <p:nvPr/>
        </p:nvSpPr>
        <p:spPr>
          <a:xfrm>
            <a:off x="826920" y="4437000"/>
            <a:ext cx="266544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  <a:ea typeface="Arial"/>
              </a:rPr>
              <a:t>Riflessioni 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tangolo arrotondato 17"/>
          <p:cNvSpPr/>
          <p:nvPr/>
        </p:nvSpPr>
        <p:spPr>
          <a:xfrm>
            <a:off x="5867280" y="4437000"/>
            <a:ext cx="266544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  <a:ea typeface="Arial"/>
              </a:rPr>
              <a:t>Riflessioni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ccia in giù 18"/>
          <p:cNvSpPr/>
          <p:nvPr/>
        </p:nvSpPr>
        <p:spPr>
          <a:xfrm>
            <a:off x="1692360" y="3573360"/>
            <a:ext cx="576000" cy="792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ccia in giù 19"/>
          <p:cNvSpPr/>
          <p:nvPr/>
        </p:nvSpPr>
        <p:spPr>
          <a:xfrm>
            <a:off x="6875640" y="3573360"/>
            <a:ext cx="576000" cy="792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ccia angolare bidirezionale 20"/>
          <p:cNvSpPr/>
          <p:nvPr/>
        </p:nvSpPr>
        <p:spPr>
          <a:xfrm rot="5400000">
            <a:off x="1713240" y="5323680"/>
            <a:ext cx="892080" cy="934920"/>
          </a:xfrm>
          <a:custGeom>
            <a:avLst/>
            <a:gdLst>
              <a:gd name="textAreaLeft" fmla="*/ 111240 w 892080"/>
              <a:gd name="textAreaRight" fmla="*/ 669240 w 892080"/>
              <a:gd name="textAreaTop" fmla="*/ 600480 h 934920"/>
              <a:gd name="textAreaBottom" fmla="*/ 823680 h 934920"/>
            </a:gdLst>
            <a:ahLst/>
            <a:rect l="textAreaLeft" t="textAreaTop" r="textAreaRight" b="textAreaBottom"/>
            <a:pathLst>
              <a:path w="892175" h="935038">
                <a:moveTo>
                  <a:pt x="0" y="711994"/>
                </a:moveTo>
                <a:lnTo>
                  <a:pt x="223044" y="488951"/>
                </a:lnTo>
                <a:lnTo>
                  <a:pt x="223044" y="600472"/>
                </a:lnTo>
                <a:lnTo>
                  <a:pt x="557609" y="600472"/>
                </a:lnTo>
                <a:lnTo>
                  <a:pt x="557609" y="223044"/>
                </a:lnTo>
                <a:lnTo>
                  <a:pt x="446088" y="223044"/>
                </a:lnTo>
                <a:lnTo>
                  <a:pt x="669131" y="0"/>
                </a:lnTo>
                <a:lnTo>
                  <a:pt x="892175" y="223044"/>
                </a:lnTo>
                <a:lnTo>
                  <a:pt x="780653" y="223044"/>
                </a:lnTo>
                <a:lnTo>
                  <a:pt x="780653" y="823516"/>
                </a:lnTo>
                <a:lnTo>
                  <a:pt x="223044" y="823516"/>
                </a:lnTo>
                <a:lnTo>
                  <a:pt x="223044" y="935038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ccia angolare bidirezionale 21"/>
          <p:cNvSpPr/>
          <p:nvPr/>
        </p:nvSpPr>
        <p:spPr>
          <a:xfrm>
            <a:off x="6588000" y="5445000"/>
            <a:ext cx="936720" cy="792360"/>
          </a:xfrm>
          <a:custGeom>
            <a:avLst/>
            <a:gdLst>
              <a:gd name="textAreaLeft" fmla="*/ 99000 w 936720"/>
              <a:gd name="textAreaRight" fmla="*/ 738720 w 936720"/>
              <a:gd name="textAreaTop" fmla="*/ 495360 h 792360"/>
              <a:gd name="textAreaBottom" fmla="*/ 693360 h 792360"/>
            </a:gdLst>
            <a:ahLst/>
            <a:rect l="textAreaLeft" t="textAreaTop" r="textAreaRight" b="textAreaBottom"/>
            <a:pathLst>
              <a:path w="936625" h="792162">
                <a:moveTo>
                  <a:pt x="0" y="594122"/>
                </a:moveTo>
                <a:lnTo>
                  <a:pt x="198041" y="396081"/>
                </a:lnTo>
                <a:lnTo>
                  <a:pt x="198041" y="495101"/>
                </a:lnTo>
                <a:lnTo>
                  <a:pt x="639564" y="495101"/>
                </a:lnTo>
                <a:lnTo>
                  <a:pt x="639564" y="198041"/>
                </a:lnTo>
                <a:lnTo>
                  <a:pt x="540544" y="198041"/>
                </a:lnTo>
                <a:lnTo>
                  <a:pt x="738585" y="0"/>
                </a:lnTo>
                <a:lnTo>
                  <a:pt x="936625" y="198041"/>
                </a:lnTo>
                <a:lnTo>
                  <a:pt x="837605" y="198041"/>
                </a:lnTo>
                <a:lnTo>
                  <a:pt x="837605" y="693142"/>
                </a:lnTo>
                <a:lnTo>
                  <a:pt x="198041" y="693142"/>
                </a:lnTo>
                <a:lnTo>
                  <a:pt x="198041" y="792162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e 22"/>
          <p:cNvSpPr/>
          <p:nvPr/>
        </p:nvSpPr>
        <p:spPr>
          <a:xfrm>
            <a:off x="2771640" y="5300640"/>
            <a:ext cx="3672000" cy="12240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MIGLIORARE GLI APPRENDIMENTI DEGLI ALLI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55640" y="836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La schermata di accesso di una scuola: un 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 rot="16200000">
            <a:off x="-1770480" y="422676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ALSI - S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685800" y="1125360"/>
            <a:ext cx="8458200" cy="47912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6836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dati di scuola : dove si trov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egnaposto numero diapositiva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068-11EB-4C60-BA4E-CF9E6891AF6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971640" y="47628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La scuola rispetto agli standard locali e 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22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971640" y="1197000"/>
          <a:ext cx="7311960" cy="4876920"/>
        </p:xfrm>
        <a:graphic>
          <a:graphicData uri="http://schemas.openxmlformats.org/drawingml/2006/table">
            <a:tbl>
              <a:tblPr/>
              <a:tblGrid>
                <a:gridCol w="1195200"/>
                <a:gridCol w="1041480"/>
                <a:gridCol w="706320"/>
                <a:gridCol w="1122480"/>
                <a:gridCol w="1041480"/>
                <a:gridCol w="706320"/>
                <a:gridCol w="1498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ITALI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MATE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II Pri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Cen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It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V Pri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Cen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It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I Second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Cen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It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225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6270-E4D0-41BA-BD25-0E8A83619A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755640" y="404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 risultati delle cla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29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4"/>
          <p:cNvSpPr/>
          <p:nvPr/>
        </p:nvSpPr>
        <p:spPr>
          <a:xfrm>
            <a:off x="498492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2421000"/>
          <a:ext cx="7416720" cy="2682720"/>
        </p:xfrm>
        <a:graphic>
          <a:graphicData uri="http://schemas.openxmlformats.org/drawingml/2006/table">
            <a:tbl>
              <a:tblPr/>
              <a:tblGrid>
                <a:gridCol w="934920"/>
                <a:gridCol w="1168560"/>
                <a:gridCol w="782640"/>
                <a:gridCol w="1258920"/>
                <a:gridCol w="1168200"/>
                <a:gridCol w="782640"/>
                <a:gridCol w="13208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ITALI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MATEMA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80808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80808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80808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808080"/>
                          </a:solidFill>
                          <a:latin typeface="Book Antiqua"/>
                          <a:ea typeface="Times New Roman"/>
                        </a:rPr>
                        <a:t>Limite in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808080"/>
                          </a:solidFill>
                          <a:latin typeface="Book Antiqua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808080"/>
                          </a:solidFill>
                          <a:latin typeface="Book Antiqua"/>
                          <a:ea typeface="Times New Roman"/>
                        </a:rPr>
                        <a:t>Limite su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ass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ass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ass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asse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Scu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Laz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6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6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5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9900"/>
                          </a:solidFill>
                          <a:latin typeface="Book Antiqua"/>
                          <a:ea typeface="Times New Roman"/>
                        </a:rPr>
                        <a:t>5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33" name="Text Box 363"/>
          <p:cNvSpPr/>
          <p:nvPr/>
        </p:nvSpPr>
        <p:spPr>
          <a:xfrm>
            <a:off x="1995840" y="1844640"/>
            <a:ext cx="54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Book Antiqua"/>
              </a:rPr>
              <a:t>Risultati delle classi di I secondaria di 1°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DF6D-315B-497A-ABDE-2755BE05D5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"/>
          <p:cNvPicPr/>
          <p:nvPr/>
        </p:nvPicPr>
        <p:blipFill>
          <a:blip r:embed="rId45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36" name="CasellaDiTesto 10"/>
          <p:cNvSpPr/>
          <p:nvPr/>
        </p:nvSpPr>
        <p:spPr>
          <a:xfrm>
            <a:off x="900000" y="5516640"/>
            <a:ext cx="59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UOLA DI ROMA: risultati delle classi  di uno stesso livello scolastico di una scuola del La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38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6"/>
          <p:cNvSpPr/>
          <p:nvPr/>
        </p:nvSpPr>
        <p:spPr>
          <a:xfrm>
            <a:off x="395280" y="0"/>
            <a:ext cx="8388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dee e piste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nalisi  di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1A9-F4D0-4B4B-A0F7-FDFFE645F4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afico 8" descr=""/>
          <p:cNvPicPr/>
          <p:nvPr/>
        </p:nvPicPr>
        <p:blipFill>
          <a:blip r:embed="rId1"/>
          <a:stretch/>
        </p:blipFill>
        <p:spPr>
          <a:xfrm>
            <a:off x="895320" y="1122480"/>
            <a:ext cx="7785000" cy="527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45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"/>
          <p:cNvSpPr/>
          <p:nvPr/>
        </p:nvSpPr>
        <p:spPr>
          <a:xfrm>
            <a:off x="395280" y="0"/>
            <a:ext cx="8388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dee e piste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Analisi  di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6AB5-15E8-4871-AE18-138DB38B07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afico 9" descr=""/>
          <p:cNvPicPr/>
          <p:nvPr/>
        </p:nvPicPr>
        <p:blipFill>
          <a:blip r:embed="rId1"/>
          <a:stretch/>
        </p:blipFill>
        <p:spPr>
          <a:xfrm>
            <a:off x="749160" y="1189080"/>
            <a:ext cx="7858440" cy="541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11"/>
          <p:cNvSpPr/>
          <p:nvPr/>
        </p:nvSpPr>
        <p:spPr>
          <a:xfrm>
            <a:off x="90000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99"/>
                </a:solidFill>
                <a:latin typeface="Book Antiqua"/>
              </a:rPr>
              <a:t>La scansione temporale dell’entrata a regime delle Sistema di rile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5564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La scansione temporale delle rilev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00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7286760" cy="4143240"/>
          </a:xfrm>
          <a:prstGeom prst="rect">
            <a:avLst/>
          </a:prstGeom>
          <a:ln w="0">
            <a:noFill/>
          </a:ln>
        </p:spPr>
      </p:pic>
      <p:sp>
        <p:nvSpPr>
          <p:cNvPr id="103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EA4-5CDD-42FD-B2EC-555D45BE1D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tangolo 9"/>
          <p:cNvSpPr/>
          <p:nvPr/>
        </p:nvSpPr>
        <p:spPr>
          <a:xfrm>
            <a:off x="5867280" y="2997360"/>
            <a:ext cx="936720" cy="2952720"/>
          </a:xfrm>
          <a:prstGeom prst="rect">
            <a:avLst/>
          </a:prstGeom>
          <a:solidFill>
            <a:srgbClr val="ffcc66">
              <a:alpha val="5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Book Antiqua"/>
              </a:rPr>
              <a:t>Quali domande emergono dalla lettura di questi d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Book Antiqua"/>
              </a:rPr>
              <a:t>Quali ulteriori analisi si possono f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Book Antiqua"/>
              </a:rPr>
              <a:t>Ci sono differenze fra le clas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Book Antiqua"/>
              </a:rPr>
              <a:t>Quanto incide la presenza di alunni stranie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Book Antiqua"/>
              </a:rPr>
              <a:t>Ogni scuola dovrebbe cercare le risposte a queste domande  nella propria situazione specifica</a:t>
            </a: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53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8"/>
          <p:cNvSpPr/>
          <p:nvPr/>
        </p:nvSpPr>
        <p:spPr>
          <a:xfrm>
            <a:off x="75564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dee e piste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36B-6561-4547-9006-4894C921C6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5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59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75564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dee e piste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8AE7-0265-4CE9-865D-FC8A71694A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Grafico 8" descr=""/>
          <p:cNvPicPr/>
          <p:nvPr/>
        </p:nvPicPr>
        <p:blipFill>
          <a:blip r:embed="rId1"/>
          <a:stretch/>
        </p:blipFill>
        <p:spPr>
          <a:xfrm>
            <a:off x="1182600" y="1481040"/>
            <a:ext cx="7212240" cy="4505400"/>
          </a:xfrm>
          <a:prstGeom prst="rect">
            <a:avLst/>
          </a:prstGeom>
          <a:ln w="0">
            <a:noFill/>
          </a:ln>
        </p:spPr>
      </p:pic>
      <p:sp>
        <p:nvSpPr>
          <p:cNvPr id="264" name="CasellaDiTesto 9"/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i V: una situazione cr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539640" y="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</a:rPr>
              <a:t>Il rapporto di scuo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</a:rPr>
              <a:t>confrontarsi all’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68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1"/>
          <p:cNvSpPr/>
          <p:nvPr/>
        </p:nvSpPr>
        <p:spPr>
          <a:xfrm>
            <a:off x="755640" y="1197000"/>
            <a:ext cx="79200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Book Antiqua"/>
                <a:ea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Lucida Calligraphy"/>
                <a:ea typeface="Arial"/>
              </a:rPr>
              <a:t>Prima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La posizione della scuola per livello scolare rispetto alla media nazionale, dell’area geografica e della regione di apparten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La distribuzione degli alunni della scuola nei livelli di prestazione definiti sulla base del campione 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Significatività delle differenze e composizione della popolazione scolastica de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Prime ipotesi di interpret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18D-FC88-4CD8-B8FF-1B0DB5955D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7928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</a:rPr>
              <a:t>Il rapporto di scuola: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</a:rPr>
              <a:t>confrontarsi all’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275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1"/>
          <p:cNvSpPr/>
          <p:nvPr/>
        </p:nvSpPr>
        <p:spPr>
          <a:xfrm>
            <a:off x="755640" y="1268280"/>
            <a:ext cx="792000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Book Antiqua"/>
                <a:ea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Lucida Calligraphy"/>
                <a:ea typeface="Arial"/>
              </a:rPr>
              <a:t>Seconda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I risultati delle cla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Confronto tra valutazione esterna (prove INVALSI) e valutazione interna in Italiano e in Mate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I risultati delle prove INVALSI per sottogruppi della popolazione 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I risultati delle prove di Italiano e Matematica per sezione e/o ambito di conte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  <a:ea typeface="Arial"/>
              </a:rPr>
              <a:t>Punti di debolezza e punti di fo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855B-178C-449C-A61C-6599A9E95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611280" y="765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 risultati compless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4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920000" cy="5191200"/>
          </a:xfrm>
          <a:prstGeom prst="rect">
            <a:avLst/>
          </a:prstGeom>
          <a:ln w="0">
            <a:noFill/>
          </a:ln>
        </p:spPr>
      </p:pic>
      <p:sp>
        <p:nvSpPr>
          <p:cNvPr id="288" name="Segnaposto numero diapositiva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FD92-3D32-4AC8-B7C8-30885A9BFD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39640" y="26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dati di scuola (2): di una singol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6"/>
          <p:cNvSpPr/>
          <p:nvPr/>
        </p:nvSpPr>
        <p:spPr>
          <a:xfrm>
            <a:off x="1643040" y="251316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Nazion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Regolarità (del perco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S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Dettaglio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asellaDiTesto 9"/>
          <p:cNvSpPr/>
          <p:nvPr/>
        </p:nvSpPr>
        <p:spPr>
          <a:xfrm>
            <a:off x="928800" y="1824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ivello di articolazione dei risult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539640" y="26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dati di scuola (2): di una singol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numero diapositiva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E262-73BA-40FB-B070-92DD4D96CB1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301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Grafico 8" descr=""/>
          <p:cNvPicPr/>
          <p:nvPr/>
        </p:nvPicPr>
        <p:blipFill>
          <a:blip r:embed="rId1"/>
          <a:stretch/>
        </p:blipFill>
        <p:spPr>
          <a:xfrm>
            <a:off x="-66600" y="1011240"/>
            <a:ext cx="8656560" cy="5859360"/>
          </a:xfrm>
          <a:prstGeom prst="rect">
            <a:avLst/>
          </a:prstGeom>
          <a:ln w="0">
            <a:noFill/>
          </a:ln>
        </p:spPr>
      </p:pic>
      <p:sp>
        <p:nvSpPr>
          <p:cNvPr id="304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B2E-A6F0-441A-B25C-0B4C5A429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9"/>
          <p:cNvSpPr/>
          <p:nvPr/>
        </p:nvSpPr>
        <p:spPr>
          <a:xfrm>
            <a:off x="539640" y="26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dati di scuola (2): di una singol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53964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dee e piste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50920" y="803160"/>
          <a:ext cx="8496360" cy="6054840"/>
        </p:xfrm>
        <a:graphic>
          <a:graphicData uri="http://schemas.openxmlformats.org/drawingml/2006/table">
            <a:tbl>
              <a:tblPr/>
              <a:tblGrid>
                <a:gridCol w="1741320"/>
                <a:gridCol w="1125720"/>
                <a:gridCol w="1127160"/>
                <a:gridCol w="1125360"/>
                <a:gridCol w="1125720"/>
                <a:gridCol w="1125360"/>
                <a:gridCol w="1125720"/>
              </a:tblGrid>
              <a:tr h="252360"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ella dei dati - Visualizzazione per DETTAGLIO RISPOSTE - tabella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rowSpan="2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ti e argo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C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P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>
                      <a:noFill/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 gridSpan="7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solidFill>
                      <a:srgbClr val="d2de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-fig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-fig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-dati-pr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-dati-pr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-dati-pr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-dati-pr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-dati-pr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-fun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-fun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d2dee4"/>
                      </a:solidFill>
                    </a:lnL>
                    <a:lnR w="2880">
                      <a:solidFill>
                        <a:srgbClr val="d2dee4"/>
                      </a:solidFill>
                    </a:lnR>
                    <a:lnT w="2880">
                      <a:solidFill>
                        <a:srgbClr val="d2dee4"/>
                      </a:solidFill>
                    </a:lnT>
                    <a:lnB w="2880">
                      <a:solidFill>
                        <a:srgbClr val="d2dee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DB7E-99C4-42AE-BBAD-DC071FCA87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312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6"/>
          <p:cNvSpPr/>
          <p:nvPr/>
        </p:nvSpPr>
        <p:spPr>
          <a:xfrm>
            <a:off x="75564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 Antiqua"/>
              </a:rPr>
              <a:t>Riflessioni sui risultati: </a:t>
            </a:r>
            <a:r>
              <a:rPr b="1" lang="it-IT" sz="2000" spc="-1" strike="noStrike">
                <a:solidFill>
                  <a:srgbClr val="006699"/>
                </a:solidFill>
                <a:latin typeface="Lucida Calligraphy"/>
              </a:rPr>
              <a:t>idee e piste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contenuto 2"/>
          <p:cNvSpPr/>
          <p:nvPr/>
        </p:nvSpPr>
        <p:spPr>
          <a:xfrm>
            <a:off x="914400" y="1484280"/>
            <a:ext cx="768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Analizzare le domande per comprendere bene i processi sottesi (anche aiutandosi con la griglia e la guida alla lettura proposta dall’INVAL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Analizzare la scelta di determinati distrattori, soprattutto quando questa scelta sia stata fatta da numerosi allievi, per capire come abbiano ragion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Riproporre alla classe le prove INVALSI (quelle dell’anno precedente o di due anni prima), non con lo scopo di fare una verifica a cui magari assegnare dei voti, ma con lo scopo di discutere e farsi spiegare il motivo delle varie scelte (attivazione di processi metacognitivi, fondamentali per il miglioramento degli apprendimen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8A4E-DE5D-4FC0-8DEB-D870B2A69E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319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9D8-490E-489D-8CB0-D0E5D4D38F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Rettangolo 9" descr=""/>
          <p:cNvPicPr/>
          <p:nvPr/>
        </p:nvPicPr>
        <p:blipFill>
          <a:blip r:embed="rId1"/>
          <a:stretch/>
        </p:blipFill>
        <p:spPr>
          <a:xfrm>
            <a:off x="1792440" y="2792520"/>
            <a:ext cx="5735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26920" y="26028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La restituzione dei risultati gene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12" name="CasellaDiTesto 11"/>
          <p:cNvSpPr/>
          <p:nvPr/>
        </p:nvSpPr>
        <p:spPr>
          <a:xfrm>
            <a:off x="1285920" y="3357720"/>
            <a:ext cx="72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Report nazional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con analisi dei risultati sia a livello di prova che di singola 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Report regional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con analisi dei risultati sia a livello di prova che di singola 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Approfondimenti specific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(anche sulla base di richieste ed indicazioni del mondo della scu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714240" y="107172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Nelle classi campione l’osservatore esterno è presente alla somministrazione  delle prove a garanzia del rispetto del protocollo di rilevazione. In queste classi, l’osservatore provvede inoltre alla codifica delle risposte e le immette su una maschera elettronica, inviandola tempestivamente all’INVALSI. Sulla base </a:t>
            </a:r>
            <a:r>
              <a:rPr b="1" lang="it-IT" sz="2000" spc="-1" strike="noStrike" u="sng">
                <a:solidFill>
                  <a:srgbClr val="006699"/>
                </a:solidFill>
                <a:uFillTx/>
                <a:latin typeface="Book Antiqua"/>
              </a:rPr>
              <a:t>dei dati delle classi campion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l’INVALSI restituisce i seguenti rappor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egnaposto numero diapositiva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432-0A5C-443F-AF4A-1C7A328616F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 implicazione: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  <a:ea typeface="Arial"/>
              </a:rPr>
              <a:t>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0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17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asellaDiTesto 11"/>
          <p:cNvSpPr/>
          <p:nvPr/>
        </p:nvSpPr>
        <p:spPr>
          <a:xfrm>
            <a:off x="826920" y="1484280"/>
            <a:ext cx="777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I dati appartengono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esclusivamente </a:t>
            </a: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alla singola scuola alla quale verranno restituiti nel modo più disaggregato possibile, cioè secondo la distribuzione delle risposte domanda per doman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Questo modello permetterà a ciascuna scuola di individuare all’interno di ogni disciplina le aree di eccellenza e quelle problematiche che necessitano di una particolare c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La pubblicazione di ulteriori analisi sarà effettuata da parte dell’INVALSI solo ed esclusivamente su dati aggregati in modo tale che sia pienamente garantito l’anonimato degli allievi e delle singole scu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FAAF-B4F0-48B2-9465-CF2B24D7B4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sellaDiTesto 11"/>
          <p:cNvSpPr/>
          <p:nvPr/>
        </p:nvSpPr>
        <p:spPr>
          <a:xfrm>
            <a:off x="755640" y="126828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Affinché le scuole possano utilizzarli a fini diagnostici, l’INVALSI provvederà a restituire i risultati della misurazione degli apprendimenti sia in forma grezza, sia dopo averli opportunamente depurati dai dati di contesto e da tutti quegli elementi estranei all’attività della scuola, che possono influenzare il profitto degli alun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L’INVALSI sta provvedendo a raccogliere gran parte delle informazioni su questi fattori esterni dalle fonti amministrative esistenti, nel tentativo di ridurre il  lavoro a carico delle scu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Solo in assenza di fonti alternative verrà richiesta la collaborazione delle scuole stesse. Tale supporto sarà fondamentale per i dati riguardanti le condizioni socio-economiche e culturali delle famiglie di origine degli studenti e i processi attivati nella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60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I implicazione:</a:t>
            </a:r>
            <a:r>
              <a:rPr b="1" lang="it-IT" sz="2800" spc="-1" strike="noStrike">
                <a:solidFill>
                  <a:srgbClr val="808080"/>
                </a:solidFill>
                <a:latin typeface="Book Antiqua"/>
                <a:ea typeface="Arial"/>
              </a:rPr>
              <a:t>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  <a:ea typeface="Arial"/>
              </a:rPr>
              <a:t>la comparabilità d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25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DAD-8BCF-4D32-943A-5472735AA1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sellaDiTesto 11"/>
          <p:cNvSpPr/>
          <p:nvPr/>
        </p:nvSpPr>
        <p:spPr>
          <a:xfrm>
            <a:off x="900000" y="1413000"/>
            <a:ext cx="7345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L’utilità per la singola scuola di partecipare al progetto si fonda sulla possibilità di avere un confronto con quanto accade negli altri istituti, al netto delle differenze di contesto e di altri fattori esterni all’attività della scuola ste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È perciò fondamentale che ciascun partecipante al progetto ritenga credibili e affidabili i dati complessivi con cui confrontare i prop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Book Antiqua"/>
              </a:rPr>
              <a:t>Come in tutte le indagini internazionali è previsto un controllo di qualità sulle procedure di somministrazione mediante l’invio di osservatori in un campione casuale di scu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III implicazione:</a:t>
            </a:r>
            <a:r>
              <a:rPr b="1" lang="it-IT" sz="2800" spc="-1" strike="noStrike">
                <a:solidFill>
                  <a:srgbClr val="808080"/>
                </a:solidFill>
                <a:latin typeface="Book Antiqua"/>
                <a:ea typeface="Arial"/>
              </a:rPr>
              <a:t> </a:t>
            </a:r>
            <a:r>
              <a:rPr b="1" lang="it-IT" sz="2400" spc="-1" strike="noStrike">
                <a:solidFill>
                  <a:srgbClr val="006699"/>
                </a:solidFill>
                <a:latin typeface="Lucida Calligraphy"/>
                <a:ea typeface="Arial"/>
              </a:rPr>
              <a:t>l’attendibilità d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32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D2B-BE8F-4A09-B6F3-27BD69DAAD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5564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La qualità delle prove (coeren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38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632720" cy="3867120"/>
          </a:xfrm>
          <a:prstGeom prst="rect">
            <a:avLst/>
          </a:prstGeom>
          <a:ln w="0">
            <a:noFill/>
          </a:ln>
        </p:spPr>
      </p:pic>
      <p:sp>
        <p:nvSpPr>
          <p:cNvPr id="14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80A-129D-4FAB-A6B4-BE2207CC6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La qualità delle prove (discrimin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45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826920" y="1628640"/>
          <a:ext cx="7417080" cy="4114800"/>
        </p:xfrm>
        <a:graphic>
          <a:graphicData uri="http://schemas.openxmlformats.org/drawingml/2006/table">
            <a:tbl>
              <a:tblPr/>
              <a:tblGrid>
                <a:gridCol w="2370240"/>
                <a:gridCol w="2160720"/>
                <a:gridCol w="2886120"/>
              </a:tblGrid>
              <a:tr h="62820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9900"/>
                          </a:solidFill>
                          <a:latin typeface="Book Antiqua"/>
                        </a:rPr>
                        <a:t>Live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umero e percentuale di domande con coefficiente di correlazione punto-biseriale inferiore alla sogli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9900"/>
                          </a:solidFill>
                          <a:latin typeface="Book Antiqua"/>
                        </a:rPr>
                        <a:t>Itali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9900"/>
                          </a:solidFill>
                          <a:latin typeface="Book Antiqua"/>
                        </a:rPr>
                        <a:t>Mate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3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 pri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3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 pri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1,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0,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 secondaria di I gra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10,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7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I secondaria di I gra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4,5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(7,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48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5EA-6538-41F6-B3DE-3D6C1B37A1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755640" y="33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Book Antiqua"/>
                <a:ea typeface="Arial"/>
              </a:rPr>
              <a:t>La qualità delle prove (difficol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250920" y="378000"/>
            <a:ext cx="8229600" cy="6095880"/>
            <a:chOff x="250920" y="378000"/>
            <a:chExt cx="8229600" cy="6095880"/>
          </a:xfrm>
        </p:grpSpPr>
        <p:sp>
          <p:nvSpPr>
            <p:cNvPr id="152" name="Rectangle 2"/>
            <p:cNvSpPr/>
            <p:nvPr/>
          </p:nvSpPr>
          <p:spPr>
            <a:xfrm>
              <a:off x="250920" y="907920"/>
              <a:ext cx="8229600" cy="3672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"/>
            <p:cNvSpPr/>
            <p:nvPr/>
          </p:nvSpPr>
          <p:spPr>
            <a:xfrm rot="5400000">
              <a:off x="-2461680" y="3407760"/>
              <a:ext cx="6095880" cy="36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11960" cy="4383360"/>
          </a:xfrm>
          <a:prstGeom prst="rect">
            <a:avLst/>
          </a:prstGeom>
          <a:ln w="0">
            <a:noFill/>
          </a:ln>
        </p:spPr>
      </p:pic>
      <p:sp>
        <p:nvSpPr>
          <p:cNvPr id="155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72AB-9474-4436-B24B-34DA8B3F05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9:15:02Z</dcterms:created>
  <dc:creator>elvira pistoresi</dc:creator>
  <dc:description/>
  <dc:language>en-US</dc:language>
  <cp:lastModifiedBy>ROSS</cp:lastModifiedBy>
  <dcterms:modified xsi:type="dcterms:W3CDTF">2011-03-16T23:08:00Z</dcterms:modified>
  <cp:revision>343</cp:revision>
  <dc:subject/>
  <dc:title>SNV primaria</dc:title>
</cp:coreProperties>
</file>