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C85-3E88-4E84-ABDA-185DE6934C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161C-4CCA-4282-8776-33960225218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69D-4975-4682-A656-72F2A8B900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3EC-864B-4293-92D9-47FEEA0FD4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7D7-7D25-4397-8789-5E31A6E737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591-524A-438C-8A5B-DC42B241C5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A4C7-D907-45EC-A487-CD7EAF3262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Il processo 3 riguarda “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Fare un’inferenza diretta, ricavando un’informazione implicita da una o più informazioni date nel testo e/o tratte dall’enciclopedia personale del lettor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9F8-2402-4D4D-9D26-10257C2DD2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Il processo 5a riguarda “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icostruire il significato di una parte più o meno estesa del testo, integrando più informazioni econcetti, anche formulando inferenze complesse.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387-73A1-4AB3-9C93-71A707ECB3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9C50-E81B-45B8-9A54-E090649A40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F9A-3D9D-424B-8C00-DAADC88C4E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23F-5581-441D-AC0A-43780F474C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55F-418F-48EC-BC97-DFA0D70D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7BC-9B90-4215-9314-F72162A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A43-369F-4648-8235-DF02B430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0ED-3D78-42B1-A738-B3A04BC7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1B758-2A22-424D-AB26-7030BAC2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BEA88-87DF-4D3A-8D12-4BC7789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948A-8108-4FD9-B58B-3E946DF5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39E2A-5E6E-4FD9-833B-688822E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5D158-6CEE-4166-B93E-9D40FC9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9282-69FE-489E-A9B8-5FB7312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924F5-D46D-4CA9-9C70-C4E92019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2D6-FFA6-4B5B-9251-1E15624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68D90-E138-42E8-A296-3945461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D4CB-007F-4BED-B9AE-D89A33B4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58DA-8A61-4DB7-8BD1-746373A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C238-325A-4DFA-A600-7061254F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930A9-451C-4436-9F25-23863EF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0B6-E0ED-4C9E-B271-3D2570B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B9C-2EE5-4DFE-A6EA-673015CF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DF-B3E2-4412-9D55-7654F028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F79-BD35-49D0-B0E6-3CADA0A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CAB-9B68-4769-9BC6-C88A3C0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764-82BA-449C-B3D2-ED95F1E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18B-122D-472C-97EF-3B61F94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4D7-22B4-4622-B9AD-78437A91B26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BA2-9567-4A31-BCF4-93B964E76D5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C56F-4B8C-4694-AF74-2127B3FDE9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valsi.it/snv1011/documenti/Esempi_prova_scuola_secondaria_secondo_grado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valsi.it/snv1011/documenti/Esempi_prova_scuola_secondaria_secondo_grado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1071720" y="27860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99"/>
                </a:solidFill>
                <a:latin typeface="Book Antiqua"/>
              </a:rPr>
              <a:t>Riflessione sui risultat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99"/>
                </a:solidFill>
                <a:latin typeface="Book Antiqua"/>
              </a:rPr>
              <a:t>esempi di ques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3BAA-3F31-4E6C-ACD0-989F6CC01A5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63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06E-1ABA-463F-AA08-877C78135E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sellaDiTesto 7"/>
          <p:cNvSpPr/>
          <p:nvPr/>
        </p:nvSpPr>
        <p:spPr>
          <a:xfrm>
            <a:off x="611280" y="981000"/>
            <a:ext cx="8316720" cy="6677640"/>
          </a:xfrm>
          <a:prstGeom prst="rect">
            <a:avLst/>
          </a:prstGeom>
          <a:solidFill>
            <a:srgbClr val="dad9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Risposta corret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a) 120 biglietti interi e 50 rid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b) Vengono riportate, a titolo esemplificativo, possibili risposte corret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x = numero biglietti a prezzo intero ; y= numero biglietti a prezzo ridotto. x+y=170 e 9x+6y=1380 seguita dallo sviluppo corretto anche con eventuali errori di cal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x = numero biglietti a prezzo intero; 9x +6(170-x)=1380 seguita dallo sviluppo corretto anche con eventuali errori di cal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o altre strategie equival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è possibile utilizzare (informalmente) anche il metodo di </a:t>
            </a:r>
            <a:r>
              <a:rPr b="0" i="1" lang="it-IT" sz="2400" spc="-1" strike="noStrike">
                <a:solidFill>
                  <a:srgbClr val="002060"/>
                </a:solidFill>
                <a:latin typeface="Book Antiqua"/>
              </a:rPr>
              <a:t>falsa posizione: se i biglietti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fossero stati tutti interi, l'incasso sarebbe stato di 170x9=1530 euro, quindi di 150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superiore. Di conseguenza, i biglietti ridotti sono 150:3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70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4E6-3A44-4E4D-BE3F-FA2CEF9D75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Rettangolo 9" descr=""/>
          <p:cNvPicPr/>
          <p:nvPr/>
        </p:nvPicPr>
        <p:blipFill>
          <a:blip r:embed="rId1"/>
          <a:stretch/>
        </p:blipFill>
        <p:spPr>
          <a:xfrm>
            <a:off x="1792440" y="2792520"/>
            <a:ext cx="5735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98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3F1B-8873-4F0B-9CB7-36E5A12DBC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7"/>
          <p:cNvSpPr/>
          <p:nvPr/>
        </p:nvSpPr>
        <p:spPr>
          <a:xfrm>
            <a:off x="826920" y="206064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Dagli esempi per la scuola secondaria di II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http://www.invalsi.it/snv1011/documenti/Esempi_prova_scuola_secondaria_secondo_grado.pdf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8"/>
          <p:cNvSpPr/>
          <p:nvPr/>
        </p:nvSpPr>
        <p:spPr>
          <a:xfrm>
            <a:off x="971640" y="3357720"/>
            <a:ext cx="748800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Testo nar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Testo es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Testo m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Parte di gram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9"/>
          <p:cNvSpPr/>
          <p:nvPr/>
        </p:nvSpPr>
        <p:spPr>
          <a:xfrm>
            <a:off x="1979640" y="1268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Book Antiqua"/>
              </a:rPr>
              <a:t>ITAL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07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D0F-9F11-4153-8BB8-F69F33F3B8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9"/>
          <p:cNvSpPr/>
          <p:nvPr/>
        </p:nvSpPr>
        <p:spPr>
          <a:xfrm>
            <a:off x="539640" y="1268280"/>
            <a:ext cx="83534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empio di testo misto PERICOLO IMBALL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Una montagna d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miglioramento delle condizioni igieniche, le case più piccole, l’insistenza sui prodotti di marca della pubblicità, l’irresistibile ascesa dei cibi preconfezionati: tutte queste tendenze hanno provocato un enorme aumento del volume di imballaggi da smaltire. Ma la prima causa è il commercio internaz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gi anche oggetti banali come le bottiglie d’acqua vengono spediti in ogni parte del globo. Per bere pochi sorsi si produce una notevole quantità di rifiuti: non solo le bottiglie, ma anche il cartone, la pellicola che le avvolge, le casse per la spedizione. A dettare la linea per lo smaltimento degli imballaggi è stata finora l’Europa: già dal 1994 una direttiva UE impone a produttori, distributori e rivenditori di condividere i costi del riciclaggio. “Questo principio della responsabilità allargata del produttore” afferma Bill Sheehan, direttore del Product Policy Institute, un centro di ricerca non-profit, “è l’unico modo per non stimolare una produzione di rifiuti sempre maggio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Tratto e adattato da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National Geographic Italia, Gennaio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14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0124-659A-44F2-A65A-F5AB173C2C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9"/>
          <p:cNvSpPr/>
          <p:nvPr/>
        </p:nvSpPr>
        <p:spPr>
          <a:xfrm>
            <a:off x="539640" y="1268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empio di testo misto PERICOLO IMBALLA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Una montagna d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910640" cy="44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22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61D-D1D6-4E25-A60E-6D3A1C9A11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9"/>
          <p:cNvSpPr/>
          <p:nvPr/>
        </p:nvSpPr>
        <p:spPr>
          <a:xfrm>
            <a:off x="539640" y="98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Alcune do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sellaDiTesto 8"/>
          <p:cNvSpPr/>
          <p:nvPr/>
        </p:nvSpPr>
        <p:spPr>
          <a:xfrm>
            <a:off x="900000" y="1557360"/>
            <a:ext cx="7848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C2. Nel testo si dice che “</a:t>
            </a:r>
            <a:r>
              <a:rPr b="1" i="1" lang="it-IT" sz="1800" spc="-1" strike="noStrike">
                <a:solidFill>
                  <a:srgbClr val="002060"/>
                </a:solidFill>
                <a:latin typeface="Calibri"/>
              </a:rPr>
              <a:t>per bere pochi sorsi d’acqua si produce una grande quantità di rifiuti” per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A. ormai si beve solo acqua in bott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B. le condizioni igieniche sono migliorate e si consuma più acq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C. è necessario far uso di molti imballaggi per trasportare l’acq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D. molti bevono pochi sorsi da una bottiglia e poi buttano il 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10"/>
          <p:cNvSpPr/>
          <p:nvPr/>
        </p:nvSpPr>
        <p:spPr>
          <a:xfrm>
            <a:off x="826920" y="5373720"/>
            <a:ext cx="5545440" cy="642600"/>
          </a:xfrm>
          <a:prstGeom prst="rect">
            <a:avLst/>
          </a:prstGeom>
          <a:solidFill>
            <a:srgbClr val="dad9f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Risposta corretta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Aspetto della competenza di lettura rilevato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31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ABDC-0CFB-4493-8B4A-55161215F8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9"/>
          <p:cNvSpPr/>
          <p:nvPr/>
        </p:nvSpPr>
        <p:spPr>
          <a:xfrm>
            <a:off x="539640" y="98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Alcune do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10"/>
          <p:cNvSpPr/>
          <p:nvPr/>
        </p:nvSpPr>
        <p:spPr>
          <a:xfrm>
            <a:off x="826920" y="5373720"/>
            <a:ext cx="5545440" cy="642600"/>
          </a:xfrm>
          <a:prstGeom prst="rect">
            <a:avLst/>
          </a:prstGeom>
          <a:solidFill>
            <a:srgbClr val="dad9f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Risposta corretta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"/>
              </a:rPr>
              <a:t>Aspetto della competenza di lettura rilevato: 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11"/>
          <p:cNvSpPr/>
          <p:nvPr/>
        </p:nvSpPr>
        <p:spPr>
          <a:xfrm>
            <a:off x="1187280" y="177336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C7. Il gruppo di paesi che figurano nel quadrante in basso a sinistra sono quelli che ricic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A. meno v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B. più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C. meno vetro e meno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□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D. meno vetro e più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40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25F3-A4B8-4FAD-BBAC-4D21135186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7"/>
          <p:cNvSpPr/>
          <p:nvPr/>
        </p:nvSpPr>
        <p:spPr>
          <a:xfrm>
            <a:off x="826920" y="206064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Dagli esempi per la scuola secondaria di II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http://www.invalsi.it/snv1011/documenti/Esempi_prova_scuola_secondaria_secondo_grado.pdf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8"/>
          <p:cNvSpPr/>
          <p:nvPr/>
        </p:nvSpPr>
        <p:spPr>
          <a:xfrm>
            <a:off x="971640" y="3573360"/>
            <a:ext cx="748800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Spazio e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Relazioni e 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Book Antiqua"/>
              </a:rPr>
              <a:t>Dati e previ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9"/>
          <p:cNvSpPr/>
          <p:nvPr/>
        </p:nvSpPr>
        <p:spPr>
          <a:xfrm>
            <a:off x="1979640" y="1268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Book Antiqua"/>
              </a:rPr>
              <a:t>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49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37F1-4B4D-4ABC-BCE4-E9BDB4EFF3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sellaDiTesto 10"/>
          <p:cNvSpPr/>
          <p:nvPr/>
        </p:nvSpPr>
        <p:spPr>
          <a:xfrm>
            <a:off x="971640" y="1197000"/>
            <a:ext cx="7561080" cy="4009680"/>
          </a:xfrm>
          <a:prstGeom prst="rect">
            <a:avLst/>
          </a:prstGeom>
          <a:solidFill>
            <a:srgbClr val="dad9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Book Antiqua"/>
              </a:rPr>
              <a:t>In un cinema il biglietto intero costa 9 euro e il ridotto 6 euro. Sono entrati 170 spettatori e l'incasso totale è stato di 1380 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Book Antiqua"/>
              </a:rPr>
              <a:t>a) Quanti biglietti interi e quanti ridotti sono stati vendu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Book Antiqua"/>
              </a:rPr>
              <a:t>b) Scrivi i calcoli che hai fatto per trovare la ri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56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f7f7f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lcuni esempi di qu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615-184C-4030-B2FA-A935502EB2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sellaDiTesto 7"/>
          <p:cNvSpPr/>
          <p:nvPr/>
        </p:nvSpPr>
        <p:spPr>
          <a:xfrm>
            <a:off x="826920" y="1052640"/>
            <a:ext cx="7921800" cy="5122440"/>
          </a:xfrm>
          <a:prstGeom prst="rect">
            <a:avLst/>
          </a:prstGeom>
          <a:solidFill>
            <a:srgbClr val="dad9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Tipologia: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Aperta a risposta univoca (item a); richiesta del procedimento di calcolo (item 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Ambito prevalente: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Relazioni e fun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Processo prevalente: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Saper risolvere problemi utilizzando gli strumenti della matema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Nuovo Obbligo di 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Competenza –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Individuare le strategie appropriate per la soluzione di probl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Book Antiqua"/>
              </a:rPr>
              <a:t>Abilità – </a:t>
            </a:r>
            <a:r>
              <a:rPr b="0" lang="it-IT" sz="2400" spc="-1" strike="noStrike">
                <a:solidFill>
                  <a:srgbClr val="002060"/>
                </a:solidFill>
                <a:latin typeface="Book Antiqua"/>
              </a:rPr>
              <a:t>Tradurre dal linguaggio naturale al linguaggio algebrico e viceversa. Formalizzare il percorso di soluzione di un problema attraverso modelli algebrici e graf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21:14Z</dcterms:created>
  <dc:creator>Utente Windows</dc:creator>
  <dc:description/>
  <dc:language>en-US</dc:language>
  <cp:lastModifiedBy>Utente Windows</cp:lastModifiedBy>
  <dcterms:modified xsi:type="dcterms:W3CDTF">2011-03-13T21:30:37Z</dcterms:modified>
  <cp:revision>15</cp:revision>
  <dc:subject/>
  <dc:title>Diapositiva 1</dc:title>
</cp:coreProperties>
</file>